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3.wmf" ContentType="image/x-wmf"/>
  <Override PartName="/ppt/media/image28.jpeg" ContentType="image/jpeg"/>
  <Override PartName="/ppt/media/image18.png" ContentType="image/png"/>
  <Override PartName="/ppt/media/image21.wmf" ContentType="image/x-wmf"/>
  <Override PartName="/ppt/media/image19.png" ContentType="image/png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A7A-37AF-4CAE-9378-C9D03EE6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1DC-50C6-4938-9E2D-AABA78D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2FB-41ED-4254-94FF-B49F605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5FD-265E-409D-B03F-4E0E0A7C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EE3-1E68-4411-B9A7-32120E91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8FB-1131-467E-B7C6-089EFE0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A49-FB6A-47A0-8884-9410267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994-17DF-4D98-8CD4-C6D4D5B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B29-E3C4-427B-A1EF-B430BDE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85E-6C74-497C-B8D2-92172A03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9C2-3E17-4363-ADAD-EF5C63DB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396-7C30-43CF-8A2B-CC0703F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209600" cy="880920"/>
          </a:xfrm>
          <a:prstGeom prst="rect">
            <a:avLst/>
          </a:prstGeom>
          <a:ln w="0">
            <a:noFill/>
          </a:ln>
        </p:spPr>
      </p:pic>
      <p:pic>
        <p:nvPicPr>
          <p:cNvPr id="1" name="sms color" descr=""/>
          <p:cNvPicPr/>
          <p:nvPr/>
        </p:nvPicPr>
        <p:blipFill>
          <a:blip r:embed="rId3"/>
          <a:stretch/>
        </p:blipFill>
        <p:spPr>
          <a:xfrm>
            <a:off x="250920" y="5589720"/>
            <a:ext cx="15127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0C97-305A-4B1A-B40F-9FB79AE3F2DC}" type="datetime">
              <a:rPr b="0" lang="es-ES" sz="1400" spc="-1" strike="noStrike">
                <a:solidFill>
                  <a:srgbClr val="009999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B9D-2A46-44EB-A31C-01852CF04B28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unab.cl/sitio-html/postgrados/img/d_enfermeria_img.jpg&amp;imgrefurl=http://www.unab.cl/sitio-html/postgrados/doctorado/enfermeria.htm&amp;h=220&amp;w=180&amp;sz=6&amp;hl=es&amp;start=17&amp;tbnid=EWsnOGcGX74N6M:&amp;tbnh=107&amp;tbnw=88&amp;prev=/images%3Fq%3Denfermeria%26gbv%3D2%26svnum%3D100%26hl%3Des%26newwindow%3D1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ng"/><Relationship Id="rId8" Type="http://schemas.openxmlformats.org/officeDocument/2006/relationships/hyperlink" Target="http://images.google.es/imgres?imgurl=http://www.chospab.es/galeria_imagenes/images/hospitaldiagran.jpg&amp;imgrefurl=http://www.chospab.es/galeria_imagenes/foto_hospitaldiaalt.htm&amp;h=700&amp;w=550&amp;sz=50&amp;hl=es&amp;start=1&amp;tbnid=yCFyFwdgINyeiM:&amp;tbnh=140&amp;tbnw=110&amp;prev=/images%3Fq%3Dcitostaticos%26gbv%3D2%26svnum%3D100%26hl%3Des%26newwindow%3D1%26sa%3D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adserver.elconfidencial.com/microsite/grifols/imatges/div2.jpg&amp;imgrefurl=http://adserver.elconfidencial.com/microsite/grifols/divisiones.html&amp;h=150&amp;w=210&amp;sz=9&amp;hl=es&amp;start=35&amp;tbnid=2zw2tnYJqiEygM:&amp;tbnh=76&amp;tbnw=106&amp;prev=/images%3Fq%3Dfarmacia%2Bhospitalaria%26start%3D18%26gbv%3D2%26ndsp%3D18%26svnum%3D100%26hl%3Des%26newwindow%3D1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eriosoft.com/arandanilla/wp-content/images/margarita.jpg&amp;imgrefurl=http://eriosoft.com/arandanilla/archives/date/2005/09/&amp;h=600&amp;w=800&amp;sz=21&amp;hl=es&amp;start=57&amp;tbnid=3o4KQ0C_9SdiVM:&amp;tbnh=107&amp;tbnw=143&amp;prev=/images%3Fq%3Dhospitales%26start%3D54%26gbv%3D2%26ndsp%3D18%26svnum%3D100%26hl%3Des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isa.es/equipos_proteccion-OTHI0304.html" TargetMode="External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ldeaeducativa.com/images/adolescente-estudiando.jpg&amp;imgrefurl=http://www.aldeaeducativa.com/aldea/Tareas2.asp%3Fwhich%3D2091&amp;h=300&amp;w=268&amp;sz=14&amp;hl=es&amp;start=84&amp;tbnid=WTUqM2DARV5VmM:&amp;tbnh=116&amp;tbnw=104&amp;prev=/images%3Fq%3Dpersonas%2Bestudiando%26start%3D72%26gbv%3D2%26ndsp%3D18%26svnum%3D100%26hl%3Des%26newwindow%3D1%26sa%3D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lmendron.com/blog/wp-content/images/aguja.jpg&amp;imgrefurl=http://www.almendron.com/blog/%3Fp%3D2099&amp;h=286&amp;w=266&amp;sz=12&amp;hl=es&amp;start=103&amp;tbnid=hfW09bs6g7kKgM:&amp;tbnh=115&amp;tbnw=107&amp;prev=/images%3Fq%3Dhospitales%26start%3D90%26gbv%3D2%26ndsp%3D18%26svnum%3D100%26hl%3Des%26newwindow%3D1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13000"/>
            <a:ext cx="67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REVENCIÓN RIESGOS LABORALES Y MEDIDAS PREVENTIVAS EN LA MANIPULACIÓN DE FÁRMACOS CITOSTÁTICOS.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00720" y="692280"/>
            <a:ext cx="2627280" cy="232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23840" y="331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6" name="" descr="I Congreso de Prevención de Riesgos Laborales de la Región de Murcia"/>
          <p:cNvPicPr/>
          <p:nvPr/>
        </p:nvPicPr>
        <p:blipFill>
          <a:blip r:embed="rId2"/>
          <a:stretch/>
        </p:blipFill>
        <p:spPr>
          <a:xfrm>
            <a:off x="3708360" y="5273640"/>
            <a:ext cx="1555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MATERIAL Y MÉTODO</a:t>
            </a:r>
            <a:endParaRPr b="1" lang="en-US" sz="32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65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3400" spc="-1" strike="noStrike">
                <a:solidFill>
                  <a:srgbClr val="00ff00"/>
                </a:solidFill>
                <a:latin typeface="Arial"/>
              </a:rPr>
              <a:t>Actuaciones:</a:t>
            </a:r>
            <a:r>
              <a:rPr b="1" lang="es-ES" sz="5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50"/>
              </a:spcBef>
              <a:buClr>
                <a:srgbClr val="000099"/>
              </a:buClr>
              <a:buSzPct val="6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3400" spc="-1" strike="noStrike">
                <a:solidFill>
                  <a:srgbClr val="ff0000"/>
                </a:solidFill>
                <a:latin typeface="Arial"/>
              </a:rPr>
              <a:t>Estudio y análisis de la documentación, </a:t>
            </a:r>
            <a:r>
              <a:rPr b="0" lang="es-ES" sz="3400" spc="-1" strike="noStrike" u="sng">
                <a:solidFill>
                  <a:srgbClr val="006666"/>
                </a:solidFill>
                <a:uFillTx/>
                <a:latin typeface="Arial"/>
              </a:rPr>
              <a:t>adaptando</a:t>
            </a:r>
            <a:r>
              <a:rPr b="0" lang="es-E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" sz="3400" spc="-1" strike="noStrike">
                <a:solidFill>
                  <a:srgbClr val="ff0000"/>
                </a:solidFill>
                <a:latin typeface="Arial"/>
              </a:rPr>
              <a:t>las recomendaciones a las características de los Centros del Servicio Murciano de Salud.</a:t>
            </a:r>
            <a:endParaRPr b="0" lang="en-US" sz="3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br>
              <a:rPr sz="4800"/>
            </a:br>
            <a:endParaRPr b="1" lang="en-US" sz="36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49360"/>
            <a:ext cx="83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s-ES" sz="3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s-ES" sz="3400" spc="-1" strike="noStrike">
                <a:solidFill>
                  <a:srgbClr val="00ff00"/>
                </a:solidFill>
                <a:latin typeface="Comic Sans MS"/>
              </a:rPr>
              <a:t>Normalización:</a:t>
            </a:r>
            <a:r>
              <a:rPr b="0" lang="es-ES" sz="3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9999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Conforme a</a:t>
            </a:r>
            <a:r>
              <a:rPr b="0" lang="es-ES_tradnl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Comic Sans MS"/>
              </a:rPr>
              <a:t>Normas</a:t>
            </a: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aceptadas nacional e internacionalmente de </a:t>
            </a: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</a:rPr>
              <a:t>obligado conocimiento y cumplimiento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para todo el personal relacionado con estos fármac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En las fases: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104120" indent="-157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eparación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104120" indent="-157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Administración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104120" indent="-157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Almacenamiento,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Transporte, y   </a:t>
            </a: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9900"/>
                </a:solidFill>
                <a:latin typeface="Arial"/>
              </a:rPr>
              <a:t>Distribución hospitalari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104120" indent="-157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liminación de excretas y residuos.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MATERIAL Y MÉTODO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3399"/>
                </a:solidFill>
                <a:latin typeface="Arial"/>
              </a:rPr>
              <a:t>RESULTADO</a:t>
            </a:r>
            <a:br>
              <a:rPr sz="4000"/>
            </a:br>
            <a:endParaRPr b="1" lang="en-US" sz="40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Obtención de un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MANUAL DE PROCEDIMIENTO </a:t>
            </a: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para la </a:t>
            </a:r>
            <a:r>
              <a:rPr b="0" lang="es-ES" sz="32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valuación de los Riesgos Laborales en la manipulación de fármacos citostáticos y sus medidas preventiva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4640400"/>
            <a:ext cx="2520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600200"/>
            <a:ext cx="8610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Evaluación de riesgos laborales. (*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Formación e información. (*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Registro de personal expuesto a citostáticos. (*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Vigilancia de la Salud. (*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Detección de situaciones de especial sensibilidad. (*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Protocolos de actuación desde el punto de vista de la Protección de la Seguridad y Salud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Rotación de personal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Medidas de protección medio-ambientale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  <a:ea typeface="Arial"/>
              </a:rPr>
              <a:t>Medios de protección del trabajador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936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33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0"/>
            <a:ext cx="8686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MANUAL PARA LA PREVENCIÓN RIESGOS LABORALES Y MEDIDAS PREVENTIVAS EN LA MANIPULACIÓN DE FÁRMACOS CITOSTÁTICOS.</a:t>
            </a: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CONTENIDO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20640"/>
            <a:ext cx="820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VRL DE LOS PUESTOS DE TRABAJO DONDE SE MANIPULEN CITOSTATICO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  <a:ea typeface="Arial"/>
              </a:rPr>
              <a:t>De la </a:t>
            </a:r>
            <a:r>
              <a:rPr b="0" lang="es-ES_tradnl" sz="2400" spc="-1" strike="noStrike">
                <a:solidFill>
                  <a:srgbClr val="800080"/>
                </a:solidFill>
                <a:latin typeface="Arial"/>
                <a:ea typeface="Arial"/>
              </a:rPr>
              <a:t>EVALUACIÓN DE RIESGOS LABORALES</a:t>
            </a:r>
            <a:r>
              <a:rPr b="0" lang="es-ES_tradnl" sz="2400" spc="-1" strike="noStrike">
                <a:solidFill>
                  <a:srgbClr val="800080"/>
                </a:solidFill>
                <a:latin typeface="Arial"/>
                <a:ea typeface="Arial"/>
              </a:rPr>
              <a:t>, se obtendrá la información necesaria para hacer las recomendaciones, adoptar las medidas, y establecer un adecuado nivel de protección frente a la manipulación de citostático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  <a:ea typeface="Arial"/>
              </a:rPr>
              <a:t>PLANIFICACIÓN DE LAS ACTIVIDADES PREVENTIVA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4559400"/>
            <a:ext cx="30243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115920"/>
          <a:ext cx="8785440" cy="66657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3117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ASES DE LA MANIPULACIÓN DE CITOSTÁTIC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RSONAL QUE INTERVIENE</a:t>
                      </a:r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UNIDADES / SERVICIOS </a:t>
                      </a:r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1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eparación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fermería y Auxiliares de Enfermería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armacia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fermería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ospital de Día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ncología,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necología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ervicios de Hospitalización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sultas (Urología, …), Radiología,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uirófanos,…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macenamiento, Transporte y distribución intrahospitalaria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eladores,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uxiliar Enfermería planta o consultas.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armacia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liminación</a:t>
                      </a:r>
                      <a:r>
                        <a:rPr b="1" lang="es-ES_tradnl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 excretas y residuos intrahospitalari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fermería,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uxiliares de Enfermería  Limpiadoras (personal externo)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ospital de Día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ncología,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necología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ervicios de Hospitalización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sultas (Urología, …), Radiología, 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uirófanos,…</a:t>
                      </a:r>
                      <a:endParaRPr b="0" lang="en-US" sz="16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52640"/>
            <a:ext cx="565164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iesgo potencial</a:t>
            </a: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 para la salud del personal en contacto con citostáticos puede ser controlado por medida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igiene Industrial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ementos de protección colectiva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acticas de trabajo adecuada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PI´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Formación e información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823000" y="1484280"/>
            <a:ext cx="318132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32000" y="26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MEDIDAS PREVENTIV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333360"/>
            <a:ext cx="856908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LEMENTOS DE PROTECCIÓN COLECTIVA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BINAS DE SEGURIDAD BIOLOGICA DE FLUJO LAMINAR TIPO II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90240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700280"/>
            <a:ext cx="44654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ámara que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demás de proteger al trabajador y al medio, protege al producto frente a contaminaciones externas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superficie de trabajo esta barrida por aire filtrado, y la salida se produce a través de otro filtro HEPA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RACTICAS DE TRABAJO ADECUADAS</a:t>
            </a:r>
            <a:r>
              <a:rPr b="1" lang="es-ES_tradnl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2000"/>
            </a:br>
            <a:br>
              <a:rPr sz="2800"/>
            </a:b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81080" y="1125360"/>
            <a:ext cx="6697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Requiere 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personal especialmente formado y entrenado</a:t>
            </a: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 debido a que los riesgos pueden afectar al trabajador, al paciente, y al medio ambient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iesgos de exposi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rrame, ruptura de sistema IV, goteo de un sistema,…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Fluidos corporales del paciente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con altos niveles de agente citostático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19800" y="1341360"/>
            <a:ext cx="2657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s-ES_tradnl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RACTICAS DE TRABAJO ADECUADAS</a:t>
            </a: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FASE DE ADMINISTRACIÓN</a:t>
            </a: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1400"/>
            </a:br>
            <a:br>
              <a:rPr sz="2800"/>
            </a:b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604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9"/>
              </a:spcBef>
              <a:buClr>
                <a:srgbClr val="ff00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7" name="Posiflow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486160" cy="24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6156360" y="3860640"/>
          <a:ext cx="265284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3860640"/>
                    <a:ext cx="26528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final saline" descr=""/>
          <p:cNvPicPr/>
          <p:nvPr/>
        </p:nvPicPr>
        <p:blipFill>
          <a:blip r:embed="rId4"/>
          <a:stretch/>
        </p:blipFill>
        <p:spPr>
          <a:xfrm>
            <a:off x="179280" y="901800"/>
            <a:ext cx="2413080" cy="1842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28480" y="2852640"/>
            <a:ext cx="2138400" cy="28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2987640" y="5718240"/>
          <a:ext cx="4343400" cy="113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5718240"/>
                    <a:ext cx="434340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03640" y="1989000"/>
            <a:ext cx="2771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0"/>
            <a:ext cx="860436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¿Qué son los fármacos citostáticos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Grupo de medicamentos cuy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mecanismo de acción consist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en </a:t>
            </a: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interrumpir el ciclo d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crecimiento celular</a:t>
            </a:r>
            <a:r>
              <a:rPr b="0" lang="es-ES_tradnl" sz="2800" spc="-1" strike="noStrike">
                <a:solidFill>
                  <a:srgbClr val="3366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Comic Sans MS"/>
              </a:rPr>
              <a:t>Su uso mas habitual es en el </a:t>
            </a:r>
            <a:r>
              <a:rPr b="1" lang="es-ES" sz="2800" spc="-1" strike="noStrike">
                <a:solidFill>
                  <a:srgbClr val="ff3300"/>
                </a:solidFill>
                <a:latin typeface="Comic Sans MS"/>
              </a:rPr>
              <a:t>tratamiento de enfermedades neoplásicas</a:t>
            </a:r>
            <a:r>
              <a:rPr b="0" lang="es-ES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Son fármacos muy activos, de </a:t>
            </a: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elevada toxicidad potencial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5084640"/>
            <a:ext cx="223200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022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RACTICAS DE TRABAJO ADECUADAS</a:t>
            </a: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3600"/>
            </a:b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ISTEMAS DE PERFUSIÓN</a:t>
            </a:r>
            <a:r>
              <a:rPr b="1" lang="es-ES" sz="36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33cc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12240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4895640" cy="2497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51280" y="1268280"/>
            <a:ext cx="5035680" cy="1684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4480" y="1773360"/>
            <a:ext cx="2036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80880"/>
            <a:ext cx="820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12720" y="907920"/>
            <a:ext cx="9756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¿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Que se puede considerar residuo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sto de medicamento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citostático  no apto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ra su uso terapéutico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aterial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sanitario que haya estado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n contacto con el medicament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(agujas, jeringas, guantes, bolsas,…)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Excretas de los pacientes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que hayan recibido tratamiento con estos fármaco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vitar manipulaciones innecesarias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de los residuo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093080" y="907920"/>
            <a:ext cx="1761840" cy="1557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RACTICAS DE TRABAJO ADECUADAS</a:t>
            </a:r>
            <a:r>
              <a:rPr b="1" lang="es-ES_tradnl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4508640"/>
            <a:ext cx="5975280" cy="129672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Comic Sans MS"/>
              </a:rPr>
              <a:t>Debe existir u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 “</a:t>
            </a:r>
            <a:r>
              <a:rPr b="1" lang="es-ES_tradnl" sz="2400" spc="-1" strike="noStrike">
                <a:solidFill>
                  <a:srgbClr val="ffff66"/>
                </a:solidFill>
                <a:latin typeface="Comic Sans MS"/>
              </a:rPr>
              <a:t>Protocolo de tratamiento de excretas</a:t>
            </a: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”</a:t>
            </a:r>
            <a:r>
              <a:rPr b="1" lang="es-ES_tradnl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80880"/>
            <a:ext cx="827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1600"/>
            </a:br>
            <a:br>
              <a:rPr sz="2800"/>
            </a:b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684360" y="907920"/>
            <a:ext cx="65534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Características de los contenedores</a:t>
            </a: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material que permita la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neración completa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Identificad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y etiquetad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con el pictograma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tóxico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amaño acorde con volumen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de residuo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0000"/>
              </a:buClr>
              <a:buSzPct val="6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Rígidos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, de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un solo uso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resistentes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a agentes químicos y materiales perforantes y con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cierre hermético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987640" cy="388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574560" cy="502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RACTICAS DE TRABAJO ADECUADAS</a:t>
            </a: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125360"/>
            <a:ext cx="5580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LIMINACIÓN RESIDUOS EXTRAHOSPITALARIOS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a eliminación extrahospitalaria requiere un proceso especifico en incineradoras especiales que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alcancen 1000ºC, dotadas de filtro de alta seguridad (HEPA)</a:t>
            </a:r>
            <a:r>
              <a:rPr b="0" lang="es-ES_tradnl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para impedir la contaminación ambiental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2133720"/>
            <a:ext cx="3419280" cy="2950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RACTICAS DE TRABAJO ADECUADAS</a:t>
            </a:r>
            <a:r>
              <a:rPr b="1" lang="es-ES_tradnl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76280"/>
            <a:ext cx="5364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EQUIPOS DE PROTECCIÓN INDIVIDU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00"/>
                </a:solidFill>
                <a:latin typeface="Arial"/>
              </a:rPr>
              <a:t>El personal manipulador debe protegerse mediante: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Guantes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(sin TALCO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at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ascarilla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Gaf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Gorr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alz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74720" cy="367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20142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45864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3M"/>
          <p:cNvPicPr/>
          <p:nvPr/>
        </p:nvPicPr>
        <p:blipFill>
          <a:blip r:embed="rId5"/>
          <a:stretch/>
        </p:blipFill>
        <p:spPr>
          <a:xfrm>
            <a:off x="5435640" y="45799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-243000"/>
            <a:ext cx="856908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Comic Sans MS"/>
              </a:rPr>
              <a:t>            </a:t>
            </a:r>
            <a:r>
              <a:rPr b="0" lang="es-ES_tradnl" sz="3000" spc="-1" strike="noStrike">
                <a:solidFill>
                  <a:srgbClr val="ffffcc"/>
                </a:solidFill>
                <a:latin typeface="Arial"/>
              </a:rPr>
              <a:t>FORMACIÓN E INFORMACIÓN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spectos clave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33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ff"/>
                </a:solidFill>
                <a:latin typeface="Arial"/>
              </a:rPr>
              <a:t>Conocimiento de los riesgo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33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ff"/>
                </a:solidFill>
                <a:latin typeface="Arial"/>
              </a:rPr>
              <a:t>Motivación para minimizarlos,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33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ff"/>
                </a:solidFill>
                <a:latin typeface="Arial"/>
              </a:rPr>
              <a:t>Aplicación de los procedimientos y las técnica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ff"/>
                </a:solidFill>
                <a:latin typeface="Arial"/>
              </a:rPr>
              <a:t>de trabajo adecuada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Plan de actualización de conocimientos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l riesgo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o SOLO depende d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úmero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de preparaciones o administraciones,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ino de las precauciones y técnica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de trabajo que se tomen durante su manipulación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</a:rPr>
              <a:t>todo el personal implicado</a:t>
            </a: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</a:rPr>
              <a:t>cualquiera que sean   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</a:rPr>
              <a:t>sus funciones</a:t>
            </a: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, y 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</a:rPr>
              <a:t>adaptado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al desarrollo y la  </a:t>
            </a: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6666"/>
                </a:solidFill>
                <a:latin typeface="Arial"/>
              </a:rPr>
              <a:t>naturaleza de las misma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20640"/>
            <a:ext cx="2063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104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VIGILANCIA DE LA SALU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  <a:ea typeface="Arial"/>
              </a:rPr>
              <a:t>Reconocimientos médicos específicos</a:t>
            </a:r>
            <a:r>
              <a:rPr b="0" lang="es-ES_tradnl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0" lang="es-ES_tradnl" sz="2800" spc="-1" strike="noStrike">
                <a:solidFill>
                  <a:srgbClr val="006600"/>
                </a:solidFill>
                <a:latin typeface="Arial"/>
                <a:ea typeface="Arial"/>
              </a:rPr>
              <a:t>para todo el personal expuesto a los riesgo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0" lang="es-ES_tradnl" sz="2800" spc="-1" strike="noStrike">
                <a:solidFill>
                  <a:srgbClr val="006600"/>
                </a:solidFill>
                <a:latin typeface="Arial"/>
                <a:ea typeface="Arial"/>
              </a:rPr>
              <a:t>del proceso,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  <a:ea typeface="Arial"/>
              </a:rPr>
              <a:t>previos, periódicos, y tras una exposición accidental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Registro de personal expuesto,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para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el seguimiento y vigilancia de la salud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Los trabajadores deben saber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    </a:t>
            </a:r>
            <a:r>
              <a:rPr b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valorar la existencia de síntoma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    </a:t>
            </a:r>
            <a:r>
              <a:rPr b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relacionado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 con la exposición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  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de citostáticos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6360" y="2349360"/>
            <a:ext cx="1924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0"/>
            <a:ext cx="82087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DETECCION DE SITUACIONES DE ESPECIAL</a:t>
            </a:r>
            <a:r>
              <a:rPr b="1" lang="es-ES_tradnl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SENSIBILIDAD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89000"/>
            <a:ext cx="861048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836640"/>
            <a:ext cx="9144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eben quedar excluidos de forma permanente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ersonal considerado de alto riesg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: antecedentes de abortos espontáneos, malformaciones congénitas y con voluntad de reproducción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l personal que trabaje en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“zonas controladas”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de radiaciones ionizantes, con unos niveles superiores a 15 mS/año, debido al efecto sinérgico de ambos agente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Personal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tratado con citostáticos o radiaciones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, o en el que se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sospeche daño genético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bajadores con 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historia alérgica o asma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16000" y="260280"/>
            <a:ext cx="72723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9000"/>
            <a:ext cx="861048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664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eben quedar excluidos de forma temporal:</a:t>
            </a: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ujeres embarazadas, en período de lactancia o puerperio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Trabajador (Hombre o Mujer) qu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lanee un embaraz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Personal que ha sufrido </a:t>
            </a:r>
            <a:r>
              <a:rPr b="1" lang="es-ES_tradnl" sz="2400" spc="-1" strike="noStrike">
                <a:solidFill>
                  <a:srgbClr val="006666"/>
                </a:solidFill>
                <a:latin typeface="Arial"/>
              </a:rPr>
              <a:t>un accidente con un citostático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Trabajadores con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tología transitoria susceptible de empeorar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con el contacto de citostático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0"/>
            <a:ext cx="82087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DETECCION DE SITUACIONES DE ESPECIAL</a:t>
            </a:r>
            <a:r>
              <a:rPr b="1" lang="es-ES_tradnl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SENSIBILIDAD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4508640"/>
            <a:ext cx="5905440" cy="213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Podría considerarse una </a:t>
            </a:r>
            <a:r>
              <a:rPr b="1" i="1" lang="es-ES_tradnl" sz="2600" spc="-1" strike="noStrike">
                <a:solidFill>
                  <a:srgbClr val="000099"/>
                </a:solidFill>
                <a:latin typeface="Arial"/>
              </a:rPr>
              <a:t>causa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99"/>
                </a:solidFill>
                <a:latin typeface="Arial"/>
              </a:rPr>
              <a:t>de adaptación de puesto de trabajo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99"/>
                </a:solidFill>
                <a:latin typeface="Arial"/>
              </a:rPr>
              <a:t>por motivos de salud.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148392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1.-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Establecimiento de  una Acción Preventiva dirigida a proporcionar Seguridad y Salu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s-ES" sz="2900" spc="-1" strike="noStrike">
                <a:solidFill>
                  <a:srgbClr val="ff0000"/>
                </a:solidFill>
                <a:latin typeface="Comic Sans MS"/>
              </a:rPr>
              <a:t>2.-Valoración continua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- Herramienta unifica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4800" spc="-1" strike="noStrike">
                <a:solidFill>
                  <a:srgbClr val="ffffcc"/>
                </a:solidFill>
                <a:latin typeface="Comic Sans MS"/>
              </a:rPr>
              <a:t>Conclusiones </a:t>
            </a:r>
            <a:endParaRPr b="1" lang="en-US" sz="48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270828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-246240"/>
            <a:ext cx="8207280" cy="69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Comic Sans MS"/>
              </a:rPr>
              <a:t>¿Cómo pueden afectar?</a:t>
            </a:r>
            <a:r>
              <a:rPr b="0" lang="es-E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Los fármacos citostáticos y sus residuos son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potencialmente peligrosos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para la salud de los trabajadores que los manipulan en todas sus fases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Existen datos que indican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que una exposición a </a:t>
            </a:r>
            <a:r>
              <a:rPr b="1" lang="es-ES" sz="2800" spc="-1" strike="noStrike">
                <a:solidFill>
                  <a:srgbClr val="006666"/>
                </a:solidFill>
                <a:latin typeface="Comic Sans MS"/>
              </a:rPr>
              <a:t>dosis baja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Comic Sans MS"/>
              </a:rPr>
              <a:t>y continuas </a:t>
            </a:r>
            <a:r>
              <a:rPr b="0" lang="es-ES_tradnl" sz="2800" spc="-1" strike="noStrike">
                <a:solidFill>
                  <a:srgbClr val="006666"/>
                </a:solidFill>
                <a:latin typeface="Comic Sans MS"/>
              </a:rPr>
              <a:t>puede producir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Comic Sans MS"/>
              </a:rPr>
              <a:t>contaminación biológica</a:t>
            </a:r>
            <a:r>
              <a:rPr b="1" lang="es-ES_tradnl" sz="2800" spc="-1" strike="noStrike">
                <a:solidFill>
                  <a:srgbClr val="0066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99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Los síntomas</a:t>
            </a: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pueden ser </a:t>
            </a: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subclínicos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, y no ser   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evidentes durante años de exposición     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continuad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56320" y="2492280"/>
            <a:ext cx="211932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341000"/>
            <a:ext cx="860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1.-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Establecimiento de  una Acción Preventiva dirigida a proporcionar Seguridad y Salu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s-ES" sz="2900" spc="-1" strike="noStrike">
                <a:solidFill>
                  <a:srgbClr val="ffffcc"/>
                </a:solidFill>
                <a:latin typeface="Comic Sans MS"/>
              </a:rPr>
              <a:t>2.-Valoración continua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3.- Herramienta unifica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4800" spc="-1" strike="noStrike">
                <a:solidFill>
                  <a:srgbClr val="ffffcc"/>
                </a:solidFill>
                <a:latin typeface="Comic Sans MS"/>
              </a:rPr>
              <a:t>Conclusiones </a:t>
            </a:r>
            <a:endParaRPr b="1" lang="en-US" sz="48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421000"/>
            <a:ext cx="3852720" cy="3172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Personal  que manipula citostáticos habitualment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Personal expuesto ocasionalment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Prevención de la contaminación medioambiental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270828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60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1.- </a:t>
            </a: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Establecimiento de  una Acción Preventiva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dirigida a proporcionar Seguridad y Salud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s-ES" sz="2900" spc="-1" strike="noStrike">
                <a:solidFill>
                  <a:srgbClr val="ff0000"/>
                </a:solidFill>
                <a:latin typeface="Comic Sans MS"/>
              </a:rPr>
              <a:t>2.-Valoración continua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3.- Herramienta unifica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4800" spc="-1" strike="noStrike">
                <a:solidFill>
                  <a:srgbClr val="ffffcc"/>
                </a:solidFill>
                <a:latin typeface="Comic Sans MS"/>
              </a:rPr>
              <a:t>Conclusiones </a:t>
            </a:r>
            <a:endParaRPr b="1" lang="en-US" sz="48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5076720" y="2852640"/>
            <a:ext cx="3600720" cy="1557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s actuaciones preventivas en la manipulación de fármacos citostático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60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1.- </a:t>
            </a: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Establecimiento de  una Acción Preventiva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cc"/>
                </a:solidFill>
                <a:latin typeface="Comic Sans MS"/>
              </a:rPr>
              <a:t>dirigida a proporcionar Seguridad y Salud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s-ES" sz="2900" spc="-1" strike="noStrike">
                <a:solidFill>
                  <a:srgbClr val="ffffcc"/>
                </a:solidFill>
                <a:latin typeface="Comic Sans MS"/>
              </a:rPr>
              <a:t>2.-Valoración continua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- Herramienta unifica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4800" spc="-1" strike="noStrike">
                <a:solidFill>
                  <a:srgbClr val="ffffcc"/>
                </a:solidFill>
                <a:latin typeface="Comic Sans MS"/>
              </a:rPr>
              <a:t>Conclusiones </a:t>
            </a:r>
            <a:endParaRPr b="1" lang="en-US" sz="48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270828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2924280"/>
            <a:ext cx="3745080" cy="2730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la EVRL en la manipulación de fármacos citostático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Facilita la consecución de los objetivos en la gestión de riesgos del SPRL/SM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924360" y="4581000"/>
            <a:ext cx="122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189000"/>
            <a:ext cx="7696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76360" y="1125360"/>
            <a:ext cx="6840720" cy="35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GRACIAS</a:t>
            </a:r>
            <a:endParaRPr b="1" lang="en-US" sz="24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24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POR VUESTRA </a:t>
            </a:r>
            <a:endParaRPr b="1" lang="en-US" sz="24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TENCION</a:t>
            </a:r>
            <a:endParaRPr b="1" lang="en-US" sz="24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89000"/>
            <a:ext cx="7696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4" name="" descr="I Congreso de Prevención de Riesgos Laborales de la Región de Murci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692280"/>
            <a:ext cx="495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33360"/>
            <a:ext cx="8462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ffcc"/>
                </a:solidFill>
                <a:latin typeface="Comic Sans MS"/>
              </a:rPr>
              <a:t>¿</a:t>
            </a:r>
            <a:r>
              <a:rPr b="1" lang="es-ES_tradnl" sz="3200" spc="-1" strike="noStrike">
                <a:solidFill>
                  <a:srgbClr val="ffffcc"/>
                </a:solidFill>
                <a:latin typeface="Comic Sans MS"/>
              </a:rPr>
              <a:t>Cómo actúan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Están diseñados para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atacar a las células</a:t>
            </a: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 (sanas o enfermas)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su toxicidad puede afectar al</a:t>
            </a: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manipulador, al paciente y al medio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99"/>
              </a:spcBef>
              <a:buClr>
                <a:srgbClr val="ff9966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Afectan sobre todo a </a:t>
            </a:r>
            <a:r>
              <a:rPr b="1" lang="es-ES" sz="2800" spc="-1" strike="noStrike">
                <a:solidFill>
                  <a:srgbClr val="000099"/>
                </a:solidFill>
                <a:latin typeface="Comic Sans MS"/>
              </a:rPr>
              <a:t>tejidos y órganos con alta capacidad de proliferación</a:t>
            </a: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, como son piel, mucosas, tejido hematopoyético, gónadas,..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4"/>
              </a:spcBef>
              <a:buClr>
                <a:srgbClr val="ff9966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Pueden tener </a:t>
            </a:r>
            <a:r>
              <a:rPr b="1" lang="es-ES" sz="2800" spc="-1" strike="noStrike">
                <a:solidFill>
                  <a:srgbClr val="006666"/>
                </a:solidFill>
                <a:latin typeface="Comic Sans MS"/>
              </a:rPr>
              <a:t>propiedade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mutagénicas, embriotóxicas,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teratogénicas y carcinogénicas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64160" y="4149720"/>
            <a:ext cx="25005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76280"/>
            <a:ext cx="8964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Rutas principales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de exposición ocupacional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3400" spc="-1" strike="noStrike">
                <a:solidFill>
                  <a:srgbClr val="006600"/>
                </a:solidFill>
                <a:latin typeface="Comic Sans MS"/>
              </a:rPr>
              <a:t>Ingestión:</a:t>
            </a:r>
            <a:r>
              <a:rPr b="0" lang="es-ES_tradnl" sz="3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6600"/>
                </a:solidFill>
                <a:latin typeface="Comic Sans MS"/>
              </a:rPr>
              <a:t>contaminación de comida, bebida, cigarrillos, pintura de labios, maquillaje,..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Comic Sans MS"/>
              </a:rPr>
              <a:t>Inhalación de aerosoles:</a:t>
            </a:r>
            <a:r>
              <a:rPr b="0" lang="es-ES_tradnl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olvo o líquidos.</a:t>
            </a:r>
            <a:r>
              <a:rPr b="0" lang="es-ES_tradnl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00"/>
              </a:spcBef>
              <a:buClr>
                <a:srgbClr val="ff9966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3400" spc="-1" strike="noStrike">
                <a:solidFill>
                  <a:srgbClr val="000099"/>
                </a:solidFill>
                <a:latin typeface="Comic Sans MS"/>
              </a:rPr>
              <a:t>Absorción dérmica:</a:t>
            </a:r>
            <a:r>
              <a:rPr b="0" lang="es-ES_tradnl" sz="3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por contacto, derrames o contaminación de equipos en la manipulación.</a:t>
            </a:r>
            <a:r>
              <a:rPr b="0" lang="es-ES_tradnl" sz="3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4651200"/>
            <a:ext cx="201456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-316080"/>
            <a:ext cx="852624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 este sentido la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actividad preventiv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es la herramienta más adecuada par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reducir la exposición, el posible riesgo laboral y sus consecuencia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irigida 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Personal que </a:t>
            </a:r>
            <a:r>
              <a:rPr b="1" lang="es-ES" sz="2800" spc="-1" strike="noStrike">
                <a:solidFill>
                  <a:srgbClr val="006666"/>
                </a:solidFill>
                <a:latin typeface="Comic Sans MS"/>
              </a:rPr>
              <a:t>manipula habitualmente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 citostátic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Personal que pueda tener un </a:t>
            </a:r>
            <a:r>
              <a:rPr b="1" lang="es-ES" sz="2800" spc="-1" strike="noStrike">
                <a:solidFill>
                  <a:srgbClr val="006666"/>
                </a:solidFill>
                <a:latin typeface="Comic Sans MS"/>
              </a:rPr>
              <a:t>contacto ocasional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Prevenir la </a:t>
            </a:r>
            <a:r>
              <a:rPr b="1" lang="es-ES" sz="2800" spc="-1" strike="noStrike">
                <a:solidFill>
                  <a:srgbClr val="006666"/>
                </a:solidFill>
                <a:latin typeface="Comic Sans MS"/>
              </a:rPr>
              <a:t>contaminación medioambiental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4653000"/>
            <a:ext cx="6048360" cy="1706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Requiere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n procedimiento de evaluació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 los riegos laborales y planificació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 sus medidas preventiva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Establecer el método para elaborar un</a:t>
            </a:r>
            <a:r>
              <a:rPr b="0" lang="es-E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MANUAL DE PROCEDIMIENTO 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corde con los criterios específicos del Área Técnica del SPRL/SMS.</a:t>
            </a:r>
            <a:r>
              <a:rPr b="0" lang="es-E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Recomendar las medidas preventivas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dirigidas a minimizar sus riesgos, en todas las fases y en relación con el personal que interviene en ella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8600"/>
            <a:ext cx="84582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¿</a:t>
            </a: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Por qué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or el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umento progresivo de trabajadores que pueden verse afectados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por el contacto con fármacos citostáticos en el ámbito sanitario del SMS (AE y AP)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Para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Unificar criterios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en el Área Técnica del SPRL/SM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ara obtener una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herramienta de gestión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que facilite la labor de los Técnicos del SPRL/SMS.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MATERIAL Y MÉTODO</a:t>
            </a:r>
            <a:endParaRPr b="1" lang="en-US" sz="3200" spc="-1" strike="noStrike">
              <a:solidFill>
                <a:srgbClr val="ff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s-ES" sz="3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s-ES" sz="3000" spc="-1" strike="noStrike">
                <a:solidFill>
                  <a:srgbClr val="00ff00"/>
                </a:solidFill>
                <a:latin typeface="Comic Sans MS"/>
              </a:rPr>
              <a:t>Fuentes:</a:t>
            </a:r>
            <a:r>
              <a:rPr b="0" lang="es-E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Recopilación y recogida de datos de 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Evaluaciones de riesgos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800080"/>
                </a:solidFill>
                <a:latin typeface="Arial"/>
              </a:rPr>
              <a:t>y de informes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 realizados por el SPRL/SM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Protocolos de manipulación de fármacos citostáticos de los Hospitales del SMS.</a:t>
            </a: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Normativa y Bibliografía actual relacionada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m07f</cp:lastModifiedBy>
  <dcterms:modified xsi:type="dcterms:W3CDTF">2007-03-01T12:35:44Z</dcterms:modified>
  <cp:revision>455</cp:revision>
  <dc:subject/>
  <dc:title>Presentación de PowerPoint</dc:title>
</cp:coreProperties>
</file>