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E56-480B-4268-BF3A-234FB963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FB4-B2D9-4FB8-B03C-D05EC220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685-4466-4519-A3D5-D95015CF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17F-B464-46C1-9004-1E0AFD89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91B-1F35-4BF7-840B-EAB47BFF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A6C-2684-4FD9-BDE8-16485CEF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6B3-3EBD-4C51-9AF2-FC612FAB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62B-9843-4A98-84C0-1B77DAA8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FE7-38D2-4C49-8970-D7A045B7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3A4-72E1-4C15-BEAA-C8CC39A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1EA-7FD9-4079-A6F4-54BD0D35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9C9-9E77-4062-9BEF-9D1B6365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C5F8-E3D3-4997-8ACD-DB8429377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2590920"/>
            <a:ext cx="6553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Times New Roman"/>
              </a:rPr>
              <a:t>La posición de la Unión Europea en materia de Prevención de Riesgos Labor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Times New Roman"/>
              </a:rPr>
              <a:t>La nueva Estrategia Europea de Seguridad y Salud en el Trabajo para 2007-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81160" y="909720"/>
            <a:ext cx="67816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urcia, 1 de marzo d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 Congres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vención de Riesgos labo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789440"/>
            <a:ext cx="63244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rio GRAU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ubdirector Té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ituto Nacional de Seguridad e Higiene en el Traba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228600"/>
            <a:ext cx="2590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Región de Murcia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CA0-4898-4FCE-9AEA-8C1AD6BF6C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99"/>
                </a:solidFill>
                <a:latin typeface="Times New Roman"/>
              </a:rPr>
              <a:t>Riesgos nuevos y de creciente impor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Identificación de nuevos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Investigación fundamental y apl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Prioridades TME, psico, S. químicas, gestión, R. plurifactoriales, nanotecnolo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La Ag. Bilbao con los Inst. Nacionales establecerá prioridades comunes e intercambio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Anticipación mejor (Observatorio de riesg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Soluciones sencillas de prevención para P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imes New Roman"/>
              </a:rPr>
              <a:t>Promoción de la salud mental en 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0000"/>
                </a:solidFill>
                <a:latin typeface="Times New Roman"/>
              </a:rPr>
              <a:t>Cuarta causa de incapacidad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Iniciativas de prevención y promoción sinérgicas con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Trabajos de personas con deficiencia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Diálogo social y prevención de la violencia y el acoso en el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C52-DEBC-4611-8C75-5A02C1DD6E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ejora de los progresos alcan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066680"/>
            <a:ext cx="7696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laboración de nuevos instrumentos de medición de resultados alcan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ransmisión de datos estad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c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istema común de recogida e intercambio de datos de las estrategia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sarrollo de indicadores cuali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D0B-5CE5-4DDC-84F8-C60F94A47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304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Promoción de la SST a nive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914400"/>
            <a:ext cx="85341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Exportación”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e la normativa europea en mundo glob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fuerzo de la cooperación con OIT, OMS y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uesta en práctica de la estrategia global de OI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tificación del convenio sobre el marco promocional para la SST de 2006 y los de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hibición global del ami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fuerzo de la cooperación con EEUU, Canadá, Australia y Japón + India y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yuda a países candidatos a 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1AA-DBD6-4988-AC10-9931BA736D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304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838080"/>
            <a:ext cx="71625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r razones económicas y sociales la SST debe estar situada en el primer nivel de la agenda política comuni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 compromiso de la Estrategia de Lisboa de aumentar el empleo y la productividad exige la intensificación de los esfuerzos de todos los actores concernidos en la mejora de la S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 rol de la SST es esencial para reforzar la competitividad y la productividad de las empresas y contribuye a la viabilidad de los sistemas de protec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vitación a trabajar juntos en la reducción de AATT y EEPP y favorecer el bienestar lab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848-3AF1-4BB8-A105-7C8EAC3E9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52480" y="380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21932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o básico: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omunicación de la Comisión al Consejo y al Parlamento Europeo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Mejorar la calidad y la productividad en el trabajo: Estrategia comunitaria 2007-2012 para la salud y la seguridad en el tra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COM(2007) 62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5D0-4E67-411C-804D-53AF84ADBC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60640" y="2638440"/>
            <a:ext cx="684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¡GRACI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Por un mejor bienestar laboral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para todas las personas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utton_europeanyear2007_en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133360" cy="796680"/>
          </a:xfrm>
          <a:prstGeom prst="rect">
            <a:avLst/>
          </a:prstGeom>
          <a:ln w="0">
            <a:noFill/>
          </a:ln>
        </p:spPr>
      </p:pic>
      <p:pic>
        <p:nvPicPr>
          <p:cNvPr id="93" name="eu50_es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035440" cy="1371600"/>
          </a:xfrm>
          <a:prstGeom prst="rect">
            <a:avLst/>
          </a:prstGeom>
          <a:ln w="0">
            <a:noFill/>
          </a:ln>
        </p:spPr>
      </p:pic>
      <p:pic>
        <p:nvPicPr>
          <p:cNvPr id="94" name="button_growthjobs_es" descr=""/>
          <p:cNvPicPr/>
          <p:nvPr/>
        </p:nvPicPr>
        <p:blipFill>
          <a:blip r:embed="rId3"/>
          <a:stretch/>
        </p:blipFill>
        <p:spPr>
          <a:xfrm>
            <a:off x="3429000" y="838080"/>
            <a:ext cx="2228760" cy="83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628-08A4-4698-A7EC-9F340D03F3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66"/>
                </a:solidFill>
                <a:latin typeface="Times New Roman"/>
              </a:rPr>
              <a:t>Evolución de la política comunitaria de</a:t>
            </a:r>
            <a:br>
              <a:rPr sz="2400"/>
            </a:br>
            <a:r>
              <a:rPr b="1" lang="es-ES_tradnl" sz="2400" spc="-1" strike="noStrike">
                <a:solidFill>
                  <a:srgbClr val="cc0066"/>
                </a:solidFill>
                <a:latin typeface="Times New Roman"/>
              </a:rPr>
              <a:t>SEGURIDAD y SALUD en 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990720"/>
            <a:ext cx="8382240" cy="4714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cc"/>
                </a:solidFill>
                <a:latin typeface="Times New Roman"/>
              </a:rPr>
              <a:t>1951-1972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Tratados constitutivos.  Coope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inas. Radiaciones Ioniz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cc"/>
                </a:solidFill>
                <a:latin typeface="Times New Roman"/>
              </a:rPr>
              <a:t>1972-1986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Programas de Acción I y II. Directivas “Higie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ité Consultivo SST. Fundación de Dublí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cc"/>
                </a:solidFill>
                <a:latin typeface="Times New Roman"/>
              </a:rPr>
              <a:t>1986-2002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MERCADO ÚNICO. Disposiciones mínimas SST.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Programas de acción III, IV.  Agencia Europea S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cc"/>
                </a:solidFill>
                <a:latin typeface="Times New Roman"/>
              </a:rPr>
              <a:t>2002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 Estrategia comunitaria 2002-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Cómo adaptarse a los cambios en la sociedad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en el mundo del trabaj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cc"/>
                </a:solidFill>
                <a:latin typeface="Times New Roman"/>
              </a:rPr>
              <a:t>2007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II Estrategia comunitaria 2007-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1" i="1" lang="es-ES" sz="2400" spc="-1" strike="noStrike">
                <a:solidFill>
                  <a:srgbClr val="3333cc"/>
                </a:solidFill>
                <a:latin typeface="Times New Roman"/>
              </a:rPr>
              <a:t>Mejorar la calidad y la productividad en el trabajo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541840"/>
            <a:ext cx="80769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Mejora de las condiciones de trabajo en la U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Progreso en la reducción de los accidentes y enfermeda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9CE-D751-4BD1-B216-B51F661E3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66"/>
                </a:solidFill>
                <a:latin typeface="Times New Roman"/>
              </a:rPr>
              <a:t>Evolución</a:t>
            </a:r>
            <a:r>
              <a:rPr b="1" lang="es-ES_tradnl" sz="3200" spc="-1" strike="noStrike">
                <a:solidFill>
                  <a:srgbClr val="cc0066"/>
                </a:solidFill>
                <a:latin typeface="Times New Roman"/>
              </a:rPr>
              <a:t> 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447920"/>
            <a:ext cx="762012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Desde el fatalismo a la prev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ausalidad frente a casu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imes New Roman"/>
              </a:rPr>
              <a:t>Conocimiento y Anticip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Times New Roman"/>
              </a:rPr>
              <a:t>Hacia un enfoque global del bienestar en el trabajo / calidad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Mutua integración entre SST y otras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1" i="1" lang="es-ES_tradnl" sz="2800" spc="-1" strike="noStrike">
                <a:solidFill>
                  <a:srgbClr val="9900cc"/>
                </a:solidFill>
                <a:latin typeface="Times New Roman"/>
              </a:rPr>
              <a:t>Hacerlo bien” (GEST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3024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C8C-B602-4C14-85D2-DFED129F0B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66"/>
                </a:solidFill>
                <a:latin typeface="Times New Roman"/>
              </a:rPr>
              <a:t>Estrategia Comunitaria de Salud y Seguridad (2002 –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3276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nfoque GLOBAL hacia el </a:t>
            </a:r>
            <a:r>
              <a:rPr b="1" lang="es-ES_tradnl" sz="2800" spc="-1" strike="noStrike" u="sng">
                <a:solidFill>
                  <a:srgbClr val="336600"/>
                </a:solidFill>
                <a:uFillTx/>
                <a:latin typeface="Times New Roman"/>
              </a:rPr>
              <a:t>bienestar en el trabajo</a:t>
            </a:r>
            <a:r>
              <a:rPr b="1" lang="es-ES_tradnl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eniendo en cuenta los </a:t>
            </a: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ambios.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Calidad del trabaj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Consolidación de </a:t>
            </a:r>
            <a:r>
              <a:rPr b="1" lang="es-ES_tradnl" sz="2800" spc="-1" strike="noStrike" u="sng">
                <a:solidFill>
                  <a:srgbClr val="336600"/>
                </a:solidFill>
                <a:uFillTx/>
                <a:latin typeface="Times New Roman"/>
              </a:rPr>
              <a:t>cultura de la prevención</a:t>
            </a:r>
            <a:r>
              <a:rPr b="1" lang="es-ES_tradnl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con todos los medios políticos e implicación de to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6600"/>
                </a:solidFill>
                <a:uFillTx/>
                <a:latin typeface="Times New Roman"/>
              </a:rPr>
              <a:t>Política social ambiciosa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como factor de competitividad (la falta genera cos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1295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rincipales ej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181480"/>
            <a:ext cx="77724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336600"/>
                </a:solidFill>
                <a:latin typeface="Times New Roman"/>
              </a:rPr>
              <a:t>Relanzamiento de políticas nacionales de prev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336600"/>
                </a:solidFill>
                <a:latin typeface="Times New Roman"/>
              </a:rPr>
              <a:t>Sensibilización y compromiso de agentes interes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336600"/>
                </a:solidFill>
                <a:latin typeface="Times New Roman"/>
              </a:rPr>
              <a:t>Reducción de accidentes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ii: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Δ=-17% mort ; Δ=-23% baja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22A-04B1-4418-9134-399AE07A8E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66"/>
                </a:solidFill>
                <a:latin typeface="Times New Roman"/>
              </a:rPr>
              <a:t>Estrategia Comunitaria de Salud y Seguridad (2007 – 20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1219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rincipales desafí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600200"/>
            <a:ext cx="84582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special vulne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Grupos sobreexpuestos a Riesgos Labor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(jóvenes, precarios, edad avanzada, migra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mpresas más vulnerables (P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Sectores peligrosos (construcción, agricultura, pesca, transporte, sanidad, servicios so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vejecimiento de la población a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Nuevas tendencias en el empleo (autónomo, subcontrat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Nuevos flujos migra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specificidad de las mujeres en 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Riesgos emergentes (TME, psicosociale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ferente nivel de aplicación de la legislación en EE.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BEE-13A3-464C-83B5-89D1163239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Reducción de AATT y EEPP: 25% (ii 100000 trab) U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arantizar la buena aplicación de la legis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poyar a las PME en la aplicación de la legis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mplificar y adaptar a la evolución del mundo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sarrollar y aplicar estrategia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mover cambios positivos de comport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sarrollar métodos de evaluación de nuevos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jora continua de los progresos alcan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mover la SST a nive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66"/>
                </a:solidFill>
                <a:latin typeface="Times New Roman"/>
              </a:rPr>
              <a:t>Estrategia Comunitaria de Salud y Seguridad (2007 – 20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219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BD7-7CDA-4148-8EA9-4FEFF69C4D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Un cuerpo legal moderno y efic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Refuerzo de la aplicación de la legislación 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Difusión de buenas prácticas </a:t>
            </a:r>
            <a:r>
              <a:rPr b="1" lang="es-ES_tradnl" sz="2000" spc="-1" strike="noStrike">
                <a:solidFill>
                  <a:srgbClr val="336600"/>
                </a:solidFill>
                <a:latin typeface="Times New Roman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Formación de cuadros y trabaj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Elaboración de medios sencillos para facilitar evaluación 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Difusión de directrices fácilmente comprensibles y apli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Mejora de la información y del acceso a las fuentes ori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Acceso a SP externos de alta calidad y coste asequible </a:t>
            </a:r>
            <a:r>
              <a:rPr b="1" lang="es-ES_tradnl" sz="2000" spc="-1" strike="noStrike">
                <a:solidFill>
                  <a:srgbClr val="336600"/>
                </a:solidFill>
                <a:latin typeface="Times New Roman"/>
              </a:rPr>
              <a:t>RE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Rol de la IT en promover un mejor respeto a la legis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Incentivos económicos a nivel UE y nacional para P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Modalidades eficaces de cooperación entre empresarios en mismo Lugar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Intensificación de la cooperación en e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Aplicación efectiva y equivalente de las legislaciones 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Refuerzo del Comité de Altos Responsables de la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nergias con otras inspecciones (REA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Simplificación de la legislación y adaptación a cam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24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C7A-5FB5-410C-8C72-CEC3C36B31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sarrollar y aplicar estrategias nacionale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Compromiso de EEMM para adoptar estrategias nacionales que fijen objetivos cuantitativos de reducción de AATT y EEPP, especialmente en sectores y empresas de peores resultados, con prioridad a riesgos más frecuentes y trabajadores más vuln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umentar la eficacia preventiva de la vigilancia de la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romover la rehabilitación y reinserción de los trabajadores víc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nfrentarse a los cambios sociales y dem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forzar la coherencia de las políticas (salud, regiones, cohesión social, mercado, empleo...) </a:t>
            </a:r>
            <a:r>
              <a:rPr b="1" lang="es-ES_tradnl" sz="2000" spc="-1" strike="noStrike">
                <a:solidFill>
                  <a:srgbClr val="336600"/>
                </a:solidFill>
                <a:latin typeface="Times New Roman"/>
              </a:rPr>
              <a:t>Impacto de otras políticas en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D99-0778-4D2B-8A6D-AA02DBB803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480" y="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 Congreso de Prevención de Riesgos Laborales      Región de Murcia  1-2 marz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Promover cambios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Cultura de prevención a todos los componentes de la sociedad, más allá del lugar de trabajo y de la población activ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448920" cy="37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ción de SST en programas de educación y formación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RE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crementar el capital salud y favorecer la sensibilización en el sen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avorecer a las PME el acceso a asistencia técnica y asesor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ampañas de promoción sinérgicas con salud pú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ampañas sectoriales por la Agencia de Bilb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nálisis de la eficacia de campañas por la Fundación de Dubl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omoción de iniciativas en el marco del diálog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ategia Comunitaria 2007-2012                                                                                                  Mario Grau   INS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A43-D61C-4567-94E2-6E534633A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8:16:12Z</dcterms:created>
  <dc:creator>Mario Grau</dc:creator>
  <dc:description/>
  <dc:language>en-US</dc:language>
  <cp:lastModifiedBy>MARIO GRAU</cp:lastModifiedBy>
  <dcterms:modified xsi:type="dcterms:W3CDTF">2003-01-19T22:39:46Z</dcterms:modified>
  <cp:revision>78</cp:revision>
  <dc:subject/>
  <dc:title>Murcia SST-UE 2007-2012</dc:title>
</cp:coreProperties>
</file>