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13F-AB82-4691-B63B-EF49D3AB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DD8-8BC6-4F07-A622-1ED86842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42E-45BF-4ED4-886A-D50E30FC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0BE-9767-4739-ACD7-11C34FEA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088-8CC7-4EA5-BCB7-0AB0F67F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1CD-F30E-4E59-B094-2FB9D2C1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236-7D8D-4F9B-BF63-6284D58A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78A-7C33-47FE-BB95-5B7E452A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513-5B38-4ADE-AFEE-B09574D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640-826B-4CEA-A219-61FA3991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304-05F7-4529-A8BA-B9D91E6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249-92B9-4F87-9964-A62F889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8A4F-7427-4089-A57A-DEEBCB3EF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1800" y="914400"/>
            <a:ext cx="447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ermatos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rofesionales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0080" y="3886200"/>
            <a:ext cx="45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P. Sánchez-Pedr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Guill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7440" y="228600"/>
            <a:ext cx="46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struc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2960" y="1371600"/>
            <a:ext cx="614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ón del cem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ecá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lcal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aló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Higroscó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ensibilizant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romo, cobalto, níqu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38280" y="1295280"/>
            <a:ext cx="452088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rom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gaste maqui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itivos (corro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minación o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drillos refrac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balto, níquel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0400" y="152280"/>
            <a:ext cx="31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emen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7440" y="533520"/>
            <a:ext cx="46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struc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9720" y="213372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Gom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iuram, carba y merca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minas antioxida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átex (urticaria de contact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1480" y="304920"/>
            <a:ext cx="46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struc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6840" y="1752480"/>
            <a:ext cx="567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Resinas y p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sinas epox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ril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Maderas: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Trem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Maquinaria: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Aceites,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Medica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7440" y="457200"/>
            <a:ext cx="46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struc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880" y="2590920"/>
            <a:ext cx="834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Intemper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raumatismos y microtraumat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Higi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Nivel 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eficiente control méd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40080" y="152280"/>
            <a:ext cx="46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struc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7840" y="1295280"/>
            <a:ext cx="81082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Clínic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ermatitis irritativa de conta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ermatitis alérgica de conta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strofias ungue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otosensibilización a sales cobal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Radiología indus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áncer cutá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Quemaduras por c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92480" y="22860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str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7280" y="1219320"/>
            <a:ext cx="8242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cidencia elevada d. profes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mbios frecuentes de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rmatitis de contacto irrit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ergeno: Cromo (cobalto y níqu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tilización de guantes y botas de g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nsibilización a resin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47520" y="152280"/>
            <a:ext cx="34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gricultu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8960" y="1143000"/>
            <a:ext cx="454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d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tes físicos: R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tes quím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sti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qui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26000" y="22860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st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4840" y="1371600"/>
            <a:ext cx="7787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ratamiento y prevención de las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dustria de la madera, náu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rvación de edif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mbalses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N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loriste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Gran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tástrofes: Turquía, Sev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8680" y="380880"/>
            <a:ext cx="35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esticid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3560" y="2362320"/>
            <a:ext cx="4046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ng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rb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sect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9560" y="2362320"/>
            <a:ext cx="4385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Fumiga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Rodent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Repel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0400" y="1447920"/>
            <a:ext cx="7947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a afección de la piel en la que pu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ostrarse que el trabajo es su cau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damental o un factor que contribuy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lla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sociación Americana de Medic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8880" y="304920"/>
            <a:ext cx="76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ermatosis profes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749680" y="22860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st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4680" y="1170000"/>
            <a:ext cx="74898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rmatitis de contacto: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rritativas (sulfato de cob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lérgicas: Carbamatos, tiu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erotransport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arbamatos, piretrina, maneb, zin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ara, p. auriculares, cuello, 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ies, espalda, nalgas, gener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Fotoalergia/ Fototox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lorotanolil, paraquat, malathion, folp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49680" y="22860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st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120" y="1143000"/>
            <a:ext cx="7629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rticaria de conta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entaclorofenato, captán, difolatá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ritema polimorfo-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iretr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énfigo vulg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entaclorofe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Necrolisis epidérmica tóx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rilonitr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0560" y="15228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st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2520" y="1066680"/>
            <a:ext cx="8332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orfiria cutánea tar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exaclorobenc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Hiperpigment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lorotanol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spigment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ncozeb, barban, paraqu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fecciones ungue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araquat, norflurazón, 4-6 dinitro cre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920" y="152280"/>
            <a:ext cx="29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stici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4160" y="990720"/>
            <a:ext cx="878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gricultura, floristería, carpinterí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impieza hospit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. contacto irr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. contacto alérgicas: Carbamatos, tiu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ra, cuello, dorso manos (“airborn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ies, regiones cubie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otosensibiliz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nsibilización a pla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92720" y="380880"/>
            <a:ext cx="407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Peluquer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5760" y="2057400"/>
            <a:ext cx="81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matosis profesional más frecu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muj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bilización preco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caso control méd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onocimiento medidas preven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24920" y="15228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luquerí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520" y="1066680"/>
            <a:ext cx="7619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mbios de colo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intes: Permanentes, semiperma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es, vegetales, metá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colo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mbios de la ondul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rcado “mis a pl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sriza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condicionadores, champú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ijadores, tónicos, perf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92360" y="304920"/>
            <a:ext cx="36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eluquerí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5040" y="1447920"/>
            <a:ext cx="82152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lergen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in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ara-feniléndiamina y deriv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48.5% (1995), 79.48% (1985) (Conde 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4.3% - 45.5% (Leino, 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lorantes azoicos: PAAB, d. ye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colorantes: Persulfato amó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16040" y="152280"/>
            <a:ext cx="36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eluquerí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5240" y="1600200"/>
            <a:ext cx="5914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Alergen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íquidos de permane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ioglicolato amó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Gliceril monotioglicola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monio tiolact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29480" y="30492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luquerí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066680"/>
            <a:ext cx="80578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Alergen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Níquel: Material metá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             “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ook”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raga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servantes: Derivados form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urfacta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Gomas, glutaraldehí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át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48600" y="22860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luquerí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240" y="1143000"/>
            <a:ext cx="765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tigmas: Callo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       “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Barber hair sinu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teración coloración uñ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rmatitis irritativa de conta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rmatitis do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rmatitis pal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rmatitis alérgica de conta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dos/ manos y antebraz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hidrosi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2920" y="2209680"/>
            <a:ext cx="8721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 afección de la piel, mucosas o anej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a o indirectamente causada, condiciona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tenida o agravada por todo aquello que 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ilizado en la actividad profesional o exista e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e de trabaj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 Congreso ILA, 19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8880" y="533520"/>
            <a:ext cx="76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ermatosis profes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8600" y="22860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luquerí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760" y="1447920"/>
            <a:ext cx="8512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evado índice dermatosis profes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. irritativa inicial (nudillos, interdigit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. alérgica (PPDA) (tercio distal de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intomatología general (inhalación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erotransport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fesión de riesgo para atóp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13400" y="304920"/>
            <a:ext cx="491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áncer cutáne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rofes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760" y="2590920"/>
            <a:ext cx="8356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últiples factores exógenos cau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actores de riesgo extralaborales (RU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iempos de latencia muy prolong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actores endógenos predispo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22440" y="457200"/>
            <a:ext cx="819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áncer cutáneo profes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5680" y="1905120"/>
            <a:ext cx="56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Arial"/>
              </a:rPr>
              <a:t>Cáncer no melanoma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. basocel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. epidermo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elano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s: Sarcomas, LC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6120" y="228600"/>
            <a:ext cx="88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Agentes carcinogenéticos cutáne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93760" y="990720"/>
            <a:ext cx="689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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Fís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adiaciones no ioniza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Rayos ultravio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ayos infraro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adiaciones ion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rau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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Químicos: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Hidrocarburos arom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Nitrosam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rsénico inorgá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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Biológicos: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Virus papiloma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Virus her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6000" y="304920"/>
            <a:ext cx="84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fesiones expuestas a radiación U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adiación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447920"/>
            <a:ext cx="8007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imensores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inos; pes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icultores, ganaderos, horticul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adores ferroviarios; transporte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li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ería a cielo abierto; industria del 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ortistas profe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stación; industria made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orr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ías de mont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rdin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6000" y="304920"/>
            <a:ext cx="84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fesiones expuestas a radiación U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adiación arti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5280" y="1600200"/>
            <a:ext cx="4853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écnicos de labor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stria farmacéu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ermeras; méd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uqu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cánicos d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metólo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tografía; impr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do de plá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adiación de al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eados de sola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6680" y="2057400"/>
            <a:ext cx="7402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% CC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% mortalidad CC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ás frecuente en trabajadores ex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Áreas cutáneas expue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or incidencia a menor lat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ás frecuente en fototipos ba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imales de exper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otección a UV reduce su apar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80880"/>
            <a:ext cx="785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"/>
              </a:rPr>
              <a:t>Carcinoma epidermo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5560" y="2133720"/>
            <a:ext cx="759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mor más frecuente en raza bl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talidad por infiltración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0% casos, cabeza y cu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yor incidencia a menor lat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ás frecuente en fototipos ba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arece en regiones expuestas y 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572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Carcinoma basocelu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06560" y="304920"/>
            <a:ext cx="52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Radiación infraro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9080" y="1676520"/>
            <a:ext cx="648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Eritema ab igne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cabrilla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Bolsas de agua ca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ntas eléc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Braseros o estuf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Kangri cá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quinistas de tren (Inglat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668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adiaciones  ioniz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040" y="2133720"/>
            <a:ext cx="824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adiodermitis: Agudas, cró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écnicos radioterapéutas, enfermeras, méd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ndustrias (aeronáutica, laboratorios fís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nuclear y electrónica, petróle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edicina, veterinaria, odontología, mili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8880" y="228600"/>
            <a:ext cx="76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ermatosis profes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6240" y="1295280"/>
            <a:ext cx="792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matosis profesionales son aqu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se encuentran recogidas en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gislación del país donde se trabaj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D 1299/2006, 10 de Novie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9680" y="457200"/>
            <a:ext cx="86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lquitranes- Hidrocarburos arom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policíc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320" y="1905120"/>
            <a:ext cx="862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vimentación (vapores alquitranes): Cá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utáneo e interno (Partanen y cols., 199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finerías de petróleo: Melanoma (Savitz, 19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Grupos benzopireno y benzoantrac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Órganoespecif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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otosens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9680" y="152280"/>
            <a:ext cx="86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lquitranes- Hidrocarburos arom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policíc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7640" y="1295280"/>
            <a:ext cx="591264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lín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ase agu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ritema y edema, pru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otosensibilidad (alquitra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ase crónic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ilatación fol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apones querató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ambios poiquilodér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pilomas queratin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a. epidermoide y baso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03640" y="152280"/>
            <a:ext cx="23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sé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520" y="914400"/>
            <a:ext cx="7552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gricultura: Fungicidas- pestic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ectrónica: Semiconductores- arseniato de ga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undiciones y aleaciones: Fe, Pb, Cu, bronce,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eterinaria- Ganad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inería: carbón, Fe, Au, Cu, Z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eservación de maderas, cu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abricación: Flores artificiales, papeles colore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empapelar, pigmentos, pinturas, colorant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nilina y esmaltes para cerámica, detergen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resión textil, vidrio-cristalería, v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tros:  Agua (hidroarsenicis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lución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limentos vegetales conta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camentos arseni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76120" y="228600"/>
            <a:ext cx="27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rsén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0320" y="1219320"/>
            <a:ext cx="859644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lín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guda (neurológica, hepática, renal, cardiovas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ró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Hiperhidrosis palmoplantar, prurito in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Queratodermia palmopla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piteliomatosis múlt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elanod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5680" y="304920"/>
            <a:ext cx="816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asificación D. Profes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0840" y="1600200"/>
            <a:ext cx="62978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1. Mecánicas: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uerpos extrañ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mianto, berilio, carb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ierro, plata, sí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inus piloni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rtefa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enómeno de Koeb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640" y="152280"/>
            <a:ext cx="816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asificación D. Profes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6720" y="1322280"/>
            <a:ext cx="83858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2. Físicas: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al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Quemaduras, sudamina, golpe de c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rí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rticaria a frígore, perniosis, cong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utis marmo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adi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adiaciones lumí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adiaciones ion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7160" y="152280"/>
            <a:ext cx="74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asificación D. Profes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720" y="838080"/>
            <a:ext cx="788004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3. Agentes químicos: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rmatitis de contacto irr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rmatitis de contacto alér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4.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5. Agentes biológicos: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cterias/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Zooparas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oteínas an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6. Otras formas: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Baja hume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erotranspor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9560" y="457200"/>
            <a:ext cx="508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onstru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2400" y="1981080"/>
            <a:ext cx="7515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glomerados hidráulico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do producto que amasado c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, fragua y se endurec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ciéndose estab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82520" y="152280"/>
            <a:ext cx="37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str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5400" y="990720"/>
            <a:ext cx="5914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eme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liza (carbonato cálc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rcilla (silicato de alumin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ditivo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nticongel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lo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xpan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idrófu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clusores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160" y="3886200"/>
            <a:ext cx="350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hib. corro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if. frag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last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s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2:13:49Z</dcterms:created>
  <dc:creator>PALOMA SANCHEZ PEDREÑO</dc:creator>
  <dc:description/>
  <dc:language>en-US</dc:language>
  <cp:lastModifiedBy>MIGUEL ALCARAZ BAÑOS</cp:lastModifiedBy>
  <dcterms:modified xsi:type="dcterms:W3CDTF">2007-03-05T12:30:39Z</dcterms:modified>
  <cp:revision>412</cp:revision>
  <dc:subject/>
  <dc:title>Sin título de diapositiva</dc:title>
</cp:coreProperties>
</file>