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wmf" ContentType="image/x-wmf"/>
  <Override PartName="/ppt/media/image27.wmf" ContentType="image/x-wmf"/>
  <Override PartName="/ppt/media/image4.wmf" ContentType="image/x-wmf"/>
  <Override PartName="/ppt/media/image28.wmf" ContentType="image/x-wmf"/>
  <Override PartName="/ppt/media/image5.wmf" ContentType="image/x-wmf"/>
  <Override PartName="/ppt/media/image30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.wmf" ContentType="image/x-wmf"/>
  <Override PartName="/ppt/media/image26.wmf" ContentType="image/x-wmf"/>
  <Override PartName="/ppt/media/image2.wmf" ContentType="image/x-wmf"/>
  <Override PartName="/ppt/media/image25.wmf" ContentType="image/x-wmf"/>
  <Override PartName="/ppt/media/image29.wmf" ContentType="image/x-wmf"/>
  <Override PartName="/ppt/media/image1.png" ContentType="image/png"/>
  <Override PartName="/ppt/media/image1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media/image22.wmf" ContentType="image/x-wmf"/>
  <Override PartName="/ppt/media/image23.wmf" ContentType="image/x-wmf"/>
  <Override PartName="/ppt/embeddings/oleObject1.xlsx" ContentType="application/vnd.openxmlformats-officedocument.spreadsheetml.sheet"/>
  <Override PartName="/ppt/embeddings/oleObject1.docx" ContentType="application/vnd.openxmlformats-officedocument.wordprocessingml.document"/>
  <Override PartName="/ppt/embeddings/oleObject2.bin" ContentType="application/vnd.openxmlformats-officedocument.oleObjec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664325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60E73-C1ED-49FD-BCAF-4B02639A3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CDE0A-58ED-4E31-9F5D-5D46B7C24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D70F4-B0AE-4C0C-A53B-605C25545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80859-8F14-41EB-986C-A158ADEE8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ECC53-879E-4A9F-AB13-82A2B763B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DCFD4-1FF4-411F-8795-B848F68DA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8E068-EB03-42ED-B410-1E7568445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8271A-A669-4929-AE51-2B8BABC09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8AE41-1E1D-47F8-B612-44D597332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A86CF-18B8-42D5-B066-E7A377AF2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C54AA-CAF0-4097-8B05-2C65D0956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6F5F4-08C1-4D90-9C91-EEA318478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505F4-9F06-4660-A3AC-61FE661116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1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4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5.wmf"/><Relationship Id="rId8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16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7.wmf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18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9.wmf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20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21.wmf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22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23.wmf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24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25.wmf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26.wmf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27.wmf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28.wmf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29.wmf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1e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1600200"/>
            <a:ext cx="7848720" cy="2057400"/>
          </a:xfrm>
          <a:prstGeom prst="rect">
            <a:avLst/>
          </a:prstGeom>
          <a:solidFill>
            <a:srgbClr val="e1e9ff"/>
          </a:solidFill>
          <a:ln w="0">
            <a:noFill/>
          </a:ln>
          <a:effectLst>
            <a:outerShdw dist="17819" dir="2700000" blurRad="0" rotWithShape="0">
              <a:srgbClr val="d5e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33520" y="1676520"/>
            <a:ext cx="803916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1" lang="es-ES" sz="3200" spc="-1" strike="noStrike">
                <a:solidFill>
                  <a:srgbClr val="000066"/>
                </a:solidFill>
                <a:latin typeface="Tahoma"/>
              </a:rPr>
              <a:t>Evolución de los Servicios de Prevención en la Región de Murc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66"/>
                </a:solidFill>
                <a:latin typeface="Tahoma"/>
              </a:rPr>
              <a:t>2001-200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85800" y="4495680"/>
            <a:ext cx="7924680" cy="1251720"/>
            <a:chOff x="685800" y="4495680"/>
            <a:chExt cx="7924680" cy="1251720"/>
          </a:xfrm>
        </p:grpSpPr>
        <p:pic>
          <p:nvPicPr>
            <p:cNvPr id="44" name="" descr=""/>
            <p:cNvPicPr/>
            <p:nvPr/>
          </p:nvPicPr>
          <p:blipFill>
            <a:blip r:embed="rId1"/>
            <a:stretch/>
          </p:blipFill>
          <p:spPr>
            <a:xfrm>
              <a:off x="3657600" y="4495680"/>
              <a:ext cx="1828800" cy="87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"/>
            <p:cNvSpPr/>
            <p:nvPr/>
          </p:nvSpPr>
          <p:spPr>
            <a:xfrm>
              <a:off x="685800" y="5410080"/>
              <a:ext cx="7924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Tahoma"/>
                </a:rPr>
                <a:t>Instituto de Seguridad y Salud Laboral. Región de Murci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666720" y="3733920"/>
            <a:ext cx="792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66"/>
                </a:solidFill>
                <a:latin typeface="Tahoma"/>
              </a:rPr>
              <a:t>J. F. Peria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6014880"/>
            <a:ext cx="792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ahoma"/>
              </a:rPr>
              <a:t>I Congreso de Prevención de Riesgos Laborales. Marzo 200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71600" y="264960"/>
            <a:ext cx="6172200" cy="4899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66"/>
                </a:solidFill>
                <a:latin typeface="Tahoma"/>
              </a:rPr>
              <a:t>Nº de evaluacion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01520" y="216000"/>
            <a:ext cx="1155960" cy="57780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1371600" y="762120"/>
            <a:ext cx="7772400" cy="0"/>
          </a:xfrm>
          <a:prstGeom prst="line">
            <a:avLst/>
          </a:prstGeom>
          <a:ln w="284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11360" y="1994040"/>
            <a:ext cx="7696080" cy="3886200"/>
          </a:xfrm>
          <a:prstGeom prst="rect">
            <a:avLst/>
          </a:prstGeom>
          <a:gradFill rotWithShape="0">
            <a:gsLst>
              <a:gs pos="0">
                <a:srgbClr val="ddf0fe"/>
              </a:gs>
              <a:gs pos="100000">
                <a:srgbClr val="99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04800" y="892080"/>
          <a:ext cx="7967880" cy="58564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4800" y="892080"/>
                    <a:ext cx="7967880" cy="585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" name=""/>
          <p:cNvSpPr/>
          <p:nvPr/>
        </p:nvSpPr>
        <p:spPr>
          <a:xfrm>
            <a:off x="1092240" y="5524560"/>
            <a:ext cx="88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277040" y="5524560"/>
            <a:ext cx="88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20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702400" y="5524560"/>
            <a:ext cx="88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20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191120" y="5524560"/>
            <a:ext cx="88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20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603520" y="5524560"/>
            <a:ext cx="88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20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015920" y="379728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12.29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540160" y="300996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17.92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089240" y="2666880"/>
            <a:ext cx="101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20.37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651640" y="1739880"/>
            <a:ext cx="97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26.96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175520" y="1765440"/>
            <a:ext cx="97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26.80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71600" y="264960"/>
            <a:ext cx="6172200" cy="4899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66"/>
                </a:solidFill>
                <a:latin typeface="Tahoma"/>
              </a:rPr>
              <a:t>Nº de medicion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101520" y="216000"/>
            <a:ext cx="1155960" cy="57780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1371600" y="762120"/>
            <a:ext cx="7772400" cy="0"/>
          </a:xfrm>
          <a:prstGeom prst="line">
            <a:avLst/>
          </a:prstGeom>
          <a:ln w="284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11360" y="1994040"/>
            <a:ext cx="7696080" cy="3886200"/>
          </a:xfrm>
          <a:prstGeom prst="rect">
            <a:avLst/>
          </a:prstGeom>
          <a:gradFill rotWithShape="0">
            <a:gsLst>
              <a:gs pos="0">
                <a:srgbClr val="ddf0fe"/>
              </a:gs>
              <a:gs pos="100000">
                <a:srgbClr val="99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604800" y="892080"/>
          <a:ext cx="7967880" cy="58564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4800" y="892080"/>
                    <a:ext cx="7967880" cy="585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2" name=""/>
          <p:cNvSpPr/>
          <p:nvPr/>
        </p:nvSpPr>
        <p:spPr>
          <a:xfrm>
            <a:off x="1092240" y="5524560"/>
            <a:ext cx="88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277040" y="5524560"/>
            <a:ext cx="88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20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702400" y="5524560"/>
            <a:ext cx="88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20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191120" y="5524560"/>
            <a:ext cx="88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20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603520" y="5524560"/>
            <a:ext cx="88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20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015920" y="431784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25.6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540160" y="345456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44.24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089240" y="2832120"/>
            <a:ext cx="101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57.7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651640" y="1714680"/>
            <a:ext cx="97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80.9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175520" y="3060720"/>
            <a:ext cx="97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52.48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71600" y="264960"/>
            <a:ext cx="6172200" cy="4899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66"/>
                </a:solidFill>
                <a:latin typeface="Tahoma"/>
              </a:rPr>
              <a:t>Nº de muestra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101520" y="216000"/>
            <a:ext cx="1155960" cy="57780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1371600" y="762120"/>
            <a:ext cx="7772400" cy="0"/>
          </a:xfrm>
          <a:prstGeom prst="line">
            <a:avLst/>
          </a:prstGeom>
          <a:ln w="284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11360" y="1994040"/>
            <a:ext cx="7696080" cy="3886200"/>
          </a:xfrm>
          <a:prstGeom prst="rect">
            <a:avLst/>
          </a:prstGeom>
          <a:gradFill rotWithShape="0">
            <a:gsLst>
              <a:gs pos="0">
                <a:srgbClr val="ddf0fe"/>
              </a:gs>
              <a:gs pos="100000">
                <a:srgbClr val="99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604800" y="892080"/>
          <a:ext cx="7967880" cy="58564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4800" y="892080"/>
                    <a:ext cx="7967880" cy="585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8" name=""/>
          <p:cNvSpPr/>
          <p:nvPr/>
        </p:nvSpPr>
        <p:spPr>
          <a:xfrm>
            <a:off x="1092240" y="5524560"/>
            <a:ext cx="88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277040" y="5524560"/>
            <a:ext cx="88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20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02400" y="5524560"/>
            <a:ext cx="88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20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191120" y="5524560"/>
            <a:ext cx="88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20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603520" y="5524560"/>
            <a:ext cx="88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20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015920" y="401328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2.14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540160" y="405144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2.0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089240" y="3048120"/>
            <a:ext cx="101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3.5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651640" y="1841400"/>
            <a:ext cx="97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5.2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75520" y="3708360"/>
            <a:ext cx="97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2.60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1371600" y="264960"/>
            <a:ext cx="6172200" cy="4899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66"/>
                </a:solidFill>
                <a:latin typeface="Tahoma"/>
              </a:rPr>
              <a:t>2005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101520" y="216000"/>
            <a:ext cx="1155960" cy="57780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1371600" y="762120"/>
            <a:ext cx="7772400" cy="0"/>
          </a:xfrm>
          <a:prstGeom prst="line">
            <a:avLst/>
          </a:prstGeom>
          <a:ln w="284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833560" y="1681200"/>
            <a:ext cx="1822680" cy="9018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1306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66"/>
                </a:solidFill>
                <a:latin typeface="Tahoma"/>
                <a:ea typeface="Arial"/>
              </a:rPr>
              <a:t>Evaluacion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30280" y="2709720"/>
            <a:ext cx="2212920" cy="53352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66"/>
                </a:solidFill>
                <a:latin typeface="Tahoma"/>
              </a:rPr>
              <a:t>Propi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833560" y="2697120"/>
            <a:ext cx="1822680" cy="533520"/>
          </a:xfrm>
          <a:prstGeom prst="rect">
            <a:avLst/>
          </a:prstGeom>
          <a:solidFill>
            <a:srgbClr val="cbd4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06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Tahoma"/>
                <a:ea typeface="Arial"/>
              </a:rPr>
              <a:t>1.98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0280" y="3370320"/>
            <a:ext cx="2212920" cy="53352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66"/>
                </a:solidFill>
                <a:latin typeface="Tahoma"/>
              </a:rPr>
              <a:t>Mancomunad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833560" y="3346560"/>
            <a:ext cx="1822680" cy="533160"/>
          </a:xfrm>
          <a:prstGeom prst="rect">
            <a:avLst/>
          </a:prstGeom>
          <a:solidFill>
            <a:srgbClr val="cbd4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06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Tahoma"/>
                <a:ea typeface="Arial"/>
              </a:rPr>
              <a:t>1.06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30280" y="4008600"/>
            <a:ext cx="2212920" cy="5331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99ccff"/>
                </a:solidFill>
                <a:latin typeface="Tahoma"/>
              </a:rPr>
              <a:t>C.A. de Murci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833560" y="3995640"/>
            <a:ext cx="1822680" cy="533520"/>
          </a:xfrm>
          <a:prstGeom prst="rect">
            <a:avLst/>
          </a:prstGeom>
          <a:solidFill>
            <a:srgbClr val="cbd4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06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Tahoma"/>
                <a:ea typeface="Arial"/>
              </a:rPr>
              <a:t>15.5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30280" y="4643280"/>
            <a:ext cx="2212920" cy="5335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99ccff"/>
                </a:solidFill>
                <a:latin typeface="Tahoma"/>
              </a:rPr>
              <a:t>Otras C.C. A.A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833560" y="4645080"/>
            <a:ext cx="1822680" cy="533520"/>
          </a:xfrm>
          <a:prstGeom prst="rect">
            <a:avLst/>
          </a:prstGeom>
          <a:solidFill>
            <a:srgbClr val="cbd4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06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Tahoma"/>
                <a:ea typeface="Arial"/>
              </a:rPr>
              <a:t>8.23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762440" y="1676520"/>
            <a:ext cx="1822680" cy="9014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1306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66"/>
                </a:solidFill>
                <a:latin typeface="Tahoma"/>
                <a:ea typeface="Arial"/>
              </a:rPr>
              <a:t>Medicion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764240" y="2692440"/>
            <a:ext cx="1822320" cy="533520"/>
          </a:xfrm>
          <a:prstGeom prst="rect">
            <a:avLst/>
          </a:prstGeom>
          <a:solidFill>
            <a:srgbClr val="cbd4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06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Tahoma"/>
                <a:ea typeface="Arial"/>
              </a:rPr>
              <a:t>7.53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764240" y="3341520"/>
            <a:ext cx="1822320" cy="533520"/>
          </a:xfrm>
          <a:prstGeom prst="rect">
            <a:avLst/>
          </a:prstGeom>
          <a:solidFill>
            <a:srgbClr val="cbd4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06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Tahoma"/>
                <a:ea typeface="Arial"/>
              </a:rPr>
              <a:t>79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764240" y="3989520"/>
            <a:ext cx="1822320" cy="533160"/>
          </a:xfrm>
          <a:prstGeom prst="rect">
            <a:avLst/>
          </a:prstGeom>
          <a:solidFill>
            <a:srgbClr val="cbd4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06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Tahoma"/>
                <a:ea typeface="Arial"/>
              </a:rPr>
              <a:t>22.5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764240" y="4638600"/>
            <a:ext cx="1822320" cy="533520"/>
          </a:xfrm>
          <a:prstGeom prst="rect">
            <a:avLst/>
          </a:prstGeom>
          <a:solidFill>
            <a:srgbClr val="cbd4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06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Tahoma"/>
                <a:ea typeface="Arial"/>
              </a:rPr>
              <a:t>21.63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6688080" y="1685880"/>
            <a:ext cx="1822680" cy="3483000"/>
            <a:chOff x="6688080" y="1685880"/>
            <a:chExt cx="1822680" cy="3483000"/>
          </a:xfrm>
        </p:grpSpPr>
        <p:sp>
          <p:nvSpPr>
            <p:cNvPr id="226" name=""/>
            <p:cNvSpPr/>
            <p:nvPr/>
          </p:nvSpPr>
          <p:spPr>
            <a:xfrm>
              <a:off x="6688080" y="1685880"/>
              <a:ext cx="1822680" cy="9018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306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200" spc="-1" strike="noStrike">
                  <a:solidFill>
                    <a:srgbClr val="000066"/>
                  </a:solidFill>
                  <a:latin typeface="Tahoma"/>
                  <a:ea typeface="Arial"/>
                </a:rPr>
                <a:t>Muestra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688080" y="2698920"/>
              <a:ext cx="1822680" cy="533160"/>
            </a:xfrm>
            <a:prstGeom prst="rect">
              <a:avLst/>
            </a:prstGeom>
            <a:solidFill>
              <a:srgbClr val="cbd4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306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66"/>
                  </a:solidFill>
                  <a:latin typeface="Tahoma"/>
                  <a:ea typeface="Arial"/>
                </a:rPr>
                <a:t>43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688080" y="3344760"/>
              <a:ext cx="1822680" cy="533520"/>
            </a:xfrm>
            <a:prstGeom prst="rect">
              <a:avLst/>
            </a:prstGeom>
            <a:solidFill>
              <a:srgbClr val="cbd4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306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66"/>
                  </a:solidFill>
                  <a:latin typeface="Tahoma"/>
                  <a:ea typeface="Arial"/>
                </a:rPr>
                <a:t>8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688080" y="3989520"/>
              <a:ext cx="1822680" cy="533160"/>
            </a:xfrm>
            <a:prstGeom prst="rect">
              <a:avLst/>
            </a:prstGeom>
            <a:solidFill>
              <a:srgbClr val="cbd4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306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66"/>
                  </a:solidFill>
                  <a:latin typeface="Tahoma"/>
                  <a:ea typeface="Arial"/>
                </a:rPr>
                <a:t>96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688080" y="4635360"/>
              <a:ext cx="1822680" cy="533520"/>
            </a:xfrm>
            <a:prstGeom prst="rect">
              <a:avLst/>
            </a:prstGeom>
            <a:solidFill>
              <a:srgbClr val="cbd4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306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66"/>
                  </a:solidFill>
                  <a:latin typeface="Tahoma"/>
                  <a:ea typeface="Arial"/>
                </a:rPr>
                <a:t>1.19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1371600" y="264960"/>
            <a:ext cx="6172200" cy="4899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66"/>
                </a:solidFill>
                <a:latin typeface="Tahoma"/>
              </a:rPr>
              <a:t>2005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101520" y="216000"/>
            <a:ext cx="1155960" cy="5778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1371600" y="762120"/>
            <a:ext cx="7772400" cy="0"/>
          </a:xfrm>
          <a:prstGeom prst="line">
            <a:avLst/>
          </a:prstGeom>
          <a:ln w="284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344600" y="2709720"/>
            <a:ext cx="2212920" cy="53352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66"/>
                </a:solidFill>
                <a:latin typeface="Tahoma"/>
              </a:rPr>
              <a:t>Propi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344600" y="3370320"/>
            <a:ext cx="2212920" cy="53352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66"/>
                </a:solidFill>
                <a:latin typeface="Tahoma"/>
              </a:rPr>
              <a:t>Mancomunad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344600" y="4008600"/>
            <a:ext cx="2212920" cy="5331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99ccff"/>
                </a:solidFill>
                <a:latin typeface="Tahoma"/>
              </a:rPr>
              <a:t>C.A. de Murci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344600" y="4643280"/>
            <a:ext cx="2212920" cy="5335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99ccff"/>
                </a:solidFill>
                <a:latin typeface="Tahoma"/>
              </a:rPr>
              <a:t>Otras C.C. A.A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3648240" y="1681200"/>
            <a:ext cx="1822320" cy="3497400"/>
            <a:chOff x="3648240" y="1681200"/>
            <a:chExt cx="1822320" cy="3497400"/>
          </a:xfrm>
        </p:grpSpPr>
        <p:sp>
          <p:nvSpPr>
            <p:cNvPr id="239" name=""/>
            <p:cNvSpPr/>
            <p:nvPr/>
          </p:nvSpPr>
          <p:spPr>
            <a:xfrm>
              <a:off x="3648240" y="1681200"/>
              <a:ext cx="1822320" cy="901800"/>
            </a:xfrm>
            <a:prstGeom prst="rect">
              <a:avLst/>
            </a:prstGeom>
            <a:noFill/>
            <a:ln w="255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306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200" spc="-1" strike="noStrike">
                  <a:solidFill>
                    <a:srgbClr val="0000cc"/>
                  </a:solidFill>
                  <a:latin typeface="Tahoma"/>
                  <a:ea typeface="Arial"/>
                </a:rPr>
                <a:t>Mediciones por 100 trabajadore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648240" y="2697120"/>
              <a:ext cx="1822320" cy="533520"/>
            </a:xfrm>
            <a:prstGeom prst="rect">
              <a:avLst/>
            </a:prstGeom>
            <a:noFill/>
            <a:ln w="255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306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9900cc"/>
                  </a:solidFill>
                  <a:latin typeface="Tahoma"/>
                  <a:ea typeface="Arial"/>
                </a:rPr>
                <a:t>11.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306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648240" y="3346560"/>
              <a:ext cx="1822320" cy="533160"/>
            </a:xfrm>
            <a:prstGeom prst="rect">
              <a:avLst/>
            </a:prstGeom>
            <a:noFill/>
            <a:ln w="255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306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9900cc"/>
                  </a:solidFill>
                  <a:latin typeface="Tahoma"/>
                  <a:ea typeface="Arial"/>
                </a:rPr>
                <a:t>2.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648240" y="3995640"/>
              <a:ext cx="1822320" cy="533520"/>
            </a:xfrm>
            <a:prstGeom prst="rect">
              <a:avLst/>
            </a:prstGeom>
            <a:noFill/>
            <a:ln w="255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306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9900cc"/>
                  </a:solidFill>
                  <a:latin typeface="Tahoma"/>
                  <a:ea typeface="Arial"/>
                </a:rPr>
                <a:t>13.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648240" y="4645080"/>
              <a:ext cx="1822320" cy="533520"/>
            </a:xfrm>
            <a:prstGeom prst="rect">
              <a:avLst/>
            </a:prstGeom>
            <a:noFill/>
            <a:ln w="255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306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9900cc"/>
                  </a:solidFill>
                  <a:latin typeface="Tahoma"/>
                  <a:ea typeface="Arial"/>
                </a:rPr>
                <a:t>16.4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5576760" y="1676520"/>
            <a:ext cx="1824120" cy="3495600"/>
            <a:chOff x="5576760" y="1676520"/>
            <a:chExt cx="1824120" cy="3495600"/>
          </a:xfrm>
        </p:grpSpPr>
        <p:sp>
          <p:nvSpPr>
            <p:cNvPr id="245" name=""/>
            <p:cNvSpPr/>
            <p:nvPr/>
          </p:nvSpPr>
          <p:spPr>
            <a:xfrm>
              <a:off x="5576760" y="1676520"/>
              <a:ext cx="1822680" cy="901440"/>
            </a:xfrm>
            <a:prstGeom prst="rect">
              <a:avLst/>
            </a:prstGeom>
            <a:noFill/>
            <a:ln w="255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306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200" spc="-1" strike="noStrike">
                  <a:solidFill>
                    <a:srgbClr val="0000cc"/>
                  </a:solidFill>
                  <a:latin typeface="Tahoma"/>
                  <a:ea typeface="Arial"/>
                </a:rPr>
                <a:t>Muestras  por 100 trabajadore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578560" y="2692440"/>
              <a:ext cx="1822320" cy="533520"/>
            </a:xfrm>
            <a:prstGeom prst="rect">
              <a:avLst/>
            </a:prstGeom>
            <a:noFill/>
            <a:ln w="255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306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9900cc"/>
                  </a:solidFill>
                  <a:latin typeface="Tahoma"/>
                  <a:ea typeface="Arial"/>
                </a:rPr>
                <a:t>0.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578560" y="3341520"/>
              <a:ext cx="1822320" cy="533520"/>
            </a:xfrm>
            <a:prstGeom prst="rect">
              <a:avLst/>
            </a:prstGeom>
            <a:noFill/>
            <a:ln w="255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306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9900cc"/>
                  </a:solidFill>
                  <a:latin typeface="Tahoma"/>
                  <a:ea typeface="Arial"/>
                </a:rPr>
                <a:t>0.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578560" y="3989520"/>
              <a:ext cx="1822320" cy="533160"/>
            </a:xfrm>
            <a:prstGeom prst="rect">
              <a:avLst/>
            </a:prstGeom>
            <a:noFill/>
            <a:ln w="255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306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9900cc"/>
                  </a:solidFill>
                  <a:latin typeface="Tahoma"/>
                  <a:ea typeface="Arial"/>
                </a:rPr>
                <a:t>0.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578560" y="4638600"/>
              <a:ext cx="1822320" cy="533520"/>
            </a:xfrm>
            <a:prstGeom prst="rect">
              <a:avLst/>
            </a:prstGeom>
            <a:noFill/>
            <a:ln w="255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306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9900cc"/>
                  </a:solidFill>
                  <a:latin typeface="Tahoma"/>
                  <a:ea typeface="Arial"/>
                </a:rPr>
                <a:t>0.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1371600" y="264960"/>
            <a:ext cx="7086600" cy="4899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66"/>
                </a:solidFill>
                <a:latin typeface="Tahoma"/>
              </a:rPr>
              <a:t>Actuaciones en Higiene Industria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101520" y="216000"/>
            <a:ext cx="1155960" cy="57780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/>
          <p:nvPr/>
        </p:nvSpPr>
        <p:spPr>
          <a:xfrm>
            <a:off x="1371600" y="762120"/>
            <a:ext cx="7772400" cy="0"/>
          </a:xfrm>
          <a:prstGeom prst="line">
            <a:avLst/>
          </a:prstGeom>
          <a:ln w="284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330120" y="2425680"/>
            <a:ext cx="1613160" cy="2527200"/>
            <a:chOff x="330120" y="2425680"/>
            <a:chExt cx="1613160" cy="2527200"/>
          </a:xfrm>
        </p:grpSpPr>
        <p:sp>
          <p:nvSpPr>
            <p:cNvPr id="254" name=""/>
            <p:cNvSpPr/>
            <p:nvPr/>
          </p:nvSpPr>
          <p:spPr>
            <a:xfrm>
              <a:off x="343080" y="2425680"/>
              <a:ext cx="1600200" cy="53316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200" spc="-1" strike="noStrike">
                  <a:solidFill>
                    <a:srgbClr val="000066"/>
                  </a:solidFill>
                  <a:latin typeface="Tahoma"/>
                </a:rPr>
                <a:t>Técnico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30120" y="3085920"/>
              <a:ext cx="1600200" cy="53352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200" spc="-1" strike="noStrike">
                  <a:solidFill>
                    <a:srgbClr val="000066"/>
                  </a:solidFill>
                  <a:latin typeface="Tahoma"/>
                </a:rPr>
                <a:t>Medicione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30120" y="3746160"/>
              <a:ext cx="1600200" cy="53352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200" spc="-1" strike="noStrike">
                  <a:solidFill>
                    <a:srgbClr val="000066"/>
                  </a:solidFill>
                  <a:latin typeface="Tahoma"/>
                </a:rPr>
                <a:t>Muestra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30120" y="4419360"/>
              <a:ext cx="1600200" cy="53352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6642000" y="1409760"/>
            <a:ext cx="2070360" cy="3542760"/>
            <a:chOff x="6642000" y="1409760"/>
            <a:chExt cx="2070360" cy="3542760"/>
          </a:xfrm>
        </p:grpSpPr>
        <p:sp>
          <p:nvSpPr>
            <p:cNvPr id="259" name=""/>
            <p:cNvSpPr/>
            <p:nvPr/>
          </p:nvSpPr>
          <p:spPr>
            <a:xfrm>
              <a:off x="6654960" y="3085920"/>
              <a:ext cx="2057400" cy="533160"/>
            </a:xfrm>
            <a:prstGeom prst="rect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66"/>
                  </a:solidFill>
                  <a:latin typeface="Tahoma"/>
                </a:rPr>
                <a:t>14.84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654960" y="3746160"/>
              <a:ext cx="2057400" cy="533160"/>
            </a:xfrm>
            <a:prstGeom prst="rect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66"/>
                  </a:solidFill>
                  <a:latin typeface="Tahoma"/>
                </a:rPr>
                <a:t>45.67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654960" y="4419360"/>
              <a:ext cx="2057400" cy="533160"/>
            </a:xfrm>
            <a:prstGeom prst="rect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642000" y="1409760"/>
              <a:ext cx="2057400" cy="901440"/>
            </a:xfrm>
            <a:prstGeom prst="rect">
              <a:avLst/>
            </a:pr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306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200" spc="-1" strike="noStrike">
                  <a:solidFill>
                    <a:srgbClr val="000066"/>
                  </a:solidFill>
                  <a:latin typeface="Tahoma"/>
                  <a:ea typeface="Arial"/>
                </a:rPr>
                <a:t>Estimación comparativa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3" name=""/>
          <p:cNvGrpSpPr/>
          <p:nvPr/>
        </p:nvGrpSpPr>
        <p:grpSpPr>
          <a:xfrm>
            <a:off x="2082960" y="1409760"/>
            <a:ext cx="2133360" cy="4952520"/>
            <a:chOff x="2082960" y="1409760"/>
            <a:chExt cx="2133360" cy="4952520"/>
          </a:xfrm>
        </p:grpSpPr>
        <p:sp>
          <p:nvSpPr>
            <p:cNvPr id="264" name=""/>
            <p:cNvSpPr/>
            <p:nvPr/>
          </p:nvSpPr>
          <p:spPr>
            <a:xfrm>
              <a:off x="2082960" y="1409760"/>
              <a:ext cx="2133360" cy="90144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306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200" spc="-1" strike="noStrike">
                  <a:solidFill>
                    <a:srgbClr val="000066"/>
                  </a:solidFill>
                  <a:latin typeface="Tahoma"/>
                  <a:ea typeface="Arial"/>
                </a:rPr>
                <a:t>1981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082960" y="2425680"/>
              <a:ext cx="2133360" cy="532800"/>
            </a:xfrm>
            <a:prstGeom prst="rect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306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66"/>
                  </a:solidFill>
                  <a:latin typeface="Tahoma"/>
                  <a:ea typeface="Arial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082960" y="3085920"/>
              <a:ext cx="2133360" cy="533160"/>
            </a:xfrm>
            <a:prstGeom prst="rect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306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66"/>
                  </a:solidFill>
                  <a:latin typeface="Tahoma"/>
                  <a:ea typeface="Arial"/>
                </a:rPr>
                <a:t>384 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082960" y="3746160"/>
              <a:ext cx="2133360" cy="533160"/>
            </a:xfrm>
            <a:prstGeom prst="rect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306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66"/>
                  </a:solidFill>
                  <a:latin typeface="Tahoma"/>
                  <a:ea typeface="Arial"/>
                </a:rPr>
                <a:t>1.57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082960" y="4419360"/>
              <a:ext cx="2133360" cy="533160"/>
            </a:xfrm>
            <a:prstGeom prst="rect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306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082960" y="5079960"/>
              <a:ext cx="2133360" cy="1282320"/>
            </a:xfrm>
            <a:prstGeom prst="rect">
              <a:avLst/>
            </a:prstGeom>
            <a:noFill/>
            <a:ln w="1908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306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66"/>
                  </a:solidFill>
                  <a:latin typeface="Tahoma"/>
                  <a:ea typeface="Arial"/>
                </a:rPr>
                <a:t>(*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306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500" spc="-1" strike="noStrike">
                  <a:solidFill>
                    <a:srgbClr val="000066"/>
                  </a:solidFill>
                  <a:latin typeface="Arial"/>
                  <a:ea typeface="Arial"/>
                </a:rPr>
                <a:t>89%  Ruido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306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500" spc="-1" strike="noStrike">
                  <a:solidFill>
                    <a:srgbClr val="000066"/>
                  </a:solidFill>
                  <a:latin typeface="Arial"/>
                  <a:ea typeface="Arial"/>
                </a:rPr>
                <a:t>10%  Estrés Térmico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306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500" spc="-1" strike="noStrike">
                  <a:solidFill>
                    <a:srgbClr val="000066"/>
                  </a:solidFill>
                  <a:latin typeface="Arial"/>
                  <a:ea typeface="Arial"/>
                </a:rPr>
                <a:t>  </a:t>
              </a:r>
              <a:r>
                <a:rPr b="1" lang="es-ES" sz="1500" spc="-1" strike="noStrike">
                  <a:solidFill>
                    <a:srgbClr val="000066"/>
                  </a:solidFill>
                  <a:latin typeface="Arial"/>
                  <a:ea typeface="Arial"/>
                </a:rPr>
                <a:t>1%  Iluminación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4368960" y="1397160"/>
            <a:ext cx="2146320" cy="4965120"/>
            <a:chOff x="4368960" y="1397160"/>
            <a:chExt cx="2146320" cy="4965120"/>
          </a:xfrm>
        </p:grpSpPr>
        <p:sp>
          <p:nvSpPr>
            <p:cNvPr id="271" name=""/>
            <p:cNvSpPr/>
            <p:nvPr/>
          </p:nvSpPr>
          <p:spPr>
            <a:xfrm>
              <a:off x="4368960" y="1397160"/>
              <a:ext cx="2133360" cy="90144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306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200" spc="-1" strike="noStrike">
                  <a:solidFill>
                    <a:srgbClr val="000066"/>
                  </a:solidFill>
                  <a:latin typeface="Tahoma"/>
                  <a:ea typeface="Arial"/>
                </a:rPr>
                <a:t>2005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368960" y="2412720"/>
              <a:ext cx="2133360" cy="533160"/>
            </a:xfrm>
            <a:prstGeom prst="rect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306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66"/>
                  </a:solidFill>
                  <a:latin typeface="Tahoma"/>
                  <a:ea typeface="Arial"/>
                </a:rPr>
                <a:t>11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368960" y="3073320"/>
              <a:ext cx="2133360" cy="532800"/>
            </a:xfrm>
            <a:prstGeom prst="rect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306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66"/>
                  </a:solidFill>
                  <a:latin typeface="Tahoma"/>
                  <a:ea typeface="Arial"/>
                </a:rPr>
                <a:t>52.485 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368960" y="3733560"/>
              <a:ext cx="2133360" cy="533160"/>
            </a:xfrm>
            <a:prstGeom prst="rect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306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66"/>
                  </a:solidFill>
                  <a:latin typeface="Tahoma"/>
                  <a:ea typeface="Arial"/>
                </a:rPr>
                <a:t>2.60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368960" y="4406760"/>
              <a:ext cx="2133360" cy="533160"/>
            </a:xfrm>
            <a:prstGeom prst="rect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306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381560" y="5079960"/>
              <a:ext cx="2133720" cy="1282320"/>
            </a:xfrm>
            <a:prstGeom prst="rect">
              <a:avLst/>
            </a:prstGeom>
            <a:noFill/>
            <a:ln w="1908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306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66"/>
                  </a:solidFill>
                  <a:latin typeface="Tahoma"/>
                  <a:ea typeface="Arial"/>
                </a:rPr>
                <a:t>(*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306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500" spc="-1" strike="noStrike">
                  <a:solidFill>
                    <a:srgbClr val="000066"/>
                  </a:solidFill>
                  <a:latin typeface="Arial"/>
                  <a:ea typeface="Arial"/>
                </a:rPr>
                <a:t>41%  Ruido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306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500" spc="-1" strike="noStrike">
                  <a:solidFill>
                    <a:srgbClr val="000066"/>
                  </a:solidFill>
                  <a:latin typeface="Arial"/>
                  <a:ea typeface="Arial"/>
                </a:rPr>
                <a:t>12%  Estrés Térmico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306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500" spc="-1" strike="noStrike">
                  <a:solidFill>
                    <a:srgbClr val="000066"/>
                  </a:solidFill>
                  <a:latin typeface="Arial"/>
                  <a:ea typeface="Arial"/>
                </a:rPr>
                <a:t>45%  Iluminación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306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500" spc="-1" strike="noStrike">
                  <a:solidFill>
                    <a:srgbClr val="000066"/>
                  </a:solidFill>
                  <a:latin typeface="Arial"/>
                  <a:ea typeface="Arial"/>
                </a:rPr>
                <a:t>  </a:t>
              </a:r>
              <a:r>
                <a:rPr b="1" lang="es-ES" sz="1500" spc="-1" strike="noStrike">
                  <a:solidFill>
                    <a:srgbClr val="000066"/>
                  </a:solidFill>
                  <a:latin typeface="Arial"/>
                  <a:ea typeface="Arial"/>
                </a:rPr>
                <a:t>2%  Gas y vapore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306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7" name=""/>
          <p:cNvGrpSpPr/>
          <p:nvPr/>
        </p:nvGrpSpPr>
        <p:grpSpPr>
          <a:xfrm>
            <a:off x="3835440" y="2243160"/>
            <a:ext cx="4651200" cy="3370320"/>
            <a:chOff x="3835440" y="2243160"/>
            <a:chExt cx="4651200" cy="3370320"/>
          </a:xfrm>
        </p:grpSpPr>
        <p:sp>
          <p:nvSpPr>
            <p:cNvPr id="278" name=""/>
            <p:cNvSpPr/>
            <p:nvPr/>
          </p:nvSpPr>
          <p:spPr>
            <a:xfrm>
              <a:off x="3835440" y="2243160"/>
              <a:ext cx="4651200" cy="337032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7269840" y="5226840"/>
              <a:ext cx="1216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660066"/>
                  </a:solidFill>
                  <a:latin typeface="Arial"/>
                </a:rPr>
                <a:t>281.36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0" name=""/>
          <p:cNvSpPr/>
          <p:nvPr/>
        </p:nvSpPr>
        <p:spPr>
          <a:xfrm>
            <a:off x="1371600" y="264960"/>
            <a:ext cx="6172200" cy="4899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66"/>
                </a:solidFill>
                <a:latin typeface="Tahoma"/>
              </a:rPr>
              <a:t>Daños para la salu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101520" y="216000"/>
            <a:ext cx="1155960" cy="57780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1371600" y="762120"/>
            <a:ext cx="7772400" cy="0"/>
          </a:xfrm>
          <a:prstGeom prst="line">
            <a:avLst/>
          </a:prstGeom>
          <a:ln w="284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3" name=""/>
          <p:cNvGraphicFramePr/>
          <p:nvPr/>
        </p:nvGraphicFramePr>
        <p:xfrm>
          <a:off x="685800" y="1650960"/>
          <a:ext cx="7162920" cy="40086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8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1650960"/>
                    <a:ext cx="7162920" cy="400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5" name=""/>
          <p:cNvSpPr/>
          <p:nvPr/>
        </p:nvSpPr>
        <p:spPr>
          <a:xfrm>
            <a:off x="1219320" y="990720"/>
            <a:ext cx="71625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Estimación en países con economía de mercado establecida (OIT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371600" y="5867280"/>
            <a:ext cx="6743880" cy="752040"/>
          </a:xfrm>
          <a:prstGeom prst="rect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66"/>
                </a:solidFill>
                <a:latin typeface="Tahoma"/>
              </a:rPr>
              <a:t>Por cada trabajador que muere por accidente  se estima que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400" spc="-1" strike="noStrike">
                <a:solidFill>
                  <a:srgbClr val="990099"/>
                </a:solidFill>
                <a:latin typeface="Tahoma"/>
              </a:rPr>
              <a:t>17</a:t>
            </a:r>
            <a:r>
              <a:rPr b="0" lang="es-ES" sz="2400" spc="-1" strike="noStrike">
                <a:solidFill>
                  <a:srgbClr val="000066"/>
                </a:solidFill>
                <a:latin typeface="Tahoma"/>
              </a:rPr>
              <a:t> mueren por enferme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1371600" y="264960"/>
            <a:ext cx="5029200" cy="8859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66"/>
                </a:solidFill>
                <a:latin typeface="Tahoma"/>
              </a:rPr>
              <a:t>Evaluación de riesgos higiénico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tretch/>
        </p:blipFill>
        <p:spPr>
          <a:xfrm>
            <a:off x="101520" y="216000"/>
            <a:ext cx="1155960" cy="577800"/>
          </a:xfrm>
          <a:prstGeom prst="rect">
            <a:avLst/>
          </a:prstGeom>
          <a:ln w="0">
            <a:noFill/>
          </a:ln>
        </p:spPr>
      </p:pic>
      <p:sp>
        <p:nvSpPr>
          <p:cNvPr id="289" name=""/>
          <p:cNvSpPr/>
          <p:nvPr/>
        </p:nvSpPr>
        <p:spPr>
          <a:xfrm>
            <a:off x="1371600" y="762120"/>
            <a:ext cx="7772400" cy="0"/>
          </a:xfrm>
          <a:prstGeom prst="line">
            <a:avLst/>
          </a:prstGeom>
          <a:ln w="284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0" name=""/>
          <p:cNvGraphicFramePr/>
          <p:nvPr/>
        </p:nvGraphicFramePr>
        <p:xfrm>
          <a:off x="1978200" y="1111320"/>
          <a:ext cx="5489280" cy="26146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9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78200" y="1111320"/>
                    <a:ext cx="5489280" cy="261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92" name=""/>
          <p:cNvGrpSpPr/>
          <p:nvPr/>
        </p:nvGrpSpPr>
        <p:grpSpPr>
          <a:xfrm>
            <a:off x="2133720" y="1905120"/>
            <a:ext cx="5666760" cy="4572000"/>
            <a:chOff x="2133720" y="1905120"/>
            <a:chExt cx="5666760" cy="4572000"/>
          </a:xfrm>
        </p:grpSpPr>
        <p:graphicFrame>
          <p:nvGraphicFramePr>
            <p:cNvPr id="293" name=""/>
            <p:cNvGraphicFramePr/>
            <p:nvPr/>
          </p:nvGraphicFramePr>
          <p:xfrm>
            <a:off x="3809880" y="1905120"/>
            <a:ext cx="3990600" cy="263844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294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3809880" y="1905120"/>
                      <a:ext cx="3990600" cy="2638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95" name=""/>
            <p:cNvGraphicFramePr/>
            <p:nvPr/>
          </p:nvGraphicFramePr>
          <p:xfrm>
            <a:off x="2133720" y="3581640"/>
            <a:ext cx="5028840" cy="2895480"/>
          </p:xfrm>
          <a:graphic>
            <a:graphicData uri="http://schemas.openxmlformats.org/presentationml/2006/ole">
              <p:oleObj progId="Excel.Sheet.12" r:id="rId6" spid="">
                <p:embed/>
                <p:pic>
                  <p:nvPicPr>
                    <p:cNvPr id="296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2133720" y="3581640"/>
                      <a:ext cx="5028840" cy="289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1371600" y="264960"/>
            <a:ext cx="5029200" cy="8859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66"/>
                </a:solidFill>
                <a:latin typeface="Tahoma"/>
              </a:rPr>
              <a:t>Evaluación de riesgos higiénico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tretch/>
        </p:blipFill>
        <p:spPr>
          <a:xfrm>
            <a:off x="101520" y="216000"/>
            <a:ext cx="1155960" cy="577800"/>
          </a:xfrm>
          <a:prstGeom prst="rect">
            <a:avLst/>
          </a:prstGeom>
          <a:ln w="0">
            <a:noFill/>
          </a:ln>
        </p:spPr>
      </p:pic>
      <p:sp>
        <p:nvSpPr>
          <p:cNvPr id="299" name=""/>
          <p:cNvSpPr/>
          <p:nvPr/>
        </p:nvSpPr>
        <p:spPr>
          <a:xfrm>
            <a:off x="1371600" y="762120"/>
            <a:ext cx="7772400" cy="0"/>
          </a:xfrm>
          <a:prstGeom prst="line">
            <a:avLst/>
          </a:prstGeom>
          <a:ln w="284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0" name=""/>
          <p:cNvGraphicFramePr/>
          <p:nvPr/>
        </p:nvGraphicFramePr>
        <p:xfrm>
          <a:off x="1981080" y="990720"/>
          <a:ext cx="5565960" cy="23749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30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81080" y="990720"/>
                    <a:ext cx="5565960" cy="237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2" name=""/>
          <p:cNvGraphicFramePr/>
          <p:nvPr/>
        </p:nvGraphicFramePr>
        <p:xfrm>
          <a:off x="2060640" y="3141720"/>
          <a:ext cx="5333760" cy="32655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060640" y="3141720"/>
                    <a:ext cx="5333760" cy="326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1371600" y="264960"/>
            <a:ext cx="5029200" cy="8859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66"/>
                </a:solidFill>
                <a:latin typeface="Tahoma"/>
              </a:rPr>
              <a:t>Evaluación de riesgos higiénico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5" name="" descr=""/>
          <p:cNvPicPr/>
          <p:nvPr/>
        </p:nvPicPr>
        <p:blipFill>
          <a:blip r:embed="rId1"/>
          <a:stretch/>
        </p:blipFill>
        <p:spPr>
          <a:xfrm>
            <a:off x="101520" y="216000"/>
            <a:ext cx="1155960" cy="577800"/>
          </a:xfrm>
          <a:prstGeom prst="rect">
            <a:avLst/>
          </a:prstGeom>
          <a:ln w="0">
            <a:noFill/>
          </a:ln>
        </p:spPr>
      </p:pic>
      <p:sp>
        <p:nvSpPr>
          <p:cNvPr id="306" name=""/>
          <p:cNvSpPr/>
          <p:nvPr/>
        </p:nvSpPr>
        <p:spPr>
          <a:xfrm>
            <a:off x="1371600" y="762120"/>
            <a:ext cx="7772400" cy="0"/>
          </a:xfrm>
          <a:prstGeom prst="line">
            <a:avLst/>
          </a:prstGeom>
          <a:ln w="284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7" name=""/>
          <p:cNvGraphicFramePr/>
          <p:nvPr/>
        </p:nvGraphicFramePr>
        <p:xfrm>
          <a:off x="1828800" y="1143000"/>
          <a:ext cx="5565600" cy="23749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30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28800" y="1143000"/>
                    <a:ext cx="5565600" cy="237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9" name=""/>
          <p:cNvGraphicFramePr/>
          <p:nvPr/>
        </p:nvGraphicFramePr>
        <p:xfrm>
          <a:off x="2286000" y="3657600"/>
          <a:ext cx="4714920" cy="28861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31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286000" y="3657600"/>
                    <a:ext cx="4714920" cy="28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371600" y="264960"/>
            <a:ext cx="6172200" cy="4899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66"/>
                </a:solidFill>
                <a:latin typeface="Tahoma"/>
              </a:rPr>
              <a:t>Nº de servicios de prevenció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1520" y="216000"/>
            <a:ext cx="1155960" cy="5778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371600" y="762120"/>
            <a:ext cx="7772400" cy="0"/>
          </a:xfrm>
          <a:prstGeom prst="line">
            <a:avLst/>
          </a:prstGeom>
          <a:ln w="284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74720" y="1994040"/>
            <a:ext cx="7696080" cy="3886200"/>
          </a:xfrm>
          <a:prstGeom prst="rect">
            <a:avLst/>
          </a:prstGeom>
          <a:gradFill rotWithShape="0">
            <a:gsLst>
              <a:gs pos="0">
                <a:srgbClr val="e3e8ff"/>
              </a:gs>
              <a:gs pos="100000">
                <a:srgbClr val="cc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604800" y="853920"/>
          <a:ext cx="7967880" cy="58564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4800" y="853920"/>
                    <a:ext cx="7967880" cy="585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" name=""/>
          <p:cNvSpPr/>
          <p:nvPr/>
        </p:nvSpPr>
        <p:spPr>
          <a:xfrm>
            <a:off x="1092240" y="5524560"/>
            <a:ext cx="88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277040" y="5524560"/>
            <a:ext cx="88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20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702400" y="5524560"/>
            <a:ext cx="88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20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91120" y="5524560"/>
            <a:ext cx="88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20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603520" y="5524560"/>
            <a:ext cx="88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20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1015920" y="1803240"/>
            <a:ext cx="7175520" cy="1422720"/>
            <a:chOff x="1015920" y="1803240"/>
            <a:chExt cx="7175520" cy="1422720"/>
          </a:xfrm>
        </p:grpSpPr>
        <p:sp>
          <p:nvSpPr>
            <p:cNvPr id="60" name=""/>
            <p:cNvSpPr/>
            <p:nvPr/>
          </p:nvSpPr>
          <p:spPr>
            <a:xfrm>
              <a:off x="1015920" y="2857680"/>
              <a:ext cx="965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ahoma"/>
                </a:rPr>
                <a:t>7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463840" y="2641680"/>
              <a:ext cx="1155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ahoma"/>
                </a:rPr>
                <a:t>8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089240" y="2224080"/>
              <a:ext cx="1016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ahoma"/>
                </a:rPr>
                <a:t>9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651640" y="1968480"/>
              <a:ext cx="97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ahoma"/>
                </a:rPr>
                <a:t>10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37360" y="1803240"/>
              <a:ext cx="1054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ahoma"/>
                </a:rPr>
                <a:t>10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1371600" y="264960"/>
            <a:ext cx="5791320" cy="4899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66"/>
                </a:solidFill>
                <a:latin typeface="Tahoma"/>
              </a:rPr>
              <a:t>Valoración de riesgos ergonómico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101520" y="216000"/>
            <a:ext cx="1155960" cy="57780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/>
          <p:nvPr/>
        </p:nvSpPr>
        <p:spPr>
          <a:xfrm>
            <a:off x="1371600" y="762120"/>
            <a:ext cx="7772400" cy="0"/>
          </a:xfrm>
          <a:prstGeom prst="line">
            <a:avLst/>
          </a:prstGeom>
          <a:ln w="284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4" name=""/>
          <p:cNvGraphicFramePr/>
          <p:nvPr/>
        </p:nvGraphicFramePr>
        <p:xfrm>
          <a:off x="1905120" y="1066680"/>
          <a:ext cx="5432400" cy="23940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31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05120" y="1066680"/>
                    <a:ext cx="5432400" cy="239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6" name=""/>
          <p:cNvGraphicFramePr/>
          <p:nvPr/>
        </p:nvGraphicFramePr>
        <p:xfrm>
          <a:off x="2438280" y="3505320"/>
          <a:ext cx="4686480" cy="266688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31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438280" y="3505320"/>
                    <a:ext cx="4686480" cy="26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1371600" y="264960"/>
            <a:ext cx="5029200" cy="8859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66"/>
                </a:solidFill>
                <a:latin typeface="Tahoma"/>
              </a:rPr>
              <a:t>Verificación de SPA (2002-2003)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>
            <a:off x="101520" y="216000"/>
            <a:ext cx="1155960" cy="57780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/>
          <p:nvPr/>
        </p:nvSpPr>
        <p:spPr>
          <a:xfrm>
            <a:off x="1371600" y="762120"/>
            <a:ext cx="7772400" cy="0"/>
          </a:xfrm>
          <a:prstGeom prst="line">
            <a:avLst/>
          </a:prstGeom>
          <a:ln w="284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371600" y="264960"/>
            <a:ext cx="5791320" cy="4899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66"/>
                </a:solidFill>
                <a:latin typeface="Tahoma"/>
              </a:rPr>
              <a:t>Valoración de riesgos ergonómico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2" name=""/>
          <p:cNvGraphicFramePr/>
          <p:nvPr/>
        </p:nvGraphicFramePr>
        <p:xfrm>
          <a:off x="2057400" y="1066680"/>
          <a:ext cx="5397480" cy="23878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32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057400" y="1066680"/>
                    <a:ext cx="5397480" cy="238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4" name=""/>
          <p:cNvGraphicFramePr/>
          <p:nvPr/>
        </p:nvGraphicFramePr>
        <p:xfrm>
          <a:off x="2387520" y="3657600"/>
          <a:ext cx="4695840" cy="274320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32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387520" y="3657600"/>
                    <a:ext cx="4695840" cy="27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1371600" y="264960"/>
            <a:ext cx="5029200" cy="8859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66"/>
                </a:solidFill>
                <a:latin typeface="Tahoma"/>
              </a:rPr>
              <a:t>Verificación de SPA (2002-2003)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7" name="" descr=""/>
          <p:cNvPicPr/>
          <p:nvPr/>
        </p:nvPicPr>
        <p:blipFill>
          <a:blip r:embed="rId1"/>
          <a:stretch/>
        </p:blipFill>
        <p:spPr>
          <a:xfrm>
            <a:off x="101520" y="216000"/>
            <a:ext cx="1155960" cy="577800"/>
          </a:xfrm>
          <a:prstGeom prst="rect">
            <a:avLst/>
          </a:prstGeom>
          <a:ln w="0">
            <a:noFill/>
          </a:ln>
        </p:spPr>
      </p:pic>
      <p:sp>
        <p:nvSpPr>
          <p:cNvPr id="328" name=""/>
          <p:cNvSpPr/>
          <p:nvPr/>
        </p:nvSpPr>
        <p:spPr>
          <a:xfrm>
            <a:off x="1371600" y="762120"/>
            <a:ext cx="7772400" cy="0"/>
          </a:xfrm>
          <a:prstGeom prst="line">
            <a:avLst/>
          </a:prstGeom>
          <a:ln w="284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371600" y="264960"/>
            <a:ext cx="5791320" cy="4899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66"/>
                </a:solidFill>
                <a:latin typeface="Tahoma"/>
              </a:rPr>
              <a:t>Valoración de riesgos ergonómico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0" name=""/>
          <p:cNvGraphicFramePr/>
          <p:nvPr/>
        </p:nvGraphicFramePr>
        <p:xfrm>
          <a:off x="1905120" y="1244520"/>
          <a:ext cx="5359320" cy="23623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33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05120" y="1244520"/>
                    <a:ext cx="535932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2" name=""/>
          <p:cNvGraphicFramePr/>
          <p:nvPr/>
        </p:nvGraphicFramePr>
        <p:xfrm>
          <a:off x="2222640" y="3683160"/>
          <a:ext cx="5016240" cy="274320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33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222640" y="3683160"/>
                    <a:ext cx="5016240" cy="27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9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1371600" y="264960"/>
            <a:ext cx="6172200" cy="4899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66"/>
                </a:solidFill>
                <a:latin typeface="Tahoma"/>
              </a:rPr>
              <a:t>Nº de trabajadores formado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101520" y="216000"/>
            <a:ext cx="1155960" cy="5778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371600" y="762120"/>
            <a:ext cx="7772400" cy="0"/>
          </a:xfrm>
          <a:prstGeom prst="line">
            <a:avLst/>
          </a:prstGeom>
          <a:ln w="284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762120" y="1994040"/>
            <a:ext cx="7696080" cy="3886200"/>
          </a:xfrm>
          <a:prstGeom prst="rect">
            <a:avLst/>
          </a:prstGeom>
          <a:gradFill rotWithShape="0">
            <a:gsLst>
              <a:gs pos="0">
                <a:srgbClr val="ddf0fe"/>
              </a:gs>
              <a:gs pos="100000">
                <a:srgbClr val="a4fd0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8" name=""/>
          <p:cNvGraphicFramePr/>
          <p:nvPr/>
        </p:nvGraphicFramePr>
        <p:xfrm>
          <a:off x="609480" y="930240"/>
          <a:ext cx="7967880" cy="58564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33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930240"/>
                    <a:ext cx="7967880" cy="585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0" name=""/>
          <p:cNvSpPr/>
          <p:nvPr/>
        </p:nvSpPr>
        <p:spPr>
          <a:xfrm>
            <a:off x="1092240" y="5524560"/>
            <a:ext cx="88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7277040" y="5524560"/>
            <a:ext cx="88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20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702400" y="5524560"/>
            <a:ext cx="88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20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191120" y="5524560"/>
            <a:ext cx="88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20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2603520" y="5524560"/>
            <a:ext cx="88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20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015920" y="420372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44.27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540160" y="313704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78.50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089240" y="2933640"/>
            <a:ext cx="101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86.28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600880" y="248904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101.40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137360" y="1917720"/>
            <a:ext cx="105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120.8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1371600" y="264960"/>
            <a:ext cx="6934320" cy="4899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66"/>
                </a:solidFill>
                <a:latin typeface="Tahoma"/>
              </a:rPr>
              <a:t>Población atendida en vigilancia de la salu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1" name="" descr=""/>
          <p:cNvPicPr/>
          <p:nvPr/>
        </p:nvPicPr>
        <p:blipFill>
          <a:blip r:embed="rId1"/>
          <a:stretch/>
        </p:blipFill>
        <p:spPr>
          <a:xfrm>
            <a:off x="101520" y="216000"/>
            <a:ext cx="1155960" cy="577800"/>
          </a:xfrm>
          <a:prstGeom prst="rect">
            <a:avLst/>
          </a:prstGeom>
          <a:ln w="0">
            <a:noFill/>
          </a:ln>
        </p:spPr>
      </p:pic>
      <p:sp>
        <p:nvSpPr>
          <p:cNvPr id="352" name=""/>
          <p:cNvSpPr/>
          <p:nvPr/>
        </p:nvSpPr>
        <p:spPr>
          <a:xfrm>
            <a:off x="1371600" y="762120"/>
            <a:ext cx="7772400" cy="0"/>
          </a:xfrm>
          <a:prstGeom prst="line">
            <a:avLst/>
          </a:prstGeom>
          <a:ln w="284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711360" y="1994040"/>
            <a:ext cx="7696080" cy="3886200"/>
          </a:xfrm>
          <a:prstGeom prst="rect">
            <a:avLst/>
          </a:prstGeom>
          <a:gradFill rotWithShape="0">
            <a:gsLst>
              <a:gs pos="0">
                <a:srgbClr val="ddf0fe"/>
              </a:gs>
              <a:gs pos="100000">
                <a:srgbClr val="fff75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4" name=""/>
          <p:cNvGraphicFramePr/>
          <p:nvPr/>
        </p:nvGraphicFramePr>
        <p:xfrm>
          <a:off x="609480" y="892080"/>
          <a:ext cx="7967880" cy="58564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35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892080"/>
                    <a:ext cx="7967880" cy="585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6" name=""/>
          <p:cNvSpPr/>
          <p:nvPr/>
        </p:nvSpPr>
        <p:spPr>
          <a:xfrm>
            <a:off x="1092240" y="5524560"/>
            <a:ext cx="88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7277040" y="5524560"/>
            <a:ext cx="88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20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702400" y="5524560"/>
            <a:ext cx="88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20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4191120" y="5524560"/>
            <a:ext cx="88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20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603520" y="5524560"/>
            <a:ext cx="88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20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1015920" y="477684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61.85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502000" y="4025880"/>
            <a:ext cx="109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124.76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089240" y="2882880"/>
            <a:ext cx="101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219.82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587920" y="236232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262.93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7124760" y="208296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286.78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/>
          <p:nvPr/>
        </p:nvSpPr>
        <p:spPr>
          <a:xfrm>
            <a:off x="1371600" y="264960"/>
            <a:ext cx="6172200" cy="4899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66"/>
                </a:solidFill>
                <a:latin typeface="Tahoma"/>
              </a:rPr>
              <a:t>Medicos del trabajo (40h/semana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101520" y="216000"/>
            <a:ext cx="1155960" cy="5778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371600" y="762120"/>
            <a:ext cx="7772400" cy="0"/>
          </a:xfrm>
          <a:prstGeom prst="line">
            <a:avLst/>
          </a:prstGeom>
          <a:ln w="284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711360" y="1994040"/>
            <a:ext cx="7696080" cy="3886200"/>
          </a:xfrm>
          <a:prstGeom prst="rect">
            <a:avLst/>
          </a:prstGeom>
          <a:gradFill rotWithShape="0">
            <a:gsLst>
              <a:gs pos="0">
                <a:srgbClr val="ddf0fe"/>
              </a:gs>
              <a:gs pos="100000">
                <a:srgbClr val="fff75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0" name=""/>
          <p:cNvGraphicFramePr/>
          <p:nvPr/>
        </p:nvGraphicFramePr>
        <p:xfrm>
          <a:off x="609480" y="892080"/>
          <a:ext cx="7967880" cy="58564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37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892080"/>
                    <a:ext cx="7967880" cy="585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2" name=""/>
          <p:cNvSpPr/>
          <p:nvPr/>
        </p:nvSpPr>
        <p:spPr>
          <a:xfrm>
            <a:off x="1092240" y="5524560"/>
            <a:ext cx="88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7277040" y="5524560"/>
            <a:ext cx="88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20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702400" y="5524560"/>
            <a:ext cx="88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20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191120" y="5524560"/>
            <a:ext cx="88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20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603520" y="5524560"/>
            <a:ext cx="88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20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1015920" y="397656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2502000" y="3645000"/>
            <a:ext cx="109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089240" y="3035160"/>
            <a:ext cx="101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8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587920" y="269244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9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7124760" y="19303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11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/>
          <p:nvPr/>
        </p:nvSpPr>
        <p:spPr>
          <a:xfrm>
            <a:off x="1371600" y="264960"/>
            <a:ext cx="6172200" cy="4899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66"/>
                </a:solidFill>
                <a:latin typeface="Tahoma"/>
              </a:rPr>
              <a:t>DUE de empresa (40h/semana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" descr=""/>
          <p:cNvPicPr/>
          <p:nvPr/>
        </p:nvPicPr>
        <p:blipFill>
          <a:blip r:embed="rId1"/>
          <a:stretch/>
        </p:blipFill>
        <p:spPr>
          <a:xfrm>
            <a:off x="101520" y="216000"/>
            <a:ext cx="1155960" cy="577800"/>
          </a:xfrm>
          <a:prstGeom prst="rect">
            <a:avLst/>
          </a:prstGeom>
          <a:ln w="0">
            <a:noFill/>
          </a:ln>
        </p:spPr>
      </p:pic>
      <p:sp>
        <p:nvSpPr>
          <p:cNvPr id="384" name=""/>
          <p:cNvSpPr/>
          <p:nvPr/>
        </p:nvSpPr>
        <p:spPr>
          <a:xfrm>
            <a:off x="1371600" y="762120"/>
            <a:ext cx="7772400" cy="0"/>
          </a:xfrm>
          <a:prstGeom prst="line">
            <a:avLst/>
          </a:prstGeom>
          <a:ln w="284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711360" y="1994040"/>
            <a:ext cx="7696080" cy="3886200"/>
          </a:xfrm>
          <a:prstGeom prst="rect">
            <a:avLst/>
          </a:prstGeom>
          <a:gradFill rotWithShape="0">
            <a:gsLst>
              <a:gs pos="0">
                <a:srgbClr val="ddf0fe"/>
              </a:gs>
              <a:gs pos="100000">
                <a:srgbClr val="fff75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6" name=""/>
          <p:cNvGraphicFramePr/>
          <p:nvPr/>
        </p:nvGraphicFramePr>
        <p:xfrm>
          <a:off x="609480" y="892080"/>
          <a:ext cx="7967880" cy="58564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38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892080"/>
                    <a:ext cx="7967880" cy="585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8" name=""/>
          <p:cNvSpPr/>
          <p:nvPr/>
        </p:nvSpPr>
        <p:spPr>
          <a:xfrm>
            <a:off x="1092240" y="5524560"/>
            <a:ext cx="88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7277040" y="5524560"/>
            <a:ext cx="88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20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5702400" y="5524560"/>
            <a:ext cx="88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20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191120" y="5524560"/>
            <a:ext cx="88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20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2603520" y="5524560"/>
            <a:ext cx="88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20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015920" y="387504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2502000" y="3848040"/>
            <a:ext cx="109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089240" y="2514600"/>
            <a:ext cx="101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587920" y="232416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10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7124760" y="17272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/>
          <p:nvPr/>
        </p:nvSpPr>
        <p:spPr>
          <a:xfrm>
            <a:off x="1371600" y="264960"/>
            <a:ext cx="6172200" cy="4899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66"/>
                </a:solidFill>
                <a:latin typeface="Tahoma"/>
              </a:rPr>
              <a:t>Nº de protocolos aplicado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101520" y="216000"/>
            <a:ext cx="1155960" cy="5778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371600" y="762120"/>
            <a:ext cx="7772400" cy="0"/>
          </a:xfrm>
          <a:prstGeom prst="line">
            <a:avLst/>
          </a:prstGeom>
          <a:ln w="284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711360" y="1994040"/>
            <a:ext cx="7696080" cy="3886200"/>
          </a:xfrm>
          <a:prstGeom prst="rect">
            <a:avLst/>
          </a:prstGeom>
          <a:gradFill rotWithShape="0">
            <a:gsLst>
              <a:gs pos="0">
                <a:srgbClr val="ddf0fe"/>
              </a:gs>
              <a:gs pos="100000">
                <a:srgbClr val="fff75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2"/>
          <a:stretch/>
        </p:blipFill>
        <p:spPr>
          <a:xfrm>
            <a:off x="609480" y="892080"/>
            <a:ext cx="7967880" cy="5856480"/>
          </a:xfrm>
          <a:prstGeom prst="rect">
            <a:avLst/>
          </a:prstGeom>
          <a:ln w="0">
            <a:noFill/>
          </a:ln>
        </p:spPr>
      </p:pic>
      <p:sp>
        <p:nvSpPr>
          <p:cNvPr id="403" name=""/>
          <p:cNvSpPr/>
          <p:nvPr/>
        </p:nvSpPr>
        <p:spPr>
          <a:xfrm>
            <a:off x="1092240" y="5524560"/>
            <a:ext cx="88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277040" y="5524560"/>
            <a:ext cx="88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20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5702400" y="5524560"/>
            <a:ext cx="88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20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191120" y="5524560"/>
            <a:ext cx="88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20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2603520" y="5524560"/>
            <a:ext cx="88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20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1015920" y="525924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61.88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502000" y="4749840"/>
            <a:ext cx="109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181.8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4089240" y="3657600"/>
            <a:ext cx="101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440.22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587920" y="251460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712.54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7048440" y="1879560"/>
            <a:ext cx="125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862.32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/>
          <p:nvPr/>
        </p:nvSpPr>
        <p:spPr>
          <a:xfrm>
            <a:off x="1371600" y="264960"/>
            <a:ext cx="6172200" cy="4899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66"/>
                </a:solidFill>
                <a:latin typeface="Tahoma"/>
              </a:rPr>
              <a:t>2005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1520" y="216000"/>
            <a:ext cx="1155960" cy="577800"/>
          </a:xfrm>
          <a:prstGeom prst="rect">
            <a:avLst/>
          </a:prstGeom>
          <a:ln w="0">
            <a:noFill/>
          </a:ln>
        </p:spPr>
      </p:pic>
      <p:sp>
        <p:nvSpPr>
          <p:cNvPr id="415" name=""/>
          <p:cNvSpPr/>
          <p:nvPr/>
        </p:nvSpPr>
        <p:spPr>
          <a:xfrm>
            <a:off x="1371600" y="762120"/>
            <a:ext cx="7772400" cy="0"/>
          </a:xfrm>
          <a:prstGeom prst="line">
            <a:avLst/>
          </a:prstGeom>
          <a:ln w="284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2833560" y="1681200"/>
            <a:ext cx="1822680" cy="9018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1306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66"/>
                </a:solidFill>
                <a:latin typeface="Tahoma"/>
                <a:ea typeface="Arial"/>
              </a:rPr>
              <a:t>Població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0280" y="2709720"/>
            <a:ext cx="2212920" cy="53352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66"/>
                </a:solidFill>
                <a:latin typeface="Tahoma"/>
              </a:rPr>
              <a:t>Propi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2833560" y="2697120"/>
            <a:ext cx="1822680" cy="533520"/>
          </a:xfrm>
          <a:prstGeom prst="rect">
            <a:avLst/>
          </a:prstGeom>
          <a:solidFill>
            <a:srgbClr val="cbd4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06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Tahoma"/>
                <a:ea typeface="Arial"/>
              </a:rPr>
              <a:t>26.6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30280" y="3370320"/>
            <a:ext cx="2212920" cy="53352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66"/>
                </a:solidFill>
                <a:latin typeface="Tahoma"/>
              </a:rPr>
              <a:t>Mancomunad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2833560" y="3346560"/>
            <a:ext cx="1822680" cy="533160"/>
          </a:xfrm>
          <a:prstGeom prst="rect">
            <a:avLst/>
          </a:prstGeom>
          <a:solidFill>
            <a:srgbClr val="cbd4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06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Tahoma"/>
                <a:ea typeface="Arial"/>
              </a:rPr>
              <a:t>6.71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530280" y="4008600"/>
            <a:ext cx="2212920" cy="5331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99ccff"/>
                </a:solidFill>
                <a:latin typeface="Tahoma"/>
              </a:rPr>
              <a:t>C.A. de Murci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833560" y="3995640"/>
            <a:ext cx="1822680" cy="533520"/>
          </a:xfrm>
          <a:prstGeom prst="rect">
            <a:avLst/>
          </a:prstGeom>
          <a:solidFill>
            <a:srgbClr val="cbd4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06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Tahoma"/>
                <a:ea typeface="Arial"/>
              </a:rPr>
              <a:t>136.49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530280" y="4643280"/>
            <a:ext cx="2212920" cy="5335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99ccff"/>
                </a:solidFill>
                <a:latin typeface="Tahoma"/>
              </a:rPr>
              <a:t>Otras C.C. A.A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833560" y="4645080"/>
            <a:ext cx="1822680" cy="533520"/>
          </a:xfrm>
          <a:prstGeom prst="rect">
            <a:avLst/>
          </a:prstGeom>
          <a:solidFill>
            <a:srgbClr val="cbd4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06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Tahoma"/>
                <a:ea typeface="Arial"/>
              </a:rPr>
              <a:t>116.99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4762440" y="1676520"/>
            <a:ext cx="1822680" cy="9014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1306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66"/>
                </a:solidFill>
                <a:latin typeface="Tahoma"/>
                <a:ea typeface="Arial"/>
              </a:rPr>
              <a:t>Medicos del trabaj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764240" y="2692440"/>
            <a:ext cx="1822320" cy="533520"/>
          </a:xfrm>
          <a:prstGeom prst="rect">
            <a:avLst/>
          </a:prstGeom>
          <a:solidFill>
            <a:srgbClr val="cbd4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06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Tahoma"/>
                <a:ea typeface="Arial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764240" y="3341520"/>
            <a:ext cx="1822320" cy="533520"/>
          </a:xfrm>
          <a:prstGeom prst="rect">
            <a:avLst/>
          </a:prstGeom>
          <a:solidFill>
            <a:srgbClr val="cbd4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06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Tahoma"/>
                <a:ea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4764240" y="3989520"/>
            <a:ext cx="1822320" cy="533160"/>
          </a:xfrm>
          <a:prstGeom prst="rect">
            <a:avLst/>
          </a:prstGeom>
          <a:solidFill>
            <a:srgbClr val="cbd4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06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Tahoma"/>
                <a:ea typeface="Arial"/>
              </a:rPr>
              <a:t>4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4764240" y="4638600"/>
            <a:ext cx="1822320" cy="533520"/>
          </a:xfrm>
          <a:prstGeom prst="rect">
            <a:avLst/>
          </a:prstGeom>
          <a:solidFill>
            <a:srgbClr val="cbd4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06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Tahoma"/>
                <a:ea typeface="Arial"/>
              </a:rPr>
              <a:t>4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0" name=""/>
          <p:cNvGrpSpPr/>
          <p:nvPr/>
        </p:nvGrpSpPr>
        <p:grpSpPr>
          <a:xfrm>
            <a:off x="6688080" y="1685880"/>
            <a:ext cx="1822680" cy="3483000"/>
            <a:chOff x="6688080" y="1685880"/>
            <a:chExt cx="1822680" cy="3483000"/>
          </a:xfrm>
        </p:grpSpPr>
        <p:sp>
          <p:nvSpPr>
            <p:cNvPr id="431" name=""/>
            <p:cNvSpPr/>
            <p:nvPr/>
          </p:nvSpPr>
          <p:spPr>
            <a:xfrm>
              <a:off x="6688080" y="1685880"/>
              <a:ext cx="1822680" cy="9018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306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200" spc="-1" strike="noStrike">
                  <a:solidFill>
                    <a:srgbClr val="000066"/>
                  </a:solidFill>
                  <a:latin typeface="Tahoma"/>
                  <a:ea typeface="Arial"/>
                </a:rPr>
                <a:t>Protocolos aplicado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688080" y="2698920"/>
              <a:ext cx="1822680" cy="533160"/>
            </a:xfrm>
            <a:prstGeom prst="rect">
              <a:avLst/>
            </a:prstGeom>
            <a:solidFill>
              <a:srgbClr val="cbd4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306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66"/>
                  </a:solidFill>
                  <a:latin typeface="Tahoma"/>
                  <a:ea typeface="Arial"/>
                </a:rPr>
                <a:t>33.24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6688080" y="3344760"/>
              <a:ext cx="1822680" cy="533520"/>
            </a:xfrm>
            <a:prstGeom prst="rect">
              <a:avLst/>
            </a:prstGeom>
            <a:solidFill>
              <a:srgbClr val="cbd4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306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66"/>
                  </a:solidFill>
                  <a:latin typeface="Tahoma"/>
                  <a:ea typeface="Arial"/>
                </a:rPr>
                <a:t>10.09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6688080" y="3989520"/>
              <a:ext cx="1822680" cy="533160"/>
            </a:xfrm>
            <a:prstGeom prst="rect">
              <a:avLst/>
            </a:prstGeom>
            <a:solidFill>
              <a:srgbClr val="cbd4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306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66"/>
                  </a:solidFill>
                  <a:latin typeface="Tahoma"/>
                  <a:ea typeface="Arial"/>
                </a:rPr>
                <a:t>373.53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688080" y="4635360"/>
              <a:ext cx="1822680" cy="533520"/>
            </a:xfrm>
            <a:prstGeom prst="rect">
              <a:avLst/>
            </a:prstGeom>
            <a:solidFill>
              <a:srgbClr val="cbd4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306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66"/>
                  </a:solidFill>
                  <a:latin typeface="Tahoma"/>
                  <a:ea typeface="Arial"/>
                </a:rPr>
                <a:t>445.44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"/>
          <p:cNvSpPr/>
          <p:nvPr/>
        </p:nvSpPr>
        <p:spPr>
          <a:xfrm>
            <a:off x="1371600" y="264960"/>
            <a:ext cx="6172200" cy="4899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66"/>
                </a:solidFill>
                <a:latin typeface="Tahoma"/>
              </a:rPr>
              <a:t>2005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7" name="" descr=""/>
          <p:cNvPicPr/>
          <p:nvPr/>
        </p:nvPicPr>
        <p:blipFill>
          <a:blip r:embed="rId1"/>
          <a:stretch/>
        </p:blipFill>
        <p:spPr>
          <a:xfrm>
            <a:off x="101520" y="216000"/>
            <a:ext cx="1155960" cy="577800"/>
          </a:xfrm>
          <a:prstGeom prst="rect">
            <a:avLst/>
          </a:prstGeom>
          <a:ln w="0">
            <a:noFill/>
          </a:ln>
        </p:spPr>
      </p:pic>
      <p:sp>
        <p:nvSpPr>
          <p:cNvPr id="438" name=""/>
          <p:cNvSpPr/>
          <p:nvPr/>
        </p:nvSpPr>
        <p:spPr>
          <a:xfrm>
            <a:off x="1371600" y="762120"/>
            <a:ext cx="7772400" cy="0"/>
          </a:xfrm>
          <a:prstGeom prst="line">
            <a:avLst/>
          </a:prstGeom>
          <a:ln w="284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1230480" y="2709720"/>
            <a:ext cx="2212920" cy="53352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66"/>
                </a:solidFill>
                <a:latin typeface="Tahoma"/>
              </a:rPr>
              <a:t>Propi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230480" y="3370320"/>
            <a:ext cx="2212920" cy="53352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66"/>
                </a:solidFill>
                <a:latin typeface="Tahoma"/>
              </a:rPr>
              <a:t>Mancomunad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1230480" y="4008600"/>
            <a:ext cx="2212920" cy="5331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99ccff"/>
                </a:solidFill>
                <a:latin typeface="Tahoma"/>
              </a:rPr>
              <a:t>C.A. de Murci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230480" y="4643280"/>
            <a:ext cx="2212920" cy="5335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99ccff"/>
                </a:solidFill>
                <a:latin typeface="Tahoma"/>
              </a:rPr>
              <a:t>Otras C.C. A.A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3" name=""/>
          <p:cNvGrpSpPr/>
          <p:nvPr/>
        </p:nvGrpSpPr>
        <p:grpSpPr>
          <a:xfrm>
            <a:off x="3533760" y="1681200"/>
            <a:ext cx="1822320" cy="3497400"/>
            <a:chOff x="3533760" y="1681200"/>
            <a:chExt cx="1822320" cy="3497400"/>
          </a:xfrm>
        </p:grpSpPr>
        <p:sp>
          <p:nvSpPr>
            <p:cNvPr id="444" name=""/>
            <p:cNvSpPr/>
            <p:nvPr/>
          </p:nvSpPr>
          <p:spPr>
            <a:xfrm>
              <a:off x="3533760" y="1681200"/>
              <a:ext cx="1822320" cy="901800"/>
            </a:xfrm>
            <a:prstGeom prst="rect">
              <a:avLst/>
            </a:prstGeom>
            <a:noFill/>
            <a:ln w="255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306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200" spc="-1" strike="noStrike">
                  <a:solidFill>
                    <a:srgbClr val="0000cc"/>
                  </a:solidFill>
                  <a:latin typeface="Tahoma"/>
                </a:rPr>
                <a:t>Protocolos por médico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3533760" y="2697120"/>
              <a:ext cx="1822320" cy="533520"/>
            </a:xfrm>
            <a:prstGeom prst="rect">
              <a:avLst/>
            </a:prstGeom>
            <a:noFill/>
            <a:ln w="255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306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9900cc"/>
                  </a:solidFill>
                  <a:latin typeface="Tahoma"/>
                  <a:ea typeface="Arial"/>
                </a:rPr>
                <a:t>1.66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306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533760" y="3346560"/>
              <a:ext cx="1822320" cy="533160"/>
            </a:xfrm>
            <a:prstGeom prst="rect">
              <a:avLst/>
            </a:prstGeom>
            <a:noFill/>
            <a:ln w="255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306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9900cc"/>
                  </a:solidFill>
                  <a:latin typeface="Tahoma"/>
                  <a:ea typeface="Arial"/>
                </a:rPr>
                <a:t>2.52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3533760" y="3995640"/>
              <a:ext cx="1822320" cy="533520"/>
            </a:xfrm>
            <a:prstGeom prst="rect">
              <a:avLst/>
            </a:prstGeom>
            <a:noFill/>
            <a:ln w="255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306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9900cc"/>
                  </a:solidFill>
                  <a:latin typeface="Tahoma"/>
                  <a:ea typeface="Arial"/>
                </a:rPr>
                <a:t>7.78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3533760" y="4645080"/>
              <a:ext cx="1822320" cy="533520"/>
            </a:xfrm>
            <a:prstGeom prst="rect">
              <a:avLst/>
            </a:prstGeom>
            <a:noFill/>
            <a:ln w="255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306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9900cc"/>
                  </a:solidFill>
                  <a:latin typeface="Tahoma"/>
                  <a:ea typeface="Arial"/>
                </a:rPr>
                <a:t>9.47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9" name=""/>
          <p:cNvGrpSpPr/>
          <p:nvPr/>
        </p:nvGrpSpPr>
        <p:grpSpPr>
          <a:xfrm>
            <a:off x="5462640" y="1676520"/>
            <a:ext cx="1824120" cy="3495600"/>
            <a:chOff x="5462640" y="1676520"/>
            <a:chExt cx="1824120" cy="3495600"/>
          </a:xfrm>
        </p:grpSpPr>
        <p:sp>
          <p:nvSpPr>
            <p:cNvPr id="450" name=""/>
            <p:cNvSpPr/>
            <p:nvPr/>
          </p:nvSpPr>
          <p:spPr>
            <a:xfrm>
              <a:off x="5462640" y="1676520"/>
              <a:ext cx="1822680" cy="901440"/>
            </a:xfrm>
            <a:prstGeom prst="rect">
              <a:avLst/>
            </a:prstGeom>
            <a:noFill/>
            <a:ln w="255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306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200" spc="-1" strike="noStrike">
                  <a:solidFill>
                    <a:srgbClr val="0000cc"/>
                  </a:solidFill>
                  <a:latin typeface="Tahoma"/>
                  <a:ea typeface="Arial"/>
                </a:rPr>
                <a:t>Protocolos por día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464440" y="2692440"/>
              <a:ext cx="1822320" cy="533520"/>
            </a:xfrm>
            <a:prstGeom prst="rect">
              <a:avLst/>
            </a:prstGeom>
            <a:noFill/>
            <a:ln w="255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306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9900cc"/>
                  </a:solidFill>
                  <a:latin typeface="Tahoma"/>
                  <a:ea typeface="Arial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306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464440" y="3341520"/>
              <a:ext cx="1822320" cy="533520"/>
            </a:xfrm>
            <a:prstGeom prst="rect">
              <a:avLst/>
            </a:prstGeom>
            <a:noFill/>
            <a:ln w="255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306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9900cc"/>
                  </a:solidFill>
                  <a:latin typeface="Tahoma"/>
                  <a:ea typeface="Arial"/>
                </a:rPr>
                <a:t>1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464440" y="3989520"/>
              <a:ext cx="1822320" cy="533160"/>
            </a:xfrm>
            <a:prstGeom prst="rect">
              <a:avLst/>
            </a:prstGeom>
            <a:noFill/>
            <a:ln w="255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306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9900cc"/>
                  </a:solidFill>
                  <a:latin typeface="Tahoma"/>
                  <a:ea typeface="Arial"/>
                </a:rPr>
                <a:t>3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5464440" y="4638600"/>
              <a:ext cx="1822320" cy="533520"/>
            </a:xfrm>
            <a:prstGeom prst="rect">
              <a:avLst/>
            </a:prstGeom>
            <a:noFill/>
            <a:ln w="255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306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9900cc"/>
                  </a:solidFill>
                  <a:latin typeface="Tahoma"/>
                  <a:ea typeface="Arial"/>
                </a:rPr>
                <a:t>4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1371600" y="264960"/>
            <a:ext cx="6172200" cy="4899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66"/>
                </a:solidFill>
                <a:latin typeface="Tahoma"/>
              </a:rPr>
              <a:t>Población atendid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01520" y="216000"/>
            <a:ext cx="1155960" cy="5778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1371600" y="762120"/>
            <a:ext cx="7772400" cy="0"/>
          </a:xfrm>
          <a:prstGeom prst="line">
            <a:avLst/>
          </a:prstGeom>
          <a:ln w="284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11360" y="1994040"/>
            <a:ext cx="7696080" cy="3886200"/>
          </a:xfrm>
          <a:prstGeom prst="rect">
            <a:avLst/>
          </a:prstGeom>
          <a:gradFill rotWithShape="0">
            <a:gsLst>
              <a:gs pos="0">
                <a:srgbClr val="ddf0fe"/>
              </a:gs>
              <a:gs pos="100000">
                <a:srgbClr val="cc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604800" y="892080"/>
          <a:ext cx="7967880" cy="58564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4800" y="892080"/>
                    <a:ext cx="7967880" cy="585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1092240" y="5524560"/>
            <a:ext cx="88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277040" y="5524560"/>
            <a:ext cx="88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20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702400" y="5524560"/>
            <a:ext cx="88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20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191120" y="5524560"/>
            <a:ext cx="88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20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603520" y="5524560"/>
            <a:ext cx="88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20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15920" y="4140360"/>
            <a:ext cx="115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149.8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540160" y="3035160"/>
            <a:ext cx="115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267.90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089240" y="2781360"/>
            <a:ext cx="115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294.93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651640" y="1866960"/>
            <a:ext cx="115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392.37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175520" y="1879560"/>
            <a:ext cx="115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390.05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/>
          <p:nvPr/>
        </p:nvSpPr>
        <p:spPr>
          <a:xfrm>
            <a:off x="1371600" y="264960"/>
            <a:ext cx="6172200" cy="4899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66"/>
                </a:solidFill>
                <a:latin typeface="Tahoma"/>
              </a:rPr>
              <a:t>Conclusion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6" name="" descr=""/>
          <p:cNvPicPr/>
          <p:nvPr/>
        </p:nvPicPr>
        <p:blipFill>
          <a:blip r:embed="rId1"/>
          <a:stretch/>
        </p:blipFill>
        <p:spPr>
          <a:xfrm>
            <a:off x="101520" y="216000"/>
            <a:ext cx="1155960" cy="577800"/>
          </a:xfrm>
          <a:prstGeom prst="rect">
            <a:avLst/>
          </a:prstGeom>
          <a:ln w="0">
            <a:noFill/>
          </a:ln>
        </p:spPr>
      </p:pic>
      <p:sp>
        <p:nvSpPr>
          <p:cNvPr id="457" name=""/>
          <p:cNvSpPr/>
          <p:nvPr/>
        </p:nvSpPr>
        <p:spPr>
          <a:xfrm>
            <a:off x="1371600" y="762120"/>
            <a:ext cx="7772400" cy="0"/>
          </a:xfrm>
          <a:prstGeom prst="line">
            <a:avLst/>
          </a:prstGeom>
          <a:ln w="284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909720" y="2490840"/>
            <a:ext cx="8234280" cy="10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375"/>
              </a:spcBef>
              <a:buClr>
                <a:srgbClr val="ff0000"/>
              </a:buClr>
              <a:buSzPct val="1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  <a:ea typeface="Arial"/>
              </a:rPr>
              <a:t>  </a:t>
            </a:r>
            <a:r>
              <a:rPr b="0" lang="en-US" sz="2200" spc="-1" strike="noStrike">
                <a:solidFill>
                  <a:srgbClr val="000066"/>
                </a:solidFill>
                <a:latin typeface="Tahoma"/>
                <a:ea typeface="Arial"/>
              </a:rPr>
              <a:t>Escasa atención los riesgos que originan enfermedades relacionadas con el trabajo (higiénicos y ergonómico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909720" y="3514680"/>
            <a:ext cx="7526160" cy="10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375"/>
              </a:spcBef>
              <a:buClr>
                <a:srgbClr val="ff0000"/>
              </a:buClr>
              <a:buSzPct val="1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  <a:ea typeface="Arial"/>
              </a:rPr>
              <a:t> </a:t>
            </a:r>
            <a:r>
              <a:rPr b="0" lang="en-US" sz="2200" spc="-1" strike="noStrike">
                <a:solidFill>
                  <a:srgbClr val="000066"/>
                </a:solidFill>
                <a:latin typeface="Tahoma"/>
                <a:ea typeface="Arial"/>
              </a:rPr>
              <a:t>Evaluaciones incompletas o deficientes de este tipo de riesgos específic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909720" y="4538520"/>
            <a:ext cx="7526160" cy="10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375"/>
              </a:spcBef>
              <a:buClr>
                <a:srgbClr val="ff0000"/>
              </a:buClr>
              <a:buSzPct val="1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  <a:ea typeface="Arial"/>
              </a:rPr>
              <a:t> </a:t>
            </a:r>
            <a:r>
              <a:rPr b="0" lang="en-US" sz="2200" spc="-1" strike="noStrike">
                <a:solidFill>
                  <a:srgbClr val="000066"/>
                </a:solidFill>
                <a:latin typeface="Tahoma"/>
                <a:ea typeface="Arial"/>
              </a:rPr>
              <a:t>Formación de base inadecuada de algunos técnicos en estas materi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909720" y="5562720"/>
            <a:ext cx="8234280" cy="10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375"/>
              </a:spcBef>
              <a:buClr>
                <a:srgbClr val="ff0000"/>
              </a:buClr>
              <a:buSzPct val="1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  <a:ea typeface="Arial"/>
              </a:rPr>
              <a:t> </a:t>
            </a:r>
            <a:r>
              <a:rPr b="0" lang="en-US" sz="2200" spc="-1" strike="noStrike">
                <a:solidFill>
                  <a:srgbClr val="000066"/>
                </a:solidFill>
                <a:latin typeface="Tahoma"/>
                <a:ea typeface="Arial"/>
              </a:rPr>
              <a:t>Elevado costo para la evaluación de estos riesgos específic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909720" y="809640"/>
            <a:ext cx="8005680" cy="162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375"/>
              </a:spcBef>
              <a:buClr>
                <a:srgbClr val="ff0000"/>
              </a:buClr>
              <a:buSzPct val="1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  <a:ea typeface="Arial"/>
              </a:rPr>
              <a:t>  </a:t>
            </a:r>
            <a:r>
              <a:rPr b="0" lang="en-US" sz="2200" spc="-1" strike="noStrike">
                <a:solidFill>
                  <a:srgbClr val="000066"/>
                </a:solidFill>
                <a:latin typeface="Tahoma"/>
                <a:ea typeface="Arial"/>
              </a:rPr>
              <a:t>En general, se aprecia una evolución favorable de los servicios de prevención desde el punto de vista cuantitativo (población atendida, técnicos, protocolos específicos de vigilancia de salud atendidos, etc)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6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9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8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0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0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60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" descr=""/>
          <p:cNvPicPr/>
          <p:nvPr/>
        </p:nvPicPr>
        <p:blipFill>
          <a:blip r:embed="rId1"/>
          <a:stretch/>
        </p:blipFill>
        <p:spPr>
          <a:xfrm>
            <a:off x="2552760" y="2460600"/>
            <a:ext cx="4068720" cy="19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4" name="" descr=""/>
          <p:cNvPicPr/>
          <p:nvPr/>
        </p:nvPicPr>
        <p:blipFill>
          <a:blip r:embed="rId1"/>
          <a:stretch/>
        </p:blipFill>
        <p:spPr>
          <a:xfrm>
            <a:off x="2552760" y="2460600"/>
            <a:ext cx="4068720" cy="19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371600" y="264960"/>
            <a:ext cx="5715000" cy="8859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66"/>
                </a:solidFill>
                <a:latin typeface="Tahoma"/>
              </a:rPr>
              <a:t>Técnicos nivel superior (40h/semana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1520" y="216000"/>
            <a:ext cx="1155960" cy="5778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1371600" y="762120"/>
            <a:ext cx="7772400" cy="0"/>
          </a:xfrm>
          <a:prstGeom prst="line">
            <a:avLst/>
          </a:prstGeom>
          <a:ln w="284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11360" y="1994040"/>
            <a:ext cx="7696080" cy="3886200"/>
          </a:xfrm>
          <a:prstGeom prst="rect">
            <a:avLst/>
          </a:prstGeom>
          <a:gradFill rotWithShape="0">
            <a:gsLst>
              <a:gs pos="0">
                <a:srgbClr val="ddf0fe"/>
              </a:gs>
              <a:gs pos="100000">
                <a:srgbClr val="00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604800" y="892080"/>
          <a:ext cx="7967880" cy="58564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4800" y="892080"/>
                    <a:ext cx="7967880" cy="585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" name=""/>
          <p:cNvSpPr/>
          <p:nvPr/>
        </p:nvSpPr>
        <p:spPr>
          <a:xfrm>
            <a:off x="1092240" y="5524560"/>
            <a:ext cx="88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277040" y="5524560"/>
            <a:ext cx="88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20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02400" y="5524560"/>
            <a:ext cx="88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20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191120" y="5524560"/>
            <a:ext cx="88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20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603520" y="5524560"/>
            <a:ext cx="88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20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015920" y="318780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28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65360" y="312408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28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089240" y="2502000"/>
            <a:ext cx="101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36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676840" y="2209680"/>
            <a:ext cx="90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3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13680" y="1816200"/>
            <a:ext cx="90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44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371600" y="264960"/>
            <a:ext cx="6172200" cy="4899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66"/>
                </a:solidFill>
                <a:latin typeface="Tahoma"/>
              </a:rPr>
              <a:t>2005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01520" y="216000"/>
            <a:ext cx="1155960" cy="577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371600" y="762120"/>
            <a:ext cx="7772400" cy="0"/>
          </a:xfrm>
          <a:prstGeom prst="line">
            <a:avLst/>
          </a:prstGeom>
          <a:ln w="284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833560" y="1681200"/>
            <a:ext cx="1389240" cy="9018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1306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66"/>
                </a:solidFill>
                <a:latin typeface="Tahoma"/>
                <a:ea typeface="Arial"/>
              </a:rPr>
              <a:t>Númer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0280" y="2709720"/>
            <a:ext cx="2212920" cy="53352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66"/>
                </a:solidFill>
                <a:latin typeface="Tahoma"/>
              </a:rPr>
              <a:t>Propi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833560" y="2697120"/>
            <a:ext cx="1389240" cy="533520"/>
          </a:xfrm>
          <a:prstGeom prst="rect">
            <a:avLst/>
          </a:prstGeom>
          <a:solidFill>
            <a:srgbClr val="cbd4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06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Tahoma"/>
                <a:ea typeface="Arial"/>
              </a:rPr>
              <a:t>4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30280" y="3370320"/>
            <a:ext cx="2212920" cy="53352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66"/>
                </a:solidFill>
                <a:latin typeface="Tahoma"/>
              </a:rPr>
              <a:t>Mancomunad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833560" y="3346560"/>
            <a:ext cx="1389240" cy="533160"/>
          </a:xfrm>
          <a:prstGeom prst="rect">
            <a:avLst/>
          </a:prstGeom>
          <a:solidFill>
            <a:srgbClr val="cbd4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06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Tahoma"/>
                <a:ea typeface="Arial"/>
              </a:rPr>
              <a:t>1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0280" y="4008600"/>
            <a:ext cx="2212920" cy="5331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99ccff"/>
                </a:solidFill>
                <a:latin typeface="Tahoma"/>
              </a:rPr>
              <a:t>C.A. de Murci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833560" y="3995640"/>
            <a:ext cx="1389240" cy="533520"/>
          </a:xfrm>
          <a:prstGeom prst="rect">
            <a:avLst/>
          </a:prstGeom>
          <a:solidFill>
            <a:srgbClr val="cbd4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06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Tahoma"/>
                <a:ea typeface="Arial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30280" y="4643280"/>
            <a:ext cx="2212920" cy="5335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99ccff"/>
                </a:solidFill>
                <a:latin typeface="Tahoma"/>
              </a:rPr>
              <a:t>Otras C.C. A.A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833560" y="4645080"/>
            <a:ext cx="1389240" cy="533520"/>
          </a:xfrm>
          <a:prstGeom prst="rect">
            <a:avLst/>
          </a:prstGeom>
          <a:solidFill>
            <a:srgbClr val="cbd4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06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Tahoma"/>
                <a:ea typeface="Arial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305240" y="1676520"/>
            <a:ext cx="1389240" cy="9014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1306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66"/>
                </a:solidFill>
                <a:latin typeface="Tahoma"/>
                <a:ea typeface="Arial"/>
              </a:rPr>
              <a:t>Población atendid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307040" y="2692440"/>
            <a:ext cx="1388880" cy="533520"/>
          </a:xfrm>
          <a:prstGeom prst="rect">
            <a:avLst/>
          </a:prstGeom>
          <a:solidFill>
            <a:srgbClr val="cbd4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06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Tahoma"/>
                <a:ea typeface="Arial"/>
              </a:rPr>
              <a:t>64.7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307040" y="3341520"/>
            <a:ext cx="1388880" cy="533520"/>
          </a:xfrm>
          <a:prstGeom prst="rect">
            <a:avLst/>
          </a:prstGeom>
          <a:solidFill>
            <a:srgbClr val="cbd4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06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Tahoma"/>
                <a:ea typeface="Arial"/>
              </a:rPr>
              <a:t>31.07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307040" y="3989520"/>
            <a:ext cx="1388880" cy="533160"/>
          </a:xfrm>
          <a:prstGeom prst="rect">
            <a:avLst/>
          </a:prstGeom>
          <a:solidFill>
            <a:srgbClr val="cbd4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06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Tahoma"/>
                <a:ea typeface="Arial"/>
              </a:rPr>
              <a:t>162.6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307040" y="4638600"/>
            <a:ext cx="1388880" cy="533520"/>
          </a:xfrm>
          <a:prstGeom prst="rect">
            <a:avLst/>
          </a:prstGeom>
          <a:solidFill>
            <a:srgbClr val="cbd4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06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Tahoma"/>
                <a:ea typeface="Arial"/>
              </a:rPr>
              <a:t>131.6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5773680" y="1685880"/>
            <a:ext cx="1389240" cy="3483000"/>
            <a:chOff x="5773680" y="1685880"/>
            <a:chExt cx="1389240" cy="3483000"/>
          </a:xfrm>
        </p:grpSpPr>
        <p:sp>
          <p:nvSpPr>
            <p:cNvPr id="115" name=""/>
            <p:cNvSpPr/>
            <p:nvPr/>
          </p:nvSpPr>
          <p:spPr>
            <a:xfrm>
              <a:off x="5773680" y="1685880"/>
              <a:ext cx="1389240" cy="9018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306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200" spc="-1" strike="noStrike">
                  <a:solidFill>
                    <a:srgbClr val="000066"/>
                  </a:solidFill>
                  <a:latin typeface="Tahoma"/>
                  <a:ea typeface="Arial"/>
                </a:rPr>
                <a:t>Técnico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773680" y="2698920"/>
              <a:ext cx="1389240" cy="533160"/>
            </a:xfrm>
            <a:prstGeom prst="rect">
              <a:avLst/>
            </a:prstGeom>
            <a:solidFill>
              <a:srgbClr val="cbd4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306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66"/>
                  </a:solidFill>
                  <a:latin typeface="Tahoma"/>
                  <a:ea typeface="Arial"/>
                </a:rPr>
                <a:t>1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773680" y="3344760"/>
              <a:ext cx="1389240" cy="533520"/>
            </a:xfrm>
            <a:prstGeom prst="rect">
              <a:avLst/>
            </a:prstGeom>
            <a:solidFill>
              <a:srgbClr val="cbd4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306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66"/>
                  </a:solidFill>
                  <a:latin typeface="Tahoma"/>
                  <a:ea typeface="Arial"/>
                </a:rPr>
                <a:t>4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773680" y="3989520"/>
              <a:ext cx="1389240" cy="533160"/>
            </a:xfrm>
            <a:prstGeom prst="rect">
              <a:avLst/>
            </a:prstGeom>
            <a:solidFill>
              <a:srgbClr val="cbd4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306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66"/>
                  </a:solidFill>
                  <a:latin typeface="Tahoma"/>
                  <a:ea typeface="Arial"/>
                </a:rPr>
                <a:t>2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773680" y="4635360"/>
              <a:ext cx="1389240" cy="533520"/>
            </a:xfrm>
            <a:prstGeom prst="rect">
              <a:avLst/>
            </a:prstGeom>
            <a:solidFill>
              <a:srgbClr val="cbd4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306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66"/>
                  </a:solidFill>
                  <a:latin typeface="Tahoma"/>
                  <a:ea typeface="Arial"/>
                </a:rPr>
                <a:t>8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7254720" y="1681200"/>
            <a:ext cx="1389240" cy="3483000"/>
            <a:chOff x="7254720" y="1681200"/>
            <a:chExt cx="1389240" cy="3483000"/>
          </a:xfrm>
        </p:grpSpPr>
        <p:sp>
          <p:nvSpPr>
            <p:cNvPr id="121" name=""/>
            <p:cNvSpPr/>
            <p:nvPr/>
          </p:nvSpPr>
          <p:spPr>
            <a:xfrm>
              <a:off x="7254720" y="1681200"/>
              <a:ext cx="1389240" cy="901800"/>
            </a:xfrm>
            <a:prstGeom prst="rect">
              <a:avLst/>
            </a:prstGeom>
            <a:noFill/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306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200" spc="-1" strike="noStrike">
                  <a:solidFill>
                    <a:srgbClr val="9900cc"/>
                  </a:solidFill>
                  <a:latin typeface="Tahoma"/>
                  <a:ea typeface="Arial"/>
                </a:rPr>
                <a:t>Trab/Téc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254720" y="2693880"/>
              <a:ext cx="1389240" cy="533520"/>
            </a:xfrm>
            <a:prstGeom prst="rect">
              <a:avLst/>
            </a:prstGeom>
            <a:noFill/>
            <a:ln w="93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306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9900cc"/>
                  </a:solidFill>
                  <a:latin typeface="Tahoma"/>
                  <a:ea typeface="Arial"/>
                </a:rPr>
                <a:t>62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254720" y="3340080"/>
              <a:ext cx="1389240" cy="533520"/>
            </a:xfrm>
            <a:prstGeom prst="rect">
              <a:avLst/>
            </a:prstGeom>
            <a:noFill/>
            <a:ln w="93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306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9900cc"/>
                  </a:solidFill>
                  <a:latin typeface="Tahoma"/>
                  <a:ea typeface="Arial"/>
                </a:rPr>
                <a:t>63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254720" y="3984480"/>
              <a:ext cx="1389240" cy="533520"/>
            </a:xfrm>
            <a:prstGeom prst="rect">
              <a:avLst/>
            </a:prstGeom>
            <a:noFill/>
            <a:ln w="93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306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9900cc"/>
                  </a:solidFill>
                  <a:latin typeface="Tahoma"/>
                  <a:ea typeface="Arial"/>
                </a:rPr>
                <a:t>8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254720" y="4630680"/>
              <a:ext cx="1389240" cy="533520"/>
            </a:xfrm>
            <a:prstGeom prst="rect">
              <a:avLst/>
            </a:prstGeom>
            <a:noFill/>
            <a:ln w="93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306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9900cc"/>
                  </a:solidFill>
                  <a:latin typeface="Tahoma"/>
                  <a:ea typeface="Arial"/>
                </a:rPr>
                <a:t>1.51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371600" y="264960"/>
            <a:ext cx="6629400" cy="8859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66"/>
                </a:solidFill>
                <a:latin typeface="Tahoma"/>
              </a:rPr>
              <a:t>Técnicos nivel superior 2005 (40h/semana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01520" y="216000"/>
            <a:ext cx="1155960" cy="57780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1371600" y="762120"/>
            <a:ext cx="7772400" cy="0"/>
          </a:xfrm>
          <a:prstGeom prst="line">
            <a:avLst/>
          </a:prstGeom>
          <a:ln w="284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533520" y="1676520"/>
          <a:ext cx="8010360" cy="47433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520" y="1676520"/>
                    <a:ext cx="8010360" cy="474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"/>
          <p:cNvSpPr/>
          <p:nvPr/>
        </p:nvSpPr>
        <p:spPr>
          <a:xfrm>
            <a:off x="2286000" y="12193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99"/>
                </a:solidFill>
                <a:latin typeface="Tahoma"/>
              </a:rPr>
              <a:t>Seguridad en el Trabaj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1371600" y="264960"/>
            <a:ext cx="6629400" cy="8859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66"/>
                </a:solidFill>
                <a:latin typeface="Tahoma"/>
              </a:rPr>
              <a:t>Técnicos nivel superior 2005 (40h/semana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01520" y="216000"/>
            <a:ext cx="1155960" cy="5778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1371600" y="762120"/>
            <a:ext cx="7772400" cy="0"/>
          </a:xfrm>
          <a:prstGeom prst="line">
            <a:avLst/>
          </a:prstGeom>
          <a:ln w="284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533520" y="1676520"/>
          <a:ext cx="8010360" cy="47433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520" y="1676520"/>
                    <a:ext cx="8010360" cy="474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7" name=""/>
          <p:cNvSpPr/>
          <p:nvPr/>
        </p:nvSpPr>
        <p:spPr>
          <a:xfrm>
            <a:off x="2514600" y="121932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99"/>
                </a:solidFill>
                <a:latin typeface="Tahoma"/>
              </a:rPr>
              <a:t>Higiene Indust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371600" y="264960"/>
            <a:ext cx="6629400" cy="8859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66"/>
                </a:solidFill>
                <a:latin typeface="Tahoma"/>
              </a:rPr>
              <a:t>Técnicos nivel superior 2005 (40h/semana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01520" y="216000"/>
            <a:ext cx="1155960" cy="5778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1371600" y="762120"/>
            <a:ext cx="7772400" cy="0"/>
          </a:xfrm>
          <a:prstGeom prst="line">
            <a:avLst/>
          </a:prstGeom>
          <a:ln w="284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533520" y="1676520"/>
          <a:ext cx="8010360" cy="47433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520" y="1676520"/>
                    <a:ext cx="8010360" cy="474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3" name=""/>
          <p:cNvSpPr/>
          <p:nvPr/>
        </p:nvSpPr>
        <p:spPr>
          <a:xfrm>
            <a:off x="2286000" y="12193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99"/>
                </a:solidFill>
                <a:latin typeface="Tahoma"/>
              </a:rPr>
              <a:t>Ergonomía y Psicosociolog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1371600" y="264960"/>
            <a:ext cx="6629400" cy="4899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66"/>
                </a:solidFill>
                <a:latin typeface="Tahoma"/>
              </a:rPr>
              <a:t>Técnicos nivel intermedio (40h/semana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01520" y="216000"/>
            <a:ext cx="1155960" cy="57780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1371600" y="762120"/>
            <a:ext cx="7772400" cy="0"/>
          </a:xfrm>
          <a:prstGeom prst="line">
            <a:avLst/>
          </a:prstGeom>
          <a:ln w="284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1994040"/>
            <a:ext cx="7696080" cy="3886200"/>
          </a:xfrm>
          <a:prstGeom prst="rect">
            <a:avLst/>
          </a:prstGeom>
          <a:gradFill rotWithShape="0">
            <a:gsLst>
              <a:gs pos="0">
                <a:srgbClr val="ddf0fe"/>
              </a:gs>
              <a:gs pos="100000">
                <a:srgbClr val="00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609480" y="892080"/>
          <a:ext cx="7967880" cy="58564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892080"/>
                    <a:ext cx="7967880" cy="585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" name=""/>
          <p:cNvSpPr/>
          <p:nvPr/>
        </p:nvSpPr>
        <p:spPr>
          <a:xfrm>
            <a:off x="1092240" y="5524560"/>
            <a:ext cx="88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277040" y="5524560"/>
            <a:ext cx="88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20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02400" y="5524560"/>
            <a:ext cx="88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20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191120" y="5524560"/>
            <a:ext cx="88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20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603520" y="5524560"/>
            <a:ext cx="88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20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015920" y="433080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565360" y="391176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089240" y="3060720"/>
            <a:ext cx="101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676840" y="3073320"/>
            <a:ext cx="90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213680" y="2019240"/>
            <a:ext cx="90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9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10:57:44Z</dcterms:created>
  <dc:creator>.</dc:creator>
  <dc:description/>
  <dc:language>en-US</dc:language>
  <cp:lastModifiedBy>.</cp:lastModifiedBy>
  <dcterms:modified xsi:type="dcterms:W3CDTF">2007-03-02T14:48:32Z</dcterms:modified>
  <cp:revision>107</cp:revision>
  <dc:subject/>
  <dc:title>Presentación de PowerPoint</dc:title>
</cp:coreProperties>
</file>