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4825"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E0DEF-574C-4C2C-B9F7-C24BA8393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E24B7-C47C-41D6-8FF2-80682F0E5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7DCE0-E70C-4F21-9CF1-8CE4D421C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01E6D-561F-4ACE-AA87-088FEC4D1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FFE90-E54B-4739-8096-11263C868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388C2-3793-4E8D-AB06-735936999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F5110-6909-4013-9214-65BCEAC26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6D283-95F7-471C-A1ED-10426CA3D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D662E-2719-45E8-98F4-56A460193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BE8C5-33A3-4838-901C-7AEC4271F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3F0F5-7D12-44C3-9A77-A10057181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3A1C0-9356-4148-BEB5-1511D6A43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D6CA-3EB6-421A-8021-EB008D4A3C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álisis de la normativa de la Región de Murcia sobre andamios apoyados</a:t>
            </a:r>
            <a:endParaRPr b="0" lang="en-US" sz="4400" spc="-1" strike="noStrike">
              <a:solidFill>
                <a:srgbClr val="000000"/>
              </a:solidFill>
              <a:latin typeface="Times New Roman"/>
            </a:endParaRPr>
          </a:p>
        </p:txBody>
      </p:sp>
      <p:sp>
        <p:nvSpPr>
          <p:cNvPr id="42" name=""/>
          <p:cNvSpPr/>
          <p:nvPr/>
        </p:nvSpPr>
        <p:spPr>
          <a:xfrm>
            <a:off x="228600" y="228600"/>
            <a:ext cx="83059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º Congreso PREVENCIÓN DE RIESGOS LABORAL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ón de Murcia</a:t>
            </a:r>
            <a:endParaRPr b="0" lang="en-US" sz="2400" spc="-1" strike="noStrike">
              <a:solidFill>
                <a:srgbClr val="000000"/>
              </a:solidFill>
              <a:latin typeface="Times New Roman"/>
            </a:endParaRPr>
          </a:p>
        </p:txBody>
      </p:sp>
      <p:sp>
        <p:nvSpPr>
          <p:cNvPr id="43" name=""/>
          <p:cNvSpPr/>
          <p:nvPr/>
        </p:nvSpPr>
        <p:spPr>
          <a:xfrm>
            <a:off x="2819520" y="4191120"/>
            <a:ext cx="3504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 descr=""/>
          <p:cNvPicPr/>
          <p:nvPr/>
        </p:nvPicPr>
        <p:blipFill>
          <a:blip r:embed="rId1"/>
          <a:stretch/>
        </p:blipFill>
        <p:spPr>
          <a:xfrm>
            <a:off x="2050920" y="4292640"/>
            <a:ext cx="5112000" cy="21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0" y="0"/>
          <a:ext cx="9144000" cy="6913440"/>
        </p:xfrm>
        <a:graphic>
          <a:graphicData uri="http://schemas.openxmlformats.org/drawingml/2006/table">
            <a:tbl>
              <a:tblPr/>
              <a:tblGrid>
                <a:gridCol w="1879560"/>
                <a:gridCol w="726444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ón quincenal documentada:</a:t>
                      </a:r>
                      <a:br>
                        <a:rPr sz="2000"/>
                      </a:br>
                      <a:r>
                        <a:rPr b="0" lang="en-US" sz="2000" spc="-1" strike="noStrike">
                          <a:solidFill>
                            <a:srgbClr val="000000"/>
                          </a:solidFill>
                          <a:latin typeface="Arial"/>
                        </a:rPr>
                        <a:t>La empresa usuaria revisará quincenalmente el andamio para comprobar que se mantienen las condiciones de instalación de éste, debiendo quedar ello debidamente documentad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 vez instalado el andamio, y con carácter previo  a su utilización, el Coordinador de Seguridad y Salud Laboral en fase de ejecución deberá emitir certificado sobre la idoneidad del uso y montaje del mismo (según el modelo oficial de certificado que figura como anexo de la Orden de la Consejería. BORM 6/5/4)</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supuesto de que el montaje del andamio tubular sea efectuado por una empresa especializada dedicada a dicha actividad, la citada certificación podrá ser emitida por técnico competente de la misma.</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realizarán  comprobaciones adicionales, supervisadas por el Coordinador de Seguridad cada vez que se produzcan  acontecimientos excepcionales tales com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66ffff"/>
                    </a:solidFill>
                  </a:tcPr>
                </a:tc>
              </a:tr>
              <a:tr h="6940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ción del Coordinador de Segurida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0" y="0"/>
          <a:ext cx="9144000" cy="6858000"/>
        </p:xfrm>
        <a:graphic>
          <a:graphicData uri="http://schemas.openxmlformats.org/drawingml/2006/table">
            <a:tbl>
              <a:tblPr/>
              <a:tblGrid>
                <a:gridCol w="1879560"/>
                <a:gridCol w="7264440"/>
              </a:tblGrid>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ción del Coordinador de Segurida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aciones, accidentes, fenómenos naturales, períodos de no utilización superiores a 30 días o cualquier otra circunstancia similar que pueda afectar a la resistencia o estabilidad del andamio, debiendo quedar todo ello debidamente documentad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caso de montaje del andamio en un nuevo lugar o emplazamiento en la obra, el Coordinador de Seguridad emitirá un nuevo certificado de idoneidad del andamio, similar al que realizó (antes de la utilización del andamio) cuando éste estaba situado en el lugar anterior de utilización en la obra.</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erá necesario que se emita este nuevo certificado en el caso de andamios móviles siempre que:</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 cambio de lugar de los mismos no implique introducir modificaciones en ésto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e la superficie de apoyo sea la misma que para la que se ha certificado el andami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66ffff"/>
                    </a:solidFill>
                  </a:tcPr>
                </a:tc>
              </a:tr>
              <a:tr h="6267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152280"/>
            <a:ext cx="8915400" cy="654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ara terminar:</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on tantos los requisitos exigidos por las dos normas (especialmente por el RD), que o se usan andamio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fabricados bajo una norma industrial.</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que dispongan de nota de cálculo emitida por el fabricante.</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que la configuración prevista esté incluída en la nota de cálcul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que estén montados conforme a una configuración tip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Cada cuadrilla de albañiles deberá ir acompañada de un Ingeniero Industrial que deberá ir realizando planes de montaje, utilización y desmontaje,...y que vaya efectuando cálculos de resistencia y estabi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826920" y="1989000"/>
            <a:ext cx="7236000" cy="3006720"/>
          </a:xfrm>
          <a:prstGeom prst="rect">
            <a:avLst/>
          </a:prstGeom>
          <a:ln w="0">
            <a:noFill/>
          </a:ln>
        </p:spPr>
      </p:pic>
      <p:sp>
        <p:nvSpPr>
          <p:cNvPr id="63" name=""/>
          <p:cNvSpPr/>
          <p:nvPr/>
        </p:nvSpPr>
        <p:spPr>
          <a:xfrm>
            <a:off x="468360" y="549360"/>
            <a:ext cx="532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ias por su aten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52280" y="304560"/>
            <a:ext cx="8763120" cy="60958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Región de Murcia, a diferencia de otras Comunidades Autónomas españolas, son de aplicación dos normas fundamentales  sobre andamio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3333cc"/>
                </a:solidFill>
                <a:latin typeface="Arial"/>
              </a:rPr>
              <a:t>Una norma autonómica</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La Orden de 22 de abril de 2.004 de la Consejería de Trabajo, Consumo y Política Social, por la que se regulan requisitos mínimos exigibles para el uso, montaje y desmontaje y mantenimiento de los andamios tubulares en la Comunidad Autónoma de Murci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n-US" sz="2000" spc="-1" strike="noStrike">
                <a:solidFill>
                  <a:srgbClr val="ff3300"/>
                </a:solidFill>
                <a:latin typeface="Arial"/>
              </a:rPr>
              <a:t>Una norma nacional</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l Real Decreto 2.177/2.004, de 12 de noviembre, por el que se modifica el Real Decreto 1.215/1.997, de 18 de julio, por el que se establecen las disposiciones mínimas de seguridad y salud para la utilización por los trabajadores de los equipos de trabajo, en materia de trabajos temporales de altur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Además, en la Región de Murcia, como en el resto de España hay otras tres normas legales no específicas de andamios, pero cuyo articulado afecta a los andamio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Real Decreto 1.627/1.997, de 24 de octubre, sobre disposiciones mínimas de seguridad y salud en las obras de construcción. Punto 5, parte C, anexo IV.</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Ley 31/1.995 de Prevención de Riesgos Laborales, art. 41.1 párrafo 2º.</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Ordenanza de la Construcción, Vidrio y Cerámica, art. 210.</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ero este tarde solo nos vamos a centrar en analizar las dos normas fundamentales sobre andamios, citadas anteriormente:</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
          <p:cNvSpPr/>
          <p:nvPr/>
        </p:nvSpPr>
        <p:spPr>
          <a:xfrm>
            <a:off x="0" y="3605040"/>
            <a:ext cx="914400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a norma autonómica</a:t>
            </a:r>
            <a:endParaRPr b="0" lang="en-US" sz="1800" spc="-1" strike="noStrike">
              <a:solidFill>
                <a:srgbClr val="000000"/>
              </a:solidFill>
              <a:latin typeface="Times New Roman"/>
            </a:endParaRPr>
          </a:p>
          <a:p>
            <a:pPr>
              <a:lnSpc>
                <a:spcPct val="100000"/>
              </a:lnSpc>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Orden de 22 de abril de 2.004 de la Consejería de Trabajo, Consumo y Política Social, por la que se regulan requisitos mínimos exigibles para el uso, montaje y desmontaje y mantenimiento de los andamios tubulares en la Comunidad Autónoma de Murci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a norma nacional</a:t>
            </a:r>
            <a:endParaRPr b="0" lang="en-US" sz="1800" spc="-1" strike="noStrike">
              <a:solidFill>
                <a:srgbClr val="000000"/>
              </a:solidFill>
              <a:latin typeface="Times New Roman"/>
            </a:endParaRPr>
          </a:p>
          <a:p>
            <a:pPr>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eal Decreto 2.177/2.004, de 12 de noviembre, por el que se modifica el Real Decreto 1.215/1.997, de 18 de julio, por el que se establecen las disposiciones mínimas de seguridad y salud para la utilización por los trabajadores de los equipos de trabajo, en materia de trabajos temporales de altu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0"/>
            <a:ext cx="9144000" cy="6858000"/>
          </a:xfrm>
          <a:prstGeom prst="rect">
            <a:avLst/>
          </a:prstGeom>
          <a:solidFill>
            <a:srgbClr val="ffff99"/>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Cuando el contenido de dos normas se contrapone, prima la de rango superior sobre la de rango inferior.</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l Real Decreto  sobre andamios “manda mas” que la Orden de una Consejerí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6763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Murci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 USUARIOS DE LOS ANDAMIOS TENDREMOS QUE TENER EN CUENTA LAS DOS NORMAS (LA NACIONAL Y LA AUTONÓMIC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O EN AQUELLOS PUNTOS EN LOS CUALES LAS DOS NORMAS SE CONTRADIGAN PREVALECERÁ EL CONTENIDO DEL REAL DECRETO SOBRE LA ORDEN DE LA CONSEJERÍA.</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0"/>
            <a:ext cx="9144000" cy="6858000"/>
          </a:xfrm>
          <a:prstGeom prst="rect">
            <a:avLst/>
          </a:prstGeom>
          <a:solidFill>
            <a:srgbClr val="66ffff"/>
          </a:solid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ál es la diferencia fundamental que hay entre las dos normas?</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51" name=""/>
          <p:cNvSpPr/>
          <p:nvPr/>
        </p:nvSpPr>
        <p:spPr>
          <a:xfrm>
            <a:off x="3276720" y="1600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2" name=""/>
          <p:cNvSpPr/>
          <p:nvPr/>
        </p:nvSpPr>
        <p:spPr>
          <a:xfrm>
            <a:off x="1676520" y="1447920"/>
            <a:ext cx="5181480" cy="46710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 la norma nacional no regula sobre los andamios de </a:t>
            </a:r>
            <a:r>
              <a:rPr b="1" lang="en-US" sz="2800" spc="-1" strike="noStrike" u="sng">
                <a:solidFill>
                  <a:srgbClr val="000000"/>
                </a:solidFill>
                <a:uFillTx/>
                <a:latin typeface="Arial"/>
              </a:rPr>
              <a:t>menos de 6 metros de altura total y con riesgo de caída de altura total superior a 3 metros</a:t>
            </a:r>
            <a:r>
              <a:rPr b="1" lang="en-US" sz="2800" spc="-1" strike="noStrike">
                <a:solidFill>
                  <a:srgbClr val="000000"/>
                </a:solidFill>
                <a:latin typeface="Arial"/>
              </a:rPr>
              <a:t>, y la norma autonómica si regula esta franja de andamio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0" y="0"/>
            <a:ext cx="9144000" cy="6858000"/>
          </a:xfrm>
          <a:prstGeom prst="rect">
            <a:avLst/>
          </a:prstGeom>
          <a:solidFill>
            <a:srgbClr val="66ffff"/>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La guía de usuario de andamios que hemos realizado en INTERSA la hemos dividido en los siguientes punto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
          <p:cNvSpPr/>
          <p:nvPr/>
        </p:nvSpPr>
        <p:spPr>
          <a:xfrm>
            <a:off x="152280" y="1752480"/>
            <a:ext cx="8763120" cy="43761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sitos a tener en cuenta al COMPRAR.</a:t>
            </a:r>
            <a:endParaRPr b="0" lang="en-US" sz="2800" spc="-1" strike="noStrike">
              <a:solidFill>
                <a:srgbClr val="000000"/>
              </a:solidFill>
              <a:latin typeface="Times New Roman"/>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sitos a tener en cuenta al MONTAR.</a:t>
            </a:r>
            <a:endParaRPr b="0" lang="en-US" sz="2800" spc="-1" strike="noStrike">
              <a:solidFill>
                <a:srgbClr val="000000"/>
              </a:solidFill>
              <a:latin typeface="Times New Roman"/>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sitos a tener en cuenta al UTILIZAR.</a:t>
            </a:r>
            <a:endParaRPr b="0" lang="en-US" sz="2800" spc="-1" strike="noStrike">
              <a:solidFill>
                <a:srgbClr val="000000"/>
              </a:solidFill>
              <a:latin typeface="Times New Roman"/>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sitos a tener en cuenta al DESMONTAR.</a:t>
            </a:r>
            <a:endParaRPr b="0" lang="en-US" sz="2800" spc="-1" strike="noStrike">
              <a:solidFill>
                <a:srgbClr val="000000"/>
              </a:solidFill>
              <a:latin typeface="Times New Roman"/>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sitos a tener en cuenta al ALMACENAR.</a:t>
            </a:r>
            <a:endParaRPr b="0" lang="en-US" sz="2800" spc="-1" strike="noStrike">
              <a:solidFill>
                <a:srgbClr val="000000"/>
              </a:solidFill>
              <a:latin typeface="Times New Roman"/>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sitos de montaje, utilización y desmontaje de andamios que </a:t>
            </a:r>
            <a:r>
              <a:rPr b="1" lang="en-US" sz="2800" spc="-1" strike="noStrike" u="sng">
                <a:solidFill>
                  <a:srgbClr val="000000"/>
                </a:solidFill>
                <a:uFillTx/>
                <a:latin typeface="Arial"/>
              </a:rPr>
              <a:t>no dispongan de nota de cálculo o que la configuración prevista no esté contemplada en ella o no estén montados conforme a una configuración tip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28600" y="228600"/>
            <a:ext cx="8686800" cy="6477120"/>
          </a:xfrm>
          <a:prstGeom prst="rect">
            <a:avLst/>
          </a:prstGeom>
          <a:solidFill>
            <a:srgbClr val="66fff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Cuales son los requisitos, mas destacables, que en la Comunidad Autónoma de Murcia se exige a los andamios de menos de 6 metros. de altura total y con riesgo de caída de altura total superior a 3 metros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762120" y="2133720"/>
            <a:ext cx="7162560" cy="21283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sitos relacionados co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a formación del usuari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as revisiones a efectuar.</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a intervención del Coordinador de Segur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51920" y="228600"/>
            <a:ext cx="8991720" cy="6400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 mas destacabl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58" name=""/>
          <p:cNvGraphicFramePr/>
          <p:nvPr/>
        </p:nvGraphicFramePr>
        <p:xfrm>
          <a:off x="228600" y="838080"/>
          <a:ext cx="8915400" cy="5453280"/>
        </p:xfrm>
        <a:graphic>
          <a:graphicData uri="http://schemas.openxmlformats.org/drawingml/2006/table">
            <a:tbl>
              <a:tblPr/>
              <a:tblGrid>
                <a:gridCol w="1833480"/>
                <a:gridCol w="7081920"/>
              </a:tblGrid>
              <a:tr h="5467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ció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operaciones de montaje/utilización/desmontaje deberán ser realizadas por personal especialmente formado y experimentado, que conocerá los riesgos inherentes a dichas actuaciones y quienes, además, deberán acreditar fehacientemente haber recibido dicha formació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personal de montaje/utilización/desmontaje de andamios deberá recibir , como información, el manual de instrucciones del fabricante, puesto que las operaciones de montaje se realizarán de acuerdo con este manua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 formación e información la podrá recibir este personal de la propia empresa usuaria de los andami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l RD exige, para el montaje, revisión y desmontaje de andamios de mas envergadura, una experiencia certificada por el empresario en esta materia de </a:t>
                      </a:r>
                      <a:r>
                        <a:rPr b="1" lang="en-US" sz="2000" spc="-1" strike="noStrike" u="sng">
                          <a:solidFill>
                            <a:srgbClr val="ff3300"/>
                          </a:solidFill>
                          <a:uFillTx/>
                          <a:latin typeface="Arial"/>
                        </a:rPr>
                        <a:t>mas de dos años</a:t>
                      </a:r>
                      <a:r>
                        <a:rPr b="1" lang="en-US" sz="2000" spc="-1" strike="noStrike">
                          <a:solidFill>
                            <a:srgbClr val="ff3300"/>
                          </a:solidFill>
                          <a:latin typeface="Arial"/>
                        </a:rPr>
                        <a:t> y que cuente con la formación preventiva correspondiente, como mínimo, a las funciones de </a:t>
                      </a:r>
                      <a:r>
                        <a:rPr b="1" lang="en-US" sz="2000" spc="-1" strike="noStrike" u="sng">
                          <a:solidFill>
                            <a:srgbClr val="ff3300"/>
                          </a:solidFill>
                          <a:uFillTx/>
                          <a:latin typeface="Arial"/>
                        </a:rPr>
                        <a:t>nivel básico</a:t>
                      </a:r>
                      <a:r>
                        <a:rPr b="1" lang="en-US" sz="2000" spc="-1" strike="noStrike">
                          <a:solidFill>
                            <a:srgbClr val="ff3300"/>
                          </a:solidFill>
                          <a:latin typeface="Arial"/>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66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0:52:15Z</dcterms:created>
  <dc:creator>Administrador</dc:creator>
  <dc:description/>
  <dc:language>en-US</dc:language>
  <cp:lastModifiedBy>rafa</cp:lastModifiedBy>
  <dcterms:modified xsi:type="dcterms:W3CDTF">2007-02-27T08:55:23Z</dcterms:modified>
  <cp:revision>7</cp:revision>
  <dc:subject/>
  <dc:title>Análisis de la normativa de la Región de Murcia sobre andamios apoyados</dc:title>
</cp:coreProperties>
</file>