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F04-9C01-47F9-B320-37A0F2F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1A3-94AD-40F1-8B61-6AB413B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161-799F-413D-A223-0CC341BE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1BD-AFD8-4585-B40B-73D782F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F03-6A81-43B4-ABC9-E2A5A37D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72D-0841-4FD2-9267-0BE02CA2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74F-46A9-4205-A2DD-DE81551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929-0757-4DF5-B72D-4CCBAF4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3E0-D7C9-4687-99E7-1AF254D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2A2-DED2-49AB-8D48-1DF4C66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E8F-0EDA-4495-ACA1-5156ED8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329-3431-4C15-B109-1A37546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8352-89CB-4B5B-A3F1-16B66CFE1C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olución de las responsabilidades en materia de Prevención en los Ayuntamiento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501300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quel Valldecabres Muñ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rcia, 2 de marzo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sponsabilidades. Concept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3860640"/>
            <a:ext cx="842472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recho                                                    Obl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                                                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4437000"/>
            <a:ext cx="3024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1197000"/>
          <a:ext cx="4902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4902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627280" y="5300640"/>
            <a:ext cx="3024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005360"/>
            <a:ext cx="8135640" cy="18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Responsabilidades en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materia de P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27664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ridad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cargo de Prest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dministr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0:29:01Z</dcterms:created>
  <dc:creator>.</dc:creator>
  <dc:description/>
  <dc:language>en-US</dc:language>
  <cp:lastModifiedBy>.</cp:lastModifiedBy>
  <dcterms:modified xsi:type="dcterms:W3CDTF">2007-02-28T19:36:42Z</dcterms:modified>
  <cp:revision>5</cp:revision>
  <dc:subject/>
  <dc:title>Diapositiva 1</dc:title>
</cp:coreProperties>
</file>