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7DFC-CC8D-4A04-971E-36EB1DF1C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91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240" y="3992040"/>
            <a:ext cx="8991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FD91-3089-4FF3-8E67-EA8735ABF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876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35520" y="1523880"/>
            <a:ext cx="43876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240" y="3992040"/>
            <a:ext cx="43876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35520" y="3992040"/>
            <a:ext cx="43876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55C5-5409-4BFF-982E-37189FF10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289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8440" y="1523880"/>
            <a:ext cx="289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08640" y="1523880"/>
            <a:ext cx="289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240" y="3992040"/>
            <a:ext cx="289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8440" y="3992040"/>
            <a:ext cx="289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08640" y="3992040"/>
            <a:ext cx="289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3348-7082-45D6-B308-A90226F66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87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5520" y="1523880"/>
            <a:ext cx="4387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8991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876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5520" y="1523880"/>
            <a:ext cx="4387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3992040"/>
            <a:ext cx="43876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0908F-E71B-4A12-AA48-3A5672344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87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5520" y="1523880"/>
            <a:ext cx="43876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5520" y="3992040"/>
            <a:ext cx="43876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876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5520" y="1523880"/>
            <a:ext cx="43876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3992040"/>
            <a:ext cx="8991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91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28240" y="3992040"/>
            <a:ext cx="8991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876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5520" y="1523880"/>
            <a:ext cx="43876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28240" y="3992040"/>
            <a:ext cx="43876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5520" y="3992040"/>
            <a:ext cx="43876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289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68440" y="1523880"/>
            <a:ext cx="289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08640" y="1523880"/>
            <a:ext cx="289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28240" y="3992040"/>
            <a:ext cx="289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68440" y="3992040"/>
            <a:ext cx="289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308640" y="3992040"/>
            <a:ext cx="289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F50C-6049-47BC-94B0-7937468A7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87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5520" y="1523880"/>
            <a:ext cx="4387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7E05-4DA6-4C69-ACE8-E19192001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7FC5-D961-4F3C-98C6-8C7CA7620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8991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D53CC-332B-4C89-B428-724CCFB66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876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35520" y="1523880"/>
            <a:ext cx="4387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240" y="3992040"/>
            <a:ext cx="43876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074A-61E0-4DAE-AE71-4CDE8BF07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87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5520" y="1523880"/>
            <a:ext cx="43876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35520" y="3992040"/>
            <a:ext cx="43876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DF3E-C27C-48C6-99E3-AA6DB17CF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876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35520" y="1523880"/>
            <a:ext cx="43876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3992040"/>
            <a:ext cx="8991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647C-9C03-48BD-BAFA-1B7C1E758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mtas.es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hyperlink" Target="http://www.mtas.es/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5238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336699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5f5f5f"/>
              </a:buClr>
              <a:buSzPct val="85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410760" y="0"/>
            <a:ext cx="49536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9372600" y="6462360"/>
            <a:ext cx="4572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7AB0-173A-45DE-905A-1DD9EB58C1BA}" type="slidenum">
              <a:rPr b="1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4" name="" descr="Ministerio de Trabajo y Asuntos Social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96920"/>
            <a:ext cx="1611360" cy="5331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219320" y="6615000"/>
            <a:ext cx="8001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6272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969696"/>
                </a:solidFill>
                <a:latin typeface="Arial"/>
              </a:rPr>
              <a:t>© </a:t>
            </a:r>
            <a:r>
              <a:rPr b="0" lang="es-ES" sz="900" spc="-1" strike="noStrike">
                <a:solidFill>
                  <a:srgbClr val="969696"/>
                </a:solidFill>
                <a:latin typeface="Arial"/>
              </a:rPr>
              <a:t>ITSS </a:t>
            </a:r>
            <a:r>
              <a:rPr b="0" lang="es-ES_tradnl" sz="900" spc="-1" strike="noStrike">
                <a:solidFill>
                  <a:srgbClr val="969696"/>
                </a:solidFill>
                <a:latin typeface="Arial"/>
              </a:rPr>
              <a:t>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905120" y="100080"/>
            <a:ext cx="914400" cy="73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3809880" y="76320"/>
            <a:ext cx="5448600" cy="7110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 rot="16200000">
            <a:off x="7917840" y="31154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  w  w  .  m  t  a  s  .  e  s  /  i  t  s  s  /  i  n  d  e  x  .h  t  m 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228240" y="1295280"/>
            <a:ext cx="8991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9448920" cy="2370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60520" y="2924280"/>
            <a:ext cx="71978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800" spc="-1" strike="noStrike">
                <a:solidFill>
                  <a:srgbClr val="e49800"/>
                </a:solidFill>
                <a:latin typeface="Trebuchet MS"/>
              </a:rPr>
              <a:t>[ </a:t>
            </a:r>
            <a:r>
              <a:rPr b="0" lang="es-ES_tradnl" sz="6000" spc="-1" strike="noStrike">
                <a:solidFill>
                  <a:srgbClr val="e49800"/>
                </a:solidFill>
                <a:latin typeface="Trebuchet MS"/>
              </a:rPr>
              <a:t>                         </a:t>
            </a:r>
            <a:r>
              <a:rPr b="0" lang="es-ES_tradnl" sz="8800" spc="-1" strike="noStrike">
                <a:solidFill>
                  <a:srgbClr val="e49800"/>
                </a:solidFill>
                <a:latin typeface="Trebuchet MS"/>
              </a:rPr>
              <a:t>]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19440" y="3139920"/>
            <a:ext cx="6049800" cy="10810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191120"/>
            <a:ext cx="9448920" cy="0"/>
          </a:xfrm>
          <a:prstGeom prst="line">
            <a:avLst/>
          </a:prstGeom>
          <a:ln w="12600">
            <a:solidFill>
              <a:srgbClr val="f89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28800"/>
            <a:ext cx="9448920" cy="0"/>
          </a:xfrm>
          <a:prstGeom prst="line">
            <a:avLst/>
          </a:prstGeom>
          <a:ln w="9360">
            <a:solidFill>
              <a:srgbClr val="f89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448920" y="0"/>
            <a:ext cx="45720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Ministerio de Trabajo y Asuntos Social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96920"/>
            <a:ext cx="1611360" cy="533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19320" y="6627960"/>
            <a:ext cx="8001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647532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969696"/>
                </a:solidFill>
                <a:latin typeface="Arial"/>
              </a:rPr>
              <a:t>© </a:t>
            </a:r>
            <a:r>
              <a:rPr b="0" lang="es-ES" sz="900" spc="-1" strike="noStrike">
                <a:solidFill>
                  <a:srgbClr val="969696"/>
                </a:solidFill>
                <a:latin typeface="Arial"/>
              </a:rPr>
              <a:t>ITSS </a:t>
            </a:r>
            <a:r>
              <a:rPr b="0" lang="es-ES_tradnl" sz="900" spc="-1" strike="noStrike">
                <a:solidFill>
                  <a:srgbClr val="969696"/>
                </a:solidFill>
                <a:latin typeface="Arial"/>
              </a:rPr>
              <a:t>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36520" y="3141720"/>
            <a:ext cx="57913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905120" y="100080"/>
            <a:ext cx="914400" cy="73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16200000">
            <a:off x="7917840" y="31154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  w  w  .  m  t  a  s  .  e  s  /  i  t  s  s  /  i  n  d  e  x  .h  t  m 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275"/>
              </a:spcBef>
              <a:buClr>
                <a:srgbClr val="5f5f5f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275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1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275"/>
              </a:spcBef>
              <a:buClr>
                <a:srgbClr val="5f5f5f"/>
              </a:buClr>
              <a:buSzPct val="85000"/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275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275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82440" y="3429000"/>
            <a:ext cx="6131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PREVEA”, UNA PROPUESTA PARA LA REDUCCION VOLUNTARIA DE LA SINIESTRALIDAD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6415200"/>
            <a:ext cx="3657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 Unicode MS"/>
              </a:rPr>
              <a:t>Murcia, 2 de marzo de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0880" y="5032440"/>
            <a:ext cx="69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Windsor"/>
              </a:rPr>
              <a:t>I Congreso de Prevención de Riesgos Labo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08160" y="2924280"/>
            <a:ext cx="1584360" cy="573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60880" y="260280"/>
            <a:ext cx="51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Windsor"/>
              </a:rPr>
              <a:t>Dirección General de la Inspección de Trabajo y Seguridad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75800" y="1483920"/>
            <a:ext cx="86043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Arial"/>
              </a:rPr>
              <a:t>- Adhesión voluntaria –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Arial"/>
              </a:rPr>
              <a:t>Compromiso formal de reducción de accidentes: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99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f5f5f"/>
                </a:solidFill>
                <a:latin typeface="Arial"/>
              </a:rPr>
              <a:t>Acciones planificada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99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f5f5f"/>
                </a:solidFill>
                <a:latin typeface="Arial"/>
              </a:rPr>
              <a:t>Objetivos cuantificados: meta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Arial"/>
              </a:rPr>
              <a:t>Consulta y participación activa de los trabajadores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Arial"/>
              </a:rPr>
              <a:t>Acciones de ayuda, asesoramiento técnico y apoyo a las empresas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Arial"/>
              </a:rPr>
              <a:t>Inclusión de un programa especial de la ITSS: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99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f5f5f"/>
                </a:solidFill>
                <a:latin typeface="Arial"/>
              </a:rPr>
              <a:t>Exclusión de la actividad planificad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99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f5f5f"/>
                </a:solidFill>
                <a:latin typeface="Arial"/>
              </a:rPr>
              <a:t>No sanción durante la aplicación del Pla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99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f5f5f"/>
                </a:solidFill>
                <a:latin typeface="Arial"/>
              </a:rPr>
              <a:t>Salvo AA.TT. y EE.PP. o incumplimientos denunciado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8240" y="836640"/>
            <a:ext cx="8991720" cy="611280"/>
            <a:chOff x="228240" y="836640"/>
            <a:chExt cx="8991720" cy="611280"/>
          </a:xfrm>
        </p:grpSpPr>
        <p:sp>
          <p:nvSpPr>
            <p:cNvPr id="121" name="PlaceHolder 2"/>
            <p:cNvSpPr>
              <a:spLocks noGrp="1"/>
            </p:cNvSpPr>
            <p:nvPr>
              <p:ph type="title"/>
            </p:nvPr>
          </p:nvSpPr>
          <p:spPr>
            <a:xfrm>
              <a:off x="228240" y="990720"/>
              <a:ext cx="8991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 indent="0" algn="r">
                <a:spcBef>
                  <a:spcPts val="112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969696"/>
                  </a:solidFill>
                  <a:latin typeface="Arial"/>
                </a:rPr>
                <a:t>Características de ..……….                                </a:t>
              </a:r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8193240" y="836640"/>
              <a:ext cx="990360" cy="57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F2877-F134-45F9-9963-9501FC74B31C}" type="slidenum">
              <a:t>10</a:t>
            </a:fld>
          </a:p>
        </p:txBody>
      </p:sp>
    </p:spTree>
  </p:cSld>
  <p:transition>
    <p:dissolv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20880" y="2276640"/>
            <a:ext cx="860400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Niveles de siniestralidad superiores a la media del sector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Contar con el apoyo de los trabajadores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Disponer de organización preventiva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Haber realizado las actividades básicas de prevención: evaluación-planificación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Requisitos para la adhesión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D65A-0E54-40C3-A28A-07591DEBE35F}" type="slidenum">
              <a:t>11</a:t>
            </a:fld>
          </a:p>
        </p:txBody>
      </p:sp>
    </p:spTree>
  </p:cSld>
  <p:transition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4880" y="1864800"/>
            <a:ext cx="86043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lección de empresas: contacto preliminar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dhesión provisional: (cumplimiento de requisitos previos)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dhesión definitiva (Resolución)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Ejecución: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99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Informes de seguimiento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99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Corrección de desviacion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99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Revisión o revocación de la adhesió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Informe de cierre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69696"/>
                </a:solidFill>
                <a:latin typeface="Arial"/>
              </a:rPr>
              <a:t>………</a:t>
            </a:r>
            <a:r>
              <a:rPr b="0" lang="es-ES" sz="2000" spc="-1" strike="noStrike">
                <a:solidFill>
                  <a:srgbClr val="969696"/>
                </a:solidFill>
                <a:latin typeface="Arial"/>
              </a:rPr>
              <a:t>.           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440160" y="907920"/>
            <a:ext cx="5743440" cy="573120"/>
            <a:chOff x="3440160" y="907920"/>
            <a:chExt cx="5743440" cy="57312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8193240" y="907920"/>
              <a:ext cx="9903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440160" y="981000"/>
              <a:ext cx="446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Arial"/>
                </a:rPr>
                <a:t>Desarrollo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2204-B86E-4CBD-B173-3323108B0AE1}" type="slidenum">
              <a:t>12</a:t>
            </a:fld>
          </a:p>
        </p:txBody>
      </p:sp>
    </p:spTree>
  </p:cSld>
  <p:transition>
    <p:dissolv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89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guimiento y contro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37600" y="907920"/>
            <a:ext cx="990720" cy="573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0160" y="1773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80880" y="2057400"/>
            <a:ext cx="8686800" cy="2057400"/>
            <a:chOff x="380880" y="2057400"/>
            <a:chExt cx="8686800" cy="2057400"/>
          </a:xfrm>
        </p:grpSpPr>
        <p:grpSp>
          <p:nvGrpSpPr>
            <p:cNvPr id="134" name=""/>
            <p:cNvGrpSpPr/>
            <p:nvPr/>
          </p:nvGrpSpPr>
          <p:grpSpPr>
            <a:xfrm>
              <a:off x="1981080" y="3367080"/>
              <a:ext cx="787680" cy="747360"/>
              <a:chOff x="1981080" y="3367080"/>
              <a:chExt cx="787680" cy="747360"/>
            </a:xfrm>
          </p:grpSpPr>
          <p:sp>
            <p:nvSpPr>
              <p:cNvPr id="135" name=""/>
              <p:cNvSpPr/>
              <p:nvPr/>
            </p:nvSpPr>
            <p:spPr>
              <a:xfrm>
                <a:off x="1981080" y="3367080"/>
                <a:ext cx="333360" cy="3304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81080" y="3697560"/>
                <a:ext cx="787680" cy="416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esentación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program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2895480" y="2057400"/>
              <a:ext cx="768600" cy="761760"/>
              <a:chOff x="2895480" y="2057400"/>
              <a:chExt cx="768600" cy="761760"/>
            </a:xfrm>
          </p:grpSpPr>
          <p:sp>
            <p:nvSpPr>
              <p:cNvPr id="138" name=""/>
              <p:cNvSpPr/>
              <p:nvPr/>
            </p:nvSpPr>
            <p:spPr>
              <a:xfrm rot="10800000">
                <a:off x="2895480" y="2482200"/>
                <a:ext cx="325440" cy="336960"/>
              </a:xfrm>
              <a:prstGeom prst="upArrow">
                <a:avLst>
                  <a:gd name="adj1" fmla="val 50000"/>
                  <a:gd name="adj2" fmla="val 25885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895480" y="2057400"/>
                <a:ext cx="768600" cy="42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dhesión definitiv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575160" y="3381480"/>
              <a:ext cx="691920" cy="733320"/>
              <a:chOff x="3575160" y="3381480"/>
              <a:chExt cx="691920" cy="733320"/>
            </a:xfrm>
          </p:grpSpPr>
          <p:sp>
            <p:nvSpPr>
              <p:cNvPr id="141" name=""/>
              <p:cNvSpPr/>
              <p:nvPr/>
            </p:nvSpPr>
            <p:spPr>
              <a:xfrm>
                <a:off x="3575160" y="3381480"/>
                <a:ext cx="293040" cy="324360"/>
              </a:xfrm>
              <a:prstGeom prst="upArrow">
                <a:avLst>
                  <a:gd name="adj1" fmla="val 50000"/>
                  <a:gd name="adj2" fmla="val 27672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75160" y="3705840"/>
                <a:ext cx="691920" cy="40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imer infor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80880" y="2819520"/>
              <a:ext cx="9907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es transcurridos desde la adhesión provis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218960" y="2057400"/>
              <a:ext cx="838080" cy="745920"/>
              <a:chOff x="1218960" y="2057400"/>
              <a:chExt cx="838080" cy="745920"/>
            </a:xfrm>
          </p:grpSpPr>
          <p:sp>
            <p:nvSpPr>
              <p:cNvPr id="145" name=""/>
              <p:cNvSpPr/>
              <p:nvPr/>
            </p:nvSpPr>
            <p:spPr>
              <a:xfrm>
                <a:off x="1265760" y="2057400"/>
                <a:ext cx="791280" cy="41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dhesión provisio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0800000">
                <a:off x="1218960" y="2473200"/>
                <a:ext cx="335160" cy="33012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1676520" y="2971800"/>
              <a:ext cx="304560" cy="304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81080" y="297180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86000" y="2971800"/>
              <a:ext cx="304920" cy="304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90920" y="2971800"/>
              <a:ext cx="304560" cy="304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297180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00400" y="2971800"/>
              <a:ext cx="304920" cy="304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5320" y="297180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09880" y="2971800"/>
              <a:ext cx="304920" cy="304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71600" y="2971800"/>
              <a:ext cx="304920" cy="304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24280" y="297180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29200" y="2971800"/>
              <a:ext cx="304920" cy="304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34120" y="2971800"/>
              <a:ext cx="304560" cy="304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38680" y="297180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2971800"/>
              <a:ext cx="304920" cy="304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48520" y="2971800"/>
              <a:ext cx="304560" cy="304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53080" y="297180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58000" y="2971800"/>
              <a:ext cx="304920" cy="304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19720" y="2971800"/>
              <a:ext cx="304560" cy="304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2400" y="2971800"/>
              <a:ext cx="304920" cy="304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77320" y="2971800"/>
              <a:ext cx="304560" cy="304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297180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14800" y="2971800"/>
              <a:ext cx="304920" cy="304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62920" y="2971800"/>
              <a:ext cx="304560" cy="304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67480" y="2971800"/>
              <a:ext cx="304920" cy="304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718160" y="3353040"/>
              <a:ext cx="691920" cy="733320"/>
              <a:chOff x="4718160" y="3353040"/>
              <a:chExt cx="691920" cy="733320"/>
            </a:xfrm>
          </p:grpSpPr>
          <p:sp>
            <p:nvSpPr>
              <p:cNvPr id="172" name=""/>
              <p:cNvSpPr/>
              <p:nvPr/>
            </p:nvSpPr>
            <p:spPr>
              <a:xfrm>
                <a:off x="4718160" y="3353040"/>
                <a:ext cx="293040" cy="324360"/>
              </a:xfrm>
              <a:prstGeom prst="upArrow">
                <a:avLst>
                  <a:gd name="adj1" fmla="val 50000"/>
                  <a:gd name="adj2" fmla="val 27672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18160" y="3677400"/>
                <a:ext cx="691920" cy="40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gun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for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5632560" y="3353040"/>
              <a:ext cx="691920" cy="733320"/>
              <a:chOff x="5632560" y="3353040"/>
              <a:chExt cx="691920" cy="733320"/>
            </a:xfrm>
          </p:grpSpPr>
          <p:sp>
            <p:nvSpPr>
              <p:cNvPr id="175" name=""/>
              <p:cNvSpPr/>
              <p:nvPr/>
            </p:nvSpPr>
            <p:spPr>
              <a:xfrm>
                <a:off x="5632560" y="3353040"/>
                <a:ext cx="293040" cy="324360"/>
              </a:xfrm>
              <a:prstGeom prst="upArrow">
                <a:avLst>
                  <a:gd name="adj1" fmla="val 50000"/>
                  <a:gd name="adj2" fmla="val 27672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632560" y="3677400"/>
                <a:ext cx="691920" cy="40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rc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for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546960" y="3353040"/>
              <a:ext cx="691920" cy="733320"/>
              <a:chOff x="6546960" y="3353040"/>
              <a:chExt cx="691920" cy="733320"/>
            </a:xfrm>
          </p:grpSpPr>
          <p:sp>
            <p:nvSpPr>
              <p:cNvPr id="178" name=""/>
              <p:cNvSpPr/>
              <p:nvPr/>
            </p:nvSpPr>
            <p:spPr>
              <a:xfrm>
                <a:off x="6546960" y="3353040"/>
                <a:ext cx="293040" cy="324360"/>
              </a:xfrm>
              <a:prstGeom prst="upArrow">
                <a:avLst>
                  <a:gd name="adj1" fmla="val 50000"/>
                  <a:gd name="adj2" fmla="val 27672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546960" y="3677400"/>
                <a:ext cx="691920" cy="40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uart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for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8375760" y="3353040"/>
              <a:ext cx="691920" cy="733320"/>
              <a:chOff x="8375760" y="3353040"/>
              <a:chExt cx="691920" cy="733320"/>
            </a:xfrm>
          </p:grpSpPr>
          <p:sp>
            <p:nvSpPr>
              <p:cNvPr id="181" name=""/>
              <p:cNvSpPr/>
              <p:nvPr/>
            </p:nvSpPr>
            <p:spPr>
              <a:xfrm>
                <a:off x="8375760" y="3353040"/>
                <a:ext cx="293040" cy="324360"/>
              </a:xfrm>
              <a:prstGeom prst="upArrow">
                <a:avLst>
                  <a:gd name="adj1" fmla="val 50000"/>
                  <a:gd name="adj2" fmla="val 27672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375760" y="3677400"/>
                <a:ext cx="691920" cy="40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for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 cier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EC83-5D35-49B3-A1BB-7DC6526C9A5F}" type="slidenum">
              <a:t>13</a:t>
            </a:fld>
          </a:p>
        </p:txBody>
      </p:sp>
    </p:spTree>
  </p:cSld>
  <p:transition>
    <p:dissolv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Opciones de cierre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00160" y="1773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15800" y="1989000"/>
            <a:ext cx="8508960" cy="4193640"/>
            <a:chOff x="415800" y="1989000"/>
            <a:chExt cx="8508960" cy="4193640"/>
          </a:xfrm>
        </p:grpSpPr>
        <p:grpSp>
          <p:nvGrpSpPr>
            <p:cNvPr id="186" name=""/>
            <p:cNvGrpSpPr/>
            <p:nvPr/>
          </p:nvGrpSpPr>
          <p:grpSpPr>
            <a:xfrm>
              <a:off x="415800" y="1989000"/>
              <a:ext cx="5181840" cy="4193640"/>
              <a:chOff x="415800" y="1989000"/>
              <a:chExt cx="5181840" cy="4193640"/>
            </a:xfrm>
          </p:grpSpPr>
          <p:sp>
            <p:nvSpPr>
              <p:cNvPr id="187" name=""/>
              <p:cNvSpPr/>
              <p:nvPr/>
            </p:nvSpPr>
            <p:spPr>
              <a:xfrm>
                <a:off x="415800" y="1989000"/>
                <a:ext cx="5181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87200" indent="-187200">
                  <a:lnSpc>
                    <a:spcPct val="100000"/>
                  </a:lnSpc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 empresa no ha conseguido totalmente los objetivos y el Órgano Gestor cree que necesita más tiem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15800" y="3741480"/>
                <a:ext cx="5181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87200" indent="-187200">
                  <a:lnSpc>
                    <a:spcPct val="100000"/>
                  </a:lnSpc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 empresa ha conseguido totalmente los objetiv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5800" y="5265720"/>
                <a:ext cx="5181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87200" indent="-187200">
                  <a:lnSpc>
                    <a:spcPct val="100000"/>
                  </a:lnSpc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 empresa ha conseguido totalmente los objetivos y quiere continuar bajo un programa de excelenc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105600" y="2000160"/>
              <a:ext cx="2819160" cy="3919320"/>
              <a:chOff x="6105600" y="2000160"/>
              <a:chExt cx="2819160" cy="3919320"/>
            </a:xfrm>
          </p:grpSpPr>
          <p:sp>
            <p:nvSpPr>
              <p:cNvPr id="191" name=""/>
              <p:cNvSpPr/>
              <p:nvPr/>
            </p:nvSpPr>
            <p:spPr>
              <a:xfrm>
                <a:off x="6105600" y="2000160"/>
                <a:ext cx="28191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f2144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2144e"/>
                    </a:solidFill>
                    <a:latin typeface="Arial"/>
                  </a:rPr>
                  <a:t>Ampliación Excepcion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torgada por la Autoridad Labor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05600" y="3752640"/>
                <a:ext cx="2819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ff99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9900"/>
                    </a:solidFill>
                    <a:latin typeface="Arial"/>
                  </a:rPr>
                  <a:t>La empresa sale de PREVE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105600" y="5276880"/>
                <a:ext cx="2819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cc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cc00"/>
                    </a:solidFill>
                    <a:latin typeface="Arial"/>
                  </a:rPr>
                  <a:t>Adhesión a programa de excelenc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8E48-6EE1-4015-BA79-A59C58BEA752}" type="slidenum">
              <a:t>14</a:t>
            </a:fld>
          </a:p>
        </p:txBody>
      </p:sp>
    </p:spTree>
  </p:cSld>
  <p:transition>
    <p:dissolv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75800" y="1412640"/>
            <a:ext cx="86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Pruebas piloto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Estado actual           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76160" y="2133720"/>
          <a:ext cx="8207640" cy="4176720"/>
        </p:xfrm>
        <a:graphic>
          <a:graphicData uri="http://schemas.openxmlformats.org/drawingml/2006/table">
            <a:tbl>
              <a:tblPr/>
              <a:tblGrid>
                <a:gridCol w="2305080"/>
                <a:gridCol w="1440000"/>
                <a:gridCol w="1511280"/>
                <a:gridCol w="1368360"/>
                <a:gridCol w="1582920"/>
              </a:tblGrid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Empresas/CC.A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Visit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cep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echaz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te. Res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ale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taluñ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Navar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Extremad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ase ini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DC04-A8DC-45CB-B551-198ABFB1E998}" type="slidenum">
              <a:t>15</a:t>
            </a:fld>
          </a:p>
        </p:txBody>
      </p:sp>
    </p:spTree>
  </p:cSld>
  <p:transition>
    <p:dissolv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64880" y="1864800"/>
            <a:ext cx="86043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La siniestralidad ha disminuido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Prefieren la presión de la Inspección de Trabajo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Consideran excesivamente ambiciosos e inalcanzables los objetivos o metas propuestos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Consideran que los factores de siniestralidad (lumbalgias) no son fácilmente controlables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alta de voluntad o disposición a colaborar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Causa del rechazo           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45A24-3600-4900-9386-9B5EF75244A8}" type="slidenum">
              <a:t>16</a:t>
            </a:fld>
          </a:p>
        </p:txBody>
      </p:sp>
    </p:spTree>
  </p:cSld>
  <p:transition>
    <p:dissolv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31440" y="1988640"/>
            <a:ext cx="82803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La voluntariedad es una palanca capaz de conseguir, mediante una actividad preventiva sostenida y sostenible, una reducción efectiva de la siniestralidad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indent="0" algn="ctr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indent="0" algn="r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indent="0" algn="ctr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indent="0" algn="ctr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indent="0" algn="ctr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indent="0" algn="ctr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indent="0" algn="ctr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73600" y="5013360"/>
            <a:ext cx="331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16520" y="465300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5f5f"/>
                </a:solidFill>
                <a:latin typeface="Windsor"/>
              </a:rPr>
              <a:t>Muchas gra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88430-B1C0-4A56-983D-FC11543A364F}" type="slidenum">
              <a:t>17</a:t>
            </a:fld>
          </a:p>
        </p:txBody>
      </p:sp>
    </p:spTree>
  </p:cSld>
  <p:transition>
    <p:dissolv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2120" y="1864800"/>
            <a:ext cx="86040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Arial"/>
              </a:rPr>
              <a:t>Vigilancia del cumplimiento de la normativa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Arial"/>
              </a:rPr>
              <a:t>Elaborar informes sobre AA.TT. y EE.PP. 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Arial"/>
              </a:rPr>
              <a:t>Ordenar la paralización de los trabajos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Arial"/>
              </a:rPr>
              <a:t>Comprobar y favorecer el cumplimiento de las obligaciones de los SS.PP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Asesorar e informar a las empresas y trabajadores sobre la manera más efectiva del cumplimiento de las normas</a:t>
            </a:r>
            <a:r>
              <a:rPr b="1" lang="es-ES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Funciones de la Inspección en Materia Preventiva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42F3-8D5A-4129-B3AA-34F10F759336}" type="slidenum">
              <a:t>2</a:t>
            </a:fld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75800" y="2349360"/>
            <a:ext cx="8604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5f5f5f"/>
                </a:solidFill>
                <a:latin typeface="Arial"/>
              </a:rPr>
              <a:t>La Inspección de Trabajo está diseñada para combinar conjuntamente ideas de tolerancia y firmeza, equilibrio y moderación, de tal manera que la acción inspectora es como un tornillo que penetra de una manera lenta y continua en el trozo de madera que ha de sujetar”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f5f5f"/>
                </a:solidFill>
                <a:latin typeface="Arial"/>
              </a:rPr>
              <a:t>General Marvá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Modos de actuación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8720-32A7-49C8-8C1F-1614B00565DA}" type="slidenum">
              <a:t>3</a:t>
            </a:fld>
          </a:p>
        </p:txBody>
      </p:sp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639440" y="2276640"/>
            <a:ext cx="860436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Planificación según objetivos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Programación: procedimiento formalizado 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Requerimiento/Propuesta de sanción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Verificación del cumplimiento: 2ª visita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Establecimiento de acciones de seguimiento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ctuación de Intensidad creciente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EED0-5704-440C-8ED9-1A9666F96A69}" type="slidenum">
              <a:t>4</a:t>
            </a:fld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48880" y="1864800"/>
            <a:ext cx="86043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Arial"/>
              </a:rPr>
              <a:t>Antecedentes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99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f5f5f"/>
                </a:solidFill>
                <a:latin typeface="Arial"/>
              </a:rPr>
              <a:t>Sistemas nórdicos de clasificación de empresas: “scoreboard”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99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f5f5f"/>
                </a:solidFill>
                <a:latin typeface="Arial"/>
              </a:rPr>
              <a:t>Experiencias de reducción voluntaria: USA-Canada-Greci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99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f5f5f"/>
                </a:solidFill>
                <a:latin typeface="Arial"/>
              </a:rPr>
              <a:t>Apoyo y mejora de los programas de reducción de siniestralidad existent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8240" y="836640"/>
            <a:ext cx="8991720" cy="611280"/>
            <a:chOff x="228240" y="836640"/>
            <a:chExt cx="8991720" cy="611280"/>
          </a:xfrm>
        </p:grpSpPr>
        <p:sp>
          <p:nvSpPr>
            <p:cNvPr id="109" name="PlaceHolder 2"/>
            <p:cNvSpPr>
              <a:spLocks noGrp="1"/>
            </p:cNvSpPr>
            <p:nvPr>
              <p:ph type="title"/>
            </p:nvPr>
          </p:nvSpPr>
          <p:spPr>
            <a:xfrm>
              <a:off x="228240" y="990720"/>
              <a:ext cx="8991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 indent="0" algn="r">
                <a:spcBef>
                  <a:spcPts val="112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: Programa de reducción voluntaria de accidentes</a:t>
              </a:r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3008160" y="836640"/>
              <a:ext cx="990720" cy="57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E10D-DDD2-44E3-BA33-D51ADBE13BE4}" type="slidenum">
              <a:t>5</a:t>
            </a:fld>
          </a:p>
        </p:txBody>
      </p:sp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91800" y="2276640"/>
            <a:ext cx="860436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dministraciones Públicas: promoción de la prevención y el asesoramiento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Empresas: mejora del medio ambiente del trabajo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rabajadores: conseguir un trabajo seguro y saludable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Mutua/servicio de prevención: mejora en la gestión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Fines de los participante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CC009-4FBF-4F33-910E-4CD6AF8FED0B}" type="slidenum">
              <a:t>6</a:t>
            </a:fld>
          </a:p>
        </p:txBody>
      </p:sp>
    </p:spTree>
  </p:cSld>
  <p:transition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91800" y="1864800"/>
            <a:ext cx="86043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Arial"/>
              </a:rPr>
              <a:t>Dirección General de Ordenación de la Seguridad Social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Arial"/>
              </a:rPr>
              <a:t>Dirección General de Trabajo (MTAS)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Arial"/>
              </a:rPr>
              <a:t>Dirección General de Trabajo (CC.AA.)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Arial"/>
              </a:rPr>
              <a:t>Organizaciones Sindicales: CC.OO. – U.G.T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Arial"/>
              </a:rPr>
              <a:t>Organizaciones Empresariales: CEOE – CEPYME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Arial"/>
              </a:rPr>
              <a:t>AMAT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Arial"/>
              </a:rPr>
              <a:t>Servicios de prevención ajenos: ANEPA, ASPA y ASPREM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Organismos notificado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5610-EAE9-4E10-87B9-6A2667E8C615}" type="slidenum">
              <a:t>7</a:t>
            </a:fld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20880" y="2276640"/>
            <a:ext cx="860400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Arial"/>
              </a:rPr>
              <a:t>Administraciones Públicas: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99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f5f5f"/>
                </a:solidFill>
                <a:latin typeface="Arial"/>
              </a:rPr>
              <a:t>Estatales: MTAS: I.T.S.S. – I.N.S.H.T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99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f5f5f"/>
                </a:solidFill>
                <a:latin typeface="Arial"/>
              </a:rPr>
              <a:t>Autonómicas: Baleares, Cataluña, Extremadura, Navarr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99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f5f5f"/>
                </a:solidFill>
                <a:latin typeface="Arial"/>
              </a:rPr>
              <a:t>Mutua Universa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Participante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B788-ABB0-4E02-B4AA-17AA9C146872}" type="slidenum">
              <a:t>8</a:t>
            </a:fld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48880" y="2276640"/>
            <a:ext cx="860436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Arial"/>
              </a:rPr>
              <a:t>Conseguir en empresas con alta tasa de siniestralidad su reducción tanto en número como en gravedad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Arial"/>
              </a:rPr>
              <a:t>Provocar una actitud proactiva con vocación de permanencia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Arial"/>
              </a:rPr>
              <a:t>Proporcionar un procedimiento para el seguimiento y consecución de los objetivos propuestos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B9EC-F86F-4816-AFED-0FC14E2F93E4}" type="slidenum">
              <a:t>9</a:t>
            </a:fld>
          </a:p>
        </p:txBody>
      </p:sp>
    </p:spTree>
  </p:cSld>
  <p:transition>
    <p:dissolv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09:25:14Z</dcterms:created>
  <dc:creator>OTTNHG</dc:creator>
  <dc:description/>
  <dc:language>en-US</dc:language>
  <cp:lastModifiedBy>MTAS</cp:lastModifiedBy>
  <dcterms:modified xsi:type="dcterms:W3CDTF">2007-03-01T18:34:07Z</dcterms:modified>
  <cp:revision>59</cp:revision>
  <dc:subject/>
  <dc:title>Presentación de PowerPoint</dc:title>
</cp:coreProperties>
</file>