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4F9D-C1A4-4D93-B78C-42B654726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992040"/>
            <a:ext cx="829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2D26-D79B-4068-A47E-D0099DA48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164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81640" y="399204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8706-5F03-4BFF-AED7-0DD99269E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4800" y="152388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41000" y="152388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99204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4800" y="399204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41000" y="399204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E40E-5A6B-45CB-837C-6816172CE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81640" y="1523880"/>
            <a:ext cx="40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0600" y="990720"/>
            <a:ext cx="8299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81640" y="1523880"/>
            <a:ext cx="40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387F-620B-47CF-B5D3-587A03347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8164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81640" y="399204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8164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829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3992040"/>
            <a:ext cx="829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8164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81640" y="399204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34800" y="152388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41000" y="152388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399204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34800" y="399204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41000" y="3992040"/>
            <a:ext cx="2672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137B-4F2A-4AD7-99FC-E0AFBD5A3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81640" y="1523880"/>
            <a:ext cx="40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ABB7-8432-4057-9134-0EC6D48CB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16AA-A093-42AA-B874-6A270F327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0600" y="990720"/>
            <a:ext cx="8299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D903-701A-4DCB-AB22-FC49AD509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81640" y="1523880"/>
            <a:ext cx="40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6A49-10B9-4CDC-916F-8AD956AAF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8164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81640" y="399204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B818-6E3C-4135-A028-C3C90157C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81640" y="1523880"/>
            <a:ext cx="405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829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2F94-82F1-4324-9D44-52DB61947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mtas.es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hyperlink" Target="http://www.mtas.es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336699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5f5f5f"/>
              </a:buClr>
              <a:buSzPct val="8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651520" y="6462360"/>
            <a:ext cx="42228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9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5596-FE42-4166-AFB2-571E0B0BBDB1}" type="slidenum">
              <a:rPr b="1" lang="es-ES_tradnl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4" name="" descr="Ministerio de Trabajo y Asuntos Social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0960" y="196920"/>
            <a:ext cx="1487520" cy="5331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25360" y="6615000"/>
            <a:ext cx="73854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0960" y="64627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© </a:t>
            </a:r>
            <a:r>
              <a:rPr b="0" lang="es-ES" sz="900" spc="-1" strike="noStrike">
                <a:solidFill>
                  <a:srgbClr val="969696"/>
                </a:solidFill>
                <a:latin typeface="Arial"/>
              </a:rPr>
              <a:t>ITSS </a:t>
            </a: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2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7180920" y="311328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 w w  .  m  t  a  s  .  e  s  /  i  t  s  s  /  i  n  d  e  x  .h  t  m 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210600" y="1295280"/>
            <a:ext cx="82998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1676520" cy="482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rcRect l="0" t="0" r="12824" b="0"/>
          <a:stretch/>
        </p:blipFill>
        <p:spPr>
          <a:xfrm>
            <a:off x="3581280" y="76320"/>
            <a:ext cx="4953240" cy="70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8721720" cy="2370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13040" y="3124080"/>
            <a:ext cx="597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e49800"/>
                </a:solidFill>
                <a:latin typeface="Trebuchet MS"/>
              </a:rPr>
              <a:t>[                       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24360" y="3429000"/>
            <a:ext cx="5346360" cy="4572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4343400"/>
            <a:ext cx="364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  w  w  .  m  t  a  s  .  e  s  /  i  t  s  s  /  i  n  d  e  x  .h  t  m 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191120"/>
            <a:ext cx="8721720" cy="0"/>
          </a:xfrm>
          <a:prstGeom prst="line">
            <a:avLst/>
          </a:prstGeom>
          <a:ln w="12600">
            <a:solidFill>
              <a:srgbClr val="f89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8721720" cy="0"/>
          </a:xfrm>
          <a:prstGeom prst="line">
            <a:avLst/>
          </a:prstGeom>
          <a:ln w="9360">
            <a:solidFill>
              <a:srgbClr val="f89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721720" y="0"/>
            <a:ext cx="42228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Ministerio de Trabajo y Asuntos Socia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0960" y="196920"/>
            <a:ext cx="1487520" cy="533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5360" y="6627960"/>
            <a:ext cx="73854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960" y="64753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© </a:t>
            </a:r>
            <a:r>
              <a:rPr b="0" lang="es-ES" sz="900" spc="-1" strike="noStrike">
                <a:solidFill>
                  <a:srgbClr val="969696"/>
                </a:solidFill>
                <a:latin typeface="Arial"/>
              </a:rPr>
              <a:t>ITSS </a:t>
            </a: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2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24000" y="3429000"/>
            <a:ext cx="534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752480" y="228600"/>
            <a:ext cx="1676520" cy="482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249"/>
              </a:spcBef>
              <a:buClr>
                <a:srgbClr val="5f5f5f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5f5f5f"/>
              </a:buClr>
              <a:buSzPct val="85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24000" y="3429000"/>
            <a:ext cx="534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EL PAPEL DE LA ITSS EN MATERIA DE SEGURIDAD Y SALUD EN EL TRABAJO: PROTOCOLOS Y GUÍAS DE ACTUACIÓ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00400" y="5028840"/>
            <a:ext cx="5275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SUBDIRECCION GENERAL PARA LA PREVENCIÓN DE RIESGOS Y LAS POLITICAS DE IGUALDAD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6415200"/>
            <a:ext cx="337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Febrero de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CONTROL ADMINISTRATIVO DE LAS ENTIDADES ESPECIALIZADAS EN MATERIA DE P.R.L.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UNCION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formes previos a los procedimientos de acreditación.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mprobación del mantenimiento de las condiciones de autorización.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gilar cumplimiento de las obligaciones derivadas de actividades correspondientes a servicios de prevención respecto de sus empresarios concertados, a entidades de auditoria o acreditadas para desarrollar y certificar la formación en materia de prevención de riesgos laborales.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ORMA DE ACTUACIÓN DE LA ITS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 oficio por: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rden superio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petición razonada de otros órgano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r propia iniciativa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 virtud de denuncia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INCIPIOS QUE PRESIDEN LA ACTIVIDAD INSPECTORA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bajo programado (campañas):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jetivos programados de ámbito general: afectan a más de una Comunidad Autónoma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jetivos programados de ámbito territorial: su desarrollo se limita al ámbito de una Comunidad Autónoma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INCIPIOS QUE PRESIDEN LA ACTIVIDAD INSPECTORA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Modelo generalista compatible con criterios de especialización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Unidad de función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Unidad de acto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Autonomía técnica: Criterios Técnicos e Instrucciones de la Autoridad Central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CTUACIÓN REACTIVA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formes AT (Art. 9 Ley 31/1995):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tal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y Gra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a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ros: por sus características o sujetos afectado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formes EP (R.D. 1299/2006 y O. 1/2007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EVAS COMPETENCIAS DE LOS TECNICOS HABILITADO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uncionarios públicos: Grupos A o B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Que acrediten formación específica en P.R.L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Que desarrollen labores técnicas en P.R.L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Que sean habilitados específicamente por las C.C.A.A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UNCIONARIOS QUE DESARROLLAN ACTIVIDADE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UNCIONARIOS QUE DESARROLLAN ACTIVIDADES DE COMPROBACIÓN DE CONDICIONES MATERIALES DE TRABAJO EN LAS EMPRES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spectores de Trabajo y Seguridad Social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erpos de apoyo y colaboración: Técnicos  Habilitados de las Comunidades Autónomas y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l I.N.S.H.T en Ceuta y Melilla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EVAS COMPETENCIAS TÉCNICOS HABILITADO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esoramiento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robaciones de las condiciones de seguridad 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 salud, previamente programadas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EVAS COMPETENCIAS TECNICOS HABILITADO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querimiento en Libro Visitas I.T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laboración de informe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esunción de certeza de los hechos recogidos en    los informes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cumplimiento del requerimiento agrava la sanció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 se incumple el requerimiento se pasa a I.T. Que practica acta de infracción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bstrucción a su labor: acta de infracción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BJETIVO DE LOS PROTOCOLOS Y GUIAS DE ACTUACIÓN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676520"/>
            <a:ext cx="3048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057400"/>
            <a:ext cx="2209680" cy="6314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ayor calidad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igor téc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057400"/>
            <a:ext cx="2286000" cy="733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herencia y unidad en el procedimiento de actu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3276720"/>
            <a:ext cx="2666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4038480"/>
            <a:ext cx="2514600" cy="107820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acilit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038480"/>
            <a:ext cx="2209680" cy="70776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yor segur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ur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5562720"/>
            <a:ext cx="2210040" cy="58068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tilización en campañ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133720" y="1600200"/>
          <a:ext cx="4952880" cy="3714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952880" cy="3714840"/>
                  </a:xfrm>
                  <a:prstGeom prst="rect">
                    <a:avLst/>
                  </a:prstGeom>
                  <a:ln w="9360">
                    <a:solidFill>
                      <a:srgbClr val="ffde9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APEL DE LA INSPECCIÓN DE TRABAJO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6386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791320"/>
            <a:ext cx="66294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OTOCOLOS DE GESTIÓN PREVENTIVA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981080"/>
            <a:ext cx="2057400" cy="9511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6699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GRACIÓ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LAN DE PREV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1981080"/>
            <a:ext cx="2286000" cy="9511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ORDINACIÓN PREVEN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276720"/>
            <a:ext cx="2133720" cy="70776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UDIT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3124080"/>
            <a:ext cx="2133360" cy="106740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TUALIZACIÓN DE EVALUACIÓN E INSPECCIONES PERIÓD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276720"/>
            <a:ext cx="213336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UÍA DE INVESTIGACIÓN DE AC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648320"/>
            <a:ext cx="2819520" cy="106740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UESTA AL DÍA DE LOS PROTOCOLOS DE GESTIÓN/ORGANIZACIÓN DE LA PREV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181480"/>
            <a:ext cx="685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4419720"/>
            <a:ext cx="2133720" cy="84456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rvicio prevención Propio/mancomun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5486400"/>
            <a:ext cx="2133720" cy="70776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rvicio prev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J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038480" y="4724280"/>
            <a:ext cx="0" cy="4572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5181480"/>
            <a:ext cx="0" cy="5335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724280"/>
            <a:ext cx="4572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5715000"/>
            <a:ext cx="4572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PROTOCOLO RESPECTO SERVICIOS PREVENCIÓN AJENO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98108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tenimiento de los requisitos de acred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2057400"/>
            <a:ext cx="2361960" cy="70776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nálisis de la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 los conci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72428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scalización del régimen de incompati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724280"/>
            <a:ext cx="2286000" cy="70776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nálisis de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rvicios pr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429000"/>
            <a:ext cx="2286000" cy="106740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n el control de los SERVICIOS DE PREVENCIÓN AJ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2819520"/>
            <a:ext cx="0" cy="19047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2819520"/>
            <a:ext cx="0" cy="19047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809880"/>
            <a:ext cx="16765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3809880"/>
            <a:ext cx="16002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OTOCOLO RESPECTO ENTIDADES AUDITORA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90512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tenimiento de los requisitos de acred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190512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tenimiento de la calidad de los conci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518148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scalización del régimen de incompati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5000" y="5181480"/>
            <a:ext cx="2286000" cy="70776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nálisis de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rvicios pres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350532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n el control de las ENTIDADES DE AUDIT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2743200"/>
            <a:ext cx="0" cy="24382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2743200"/>
            <a:ext cx="0" cy="24382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3962520"/>
            <a:ext cx="16002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886200"/>
            <a:ext cx="1295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OTOCOLOS DE CONSTRUCCIÓN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97180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NDICIONES MATERIALES DE 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819520"/>
            <a:ext cx="2286000" cy="58068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ABAJOS CON AMIA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343400"/>
            <a:ext cx="2286000" cy="58068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NDAMIOS COL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4419720"/>
            <a:ext cx="2286000" cy="58068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ABAJOS VERT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82880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ESTIÓN PREVENTIVA EN LAS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56272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ZAN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556272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ACI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OTOCOLOS DE RIESGOS ERGONÓMICO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133720"/>
            <a:ext cx="22860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IESGOS ERGONÓM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175248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TOC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429000"/>
            <a:ext cx="2286000" cy="58068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DENTIFICACIÓN O ANALISIS IN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3276720"/>
            <a:ext cx="2286000" cy="106740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ndiciones trabajo en general (Mobiliario, equipos, cuartos, ase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274320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U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2514600"/>
            <a:ext cx="5335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505320" y="1981080"/>
            <a:ext cx="0" cy="5335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505320" y="2514600"/>
            <a:ext cx="0" cy="5335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1981080"/>
            <a:ext cx="45720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048120"/>
            <a:ext cx="45720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426708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VALUACIÓN PROPIAMENTE DIC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541008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 ANALIZAN LAS DISTINTAS METODOLOG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4495680"/>
            <a:ext cx="2286000" cy="58068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antallas de visualización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5562720"/>
            <a:ext cx="2286000" cy="58068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ipulación de car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4724280"/>
            <a:ext cx="10666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809880"/>
            <a:ext cx="0" cy="20574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3809880"/>
            <a:ext cx="6094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5867280"/>
            <a:ext cx="6094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3581280"/>
            <a:ext cx="1752480" cy="58068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sturas for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4572000"/>
            <a:ext cx="1752480" cy="58068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vimientos re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5410080"/>
            <a:ext cx="1981440" cy="1067400"/>
          </a:xfrm>
          <a:prstGeom prst="rect">
            <a:avLst/>
          </a:prstGeom>
          <a:gradFill rotWithShape="0">
            <a:gsLst>
              <a:gs pos="0">
                <a:srgbClr val="bfd7d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 ADJUNTA LISTA DE IDENTIFICACIÓN INICIAL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OTOCOLOS DE RIESGOS PSICOSOCIALE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133720"/>
            <a:ext cx="22860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IESGOS PSICOSO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175248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TOC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3429000"/>
            <a:ext cx="2286000" cy="58068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DENTIFICACIÓN O ANALISIS IN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50532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rga 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274320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U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2514600"/>
            <a:ext cx="5335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505320" y="1981080"/>
            <a:ext cx="0" cy="5335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505320" y="2514600"/>
            <a:ext cx="0" cy="5335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1981080"/>
            <a:ext cx="45720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048120"/>
            <a:ext cx="45720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426708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VALUACIÓN PROPIAMENTE DIC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410080"/>
            <a:ext cx="228600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 ANALIZAN LAS DISTINTAS METODOLOG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449568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st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56272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abajo a tu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4724280"/>
            <a:ext cx="10666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3809880"/>
            <a:ext cx="0" cy="20574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3809880"/>
            <a:ext cx="6094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5867280"/>
            <a:ext cx="6094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29400" y="3581280"/>
            <a:ext cx="175248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abajo noctu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4343400"/>
            <a:ext cx="1752480" cy="58068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Mobbing o Acoso psicoló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5410080"/>
            <a:ext cx="1981440" cy="1067400"/>
          </a:xfrm>
          <a:prstGeom prst="rect">
            <a:avLst/>
          </a:prstGeom>
          <a:gradFill rotWithShape="0">
            <a:gsLst>
              <a:gs pos="0">
                <a:srgbClr val="bfd7d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 ADJUNTA LISTA DE IDENTIFICACIÓN INICIAL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OTOCOLOS DE E.T.T.´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133720"/>
            <a:ext cx="2286000" cy="3373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50000">
                <a:srgbClr val="ffffff"/>
              </a:gs>
              <a:gs pos="100000">
                <a:srgbClr val="336699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.T.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175248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TOC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365760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TOC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274320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U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2514600"/>
            <a:ext cx="5335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05320" y="1981080"/>
            <a:ext cx="0" cy="5335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05320" y="2514600"/>
            <a:ext cx="0" cy="5335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1981080"/>
            <a:ext cx="45720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3048120"/>
            <a:ext cx="45720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267080"/>
            <a:ext cx="2286000" cy="5806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50000">
                <a:srgbClr val="ffffff"/>
              </a:gs>
              <a:gs pos="100000">
                <a:srgbClr val="336699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MPRESAS USU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5562720"/>
            <a:ext cx="2286000" cy="3373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U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3809880"/>
            <a:ext cx="0" cy="20574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3809880"/>
            <a:ext cx="6094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5867280"/>
            <a:ext cx="53352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29400" y="3581280"/>
            <a:ext cx="1752480" cy="45900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ORGANIZACIÓN DE LA PREVEN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4572000"/>
            <a:ext cx="1752480" cy="45900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PROHIBICIONES DE CONTRA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1600200"/>
            <a:ext cx="1752840" cy="45900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GESTION DE LA PREVEN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2286000"/>
            <a:ext cx="1752840" cy="8240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OBLIGACIONES DE LOS CONTRATOS PUESTA A DISPOS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5410080"/>
            <a:ext cx="1752480" cy="64152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66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ORMACIÓN E INFORMACIÓN. VIGILANCIA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4648320"/>
            <a:ext cx="457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4280" y="1890720"/>
            <a:ext cx="77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Muchas gracias por su a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4724280"/>
            <a:ext cx="5715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5181480"/>
            <a:ext cx="83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f5f5f"/>
                </a:solidFill>
                <a:latin typeface="Arial"/>
              </a:rPr>
              <a:t>SUBDIRECCION GENERAL PARA LA PREVENCIÓN DE RIESGOS Y POLITICAS DE IGUAL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581280" y="2827440"/>
            <a:ext cx="1905120" cy="1681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10600" y="1523520"/>
            <a:ext cx="8299800" cy="49532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 algn="just">
              <a:spcBef>
                <a:spcPts val="499"/>
              </a:spcBef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ol público de las condiciones de trabajo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 algn="just">
              <a:spcBef>
                <a:spcPts val="499"/>
              </a:spcBef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misos de apertura de centros de trabajo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 algn="just">
              <a:spcBef>
                <a:spcPts val="499"/>
              </a:spcBef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tividad reactiva y  no preventiva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 algn="ctr">
              <a:spcBef>
                <a:spcPts val="4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 algn="ctr">
              <a:spcBef>
                <a:spcPts val="4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10600" y="990360"/>
            <a:ext cx="8247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EL PAPEL DE LA ITSS ANTES DE LA LEY 31/1995 DE P.R.L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OMPETENCIAS LEGALES DE LA I.T.S.S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160" y="1523520"/>
            <a:ext cx="8300880" cy="297180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ey 31/1995, de 8 de noviembre, de Prevención de Riesgos Laboral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ey 421997, de 14 de noviembre, Ordenadora de la Inspección de Trabajo y Seguridad Socia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LEY 31/1995, DE 8 DE NOVIEMBRE (ART. 9)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igilar el cumplimiento de la normativa sobre prevención de riesgos laboral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esorar e informar a las empresas y a los trabajador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laborar informes a los Juzgados de lo Social en procedimiento de AT y EP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formar a la Autoridad Laboral sobre AT y EP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probar y favorecer el cumplimiento de las obligaciones asumidas por los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rvicios de prevención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rdenar la paralización inmediata de trabajos en caso de riesgo grave e inminent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ara la seguridad y salud de los trabajadores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LA LEY 42/1997, DE 14 DE NOVIEMBRE (ART.3)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La función inspectora comprende el cometido de vigilancia 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exigencia del cumplimiento de las normas legales, reglamentaria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y contenido normativo de los convenios colectivos en materia d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prevención de riesgos laborales, así como de las normas jurídico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écnicas que incidan en las condiciones de trabajo en dicha materi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IPOS DE ACTUACIONES DE LA I.T.S.S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tuación preventiva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tuación reactiva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0600" y="990720"/>
            <a:ext cx="829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CTUACIÓN PREVENTIVA DE LA I.T.S.S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igilancia del cumplimiento de la normativa   sobre prevención de riesgos laborales: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Comprobación condiciones materiales de trabajo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Comprobación organización preventiva y activida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preventiva de las empresas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Comprobación otras obligaciones de la activida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preventiva y principios de la acción preventiva.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434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CONTROL ADMINISTRATIVO DE LAS ENTIDADES ESPECIALIZADAS </a:t>
            </a:r>
            <a:br>
              <a:rPr sz="14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EN MATERIA DE P.R.L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99440" cy="4724640"/>
          </a:xfrm>
          <a:prstGeom prst="rect">
            <a:avLst/>
          </a:prstGeom>
          <a:gradFill rotWithShape="0">
            <a:gsLst>
              <a:gs pos="0">
                <a:srgbClr val="ffde9d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rvicios de prevención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tidades de auditoria de los sistemas de           prevención de riesgos laborales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tidades que desarrollan y certifican actividade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rmativas en materia de prevención de riesgos 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borales.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9:25:14Z</dcterms:created>
  <dc:creator>OTTNHG</dc:creator>
  <dc:description/>
  <dc:language>en-US</dc:language>
  <cp:lastModifiedBy>charo</cp:lastModifiedBy>
  <dcterms:modified xsi:type="dcterms:W3CDTF">2007-02-26T13:51:25Z</dcterms:modified>
  <cp:revision>82</cp:revision>
  <dc:subject/>
  <dc:title>Presentación de PowerPoint</dc:title>
</cp:coreProperties>
</file>