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10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493B-ECD6-47F5-8E04-2DED6BEDC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5B01-AF7E-4362-87B1-2128D83D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ADF3-48F3-4AF5-A6A2-55E927FC7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F9FD-707F-4988-A4D1-A3EA07493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A5FD-7162-4478-BF6C-1C23DB91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2890-4548-4103-92F9-9B7834D9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D13B-5C06-4B4C-8D19-8A74C80A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74B1-6FFD-433B-8D32-BBEEFD7C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D983-48FC-441C-B3AA-33634350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4F2B-29EC-4A3E-B78D-15C45B11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F72F-7C3F-4EA0-B1FA-AE2D8B98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2123-A07A-47BE-AFF6-038C48B9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DD3A-6EE1-4FBA-B8A3-920B002F3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5.jpeg"/><Relationship Id="rId4" Type="http://schemas.openxmlformats.org/officeDocument/2006/relationships/image" Target="../media/image8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9.wmf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5.jpeg"/><Relationship Id="rId4" Type="http://schemas.openxmlformats.org/officeDocument/2006/relationships/image" Target="../media/image8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9.wmf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91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211640" y="3213000"/>
            <a:ext cx="4824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Las políticas activas del Excmo. Ayuntamiento de Cieza para fomentar la Cultura de la Prevención de Riesgos Laborales en su entor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86320" y="5373720"/>
            <a:ext cx="1333440" cy="1484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020000" y="5805360"/>
            <a:ext cx="143964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79280" y="6165720"/>
            <a:ext cx="935280" cy="639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332000" y="6165720"/>
            <a:ext cx="781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egundo año de celebración del Día Mundial de la Seguridad y Salud en el trabajo. II JORNADA, 27 de abril de 2006. PROGRAM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8675280" y="260280"/>
            <a:ext cx="15228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9640" y="260280"/>
            <a:ext cx="7920000" cy="12830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66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66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460000" y="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Eras Bk BT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5965200" y="2841840"/>
            <a:ext cx="602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0000"/>
                </a:solidFill>
                <a:latin typeface="Arial"/>
              </a:rPr>
              <a:t>Las políticas activas del Excmo. Ayuntamiento de Cieza para fomentar la cultura de la  Prevención de Riesgos Laborales en su entorn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" y="404640"/>
            <a:ext cx="80643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60280"/>
            <a:ext cx="853272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260280"/>
            <a:ext cx="820872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333360"/>
            <a:ext cx="828036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45964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9280" y="6165720"/>
            <a:ext cx="935280" cy="639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476360" y="6165720"/>
            <a:ext cx="766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Etapa inicial. Creación del Departamento de Prevención de Riesgos Laborales y contratación de un Servicio de Prevención Aje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8720" y="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Eras Bk BT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5965200" y="2841840"/>
            <a:ext cx="602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0000"/>
                </a:solidFill>
                <a:latin typeface="Arial"/>
              </a:rPr>
              <a:t>Las políticas activas del Excmo. Ayuntamiento de Cieza para fomentar la cultura de la  Prevención de Riesgos Laborales en su entorn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8748360" y="228600"/>
            <a:ext cx="15228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2637000"/>
            <a:ext cx="7699680" cy="4572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549360"/>
            <a:ext cx="82818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r parte del equipo de gobierno municipal 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 pretende dar un </a:t>
            </a:r>
            <a:r>
              <a:rPr b="0" lang="es-ES" sz="2200" spc="-1" strike="noStrike">
                <a:solidFill>
                  <a:srgbClr val="0066ff"/>
                </a:solidFill>
                <a:latin typeface="Arial"/>
              </a:rPr>
              <a:t>impulso definitivo a la Prevención de Riesgos Laborales en el ámbito del Ayuntamiento de Ciez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66ff"/>
                </a:solidFill>
                <a:latin typeface="Arial"/>
              </a:rPr>
              <a:t>Dos perspectiva: Interna y Exter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66ff"/>
                </a:solidFill>
                <a:latin typeface="Arial"/>
              </a:rPr>
              <a:t>Objetivo Estratégico crear el Departamento de Prevención de Riesgos Laborale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que coordinaría la actividad preventiva del Ayuntamiento. Al mismo tiempo, </a:t>
            </a:r>
            <a:r>
              <a:rPr b="0" lang="es-ES" sz="2200" spc="-1" strike="noStrike">
                <a:solidFill>
                  <a:srgbClr val="0066ff"/>
                </a:solidFill>
                <a:latin typeface="Arial"/>
              </a:rPr>
              <a:t>se contrató un  Servicio de Prevención Ajeno (Actualmente NEXGRUP HCPSalud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n definitiva, </a:t>
            </a:r>
            <a:r>
              <a:rPr b="0" lang="es-ES" sz="2200" spc="-1" strike="noStrike">
                <a:solidFill>
                  <a:srgbClr val="0066ff"/>
                </a:solidFill>
                <a:latin typeface="Arial"/>
              </a:rPr>
              <a:t>el objetivo no era   el mero cumplimiento formal de la normativa en materia de Prevención de Riesgos Laborale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9280" y="6165720"/>
            <a:ext cx="935280" cy="639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47640" y="6165720"/>
            <a:ext cx="759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ctuaciones en materia de Prevención de Riesgos Laborales. Hacia un  Sistema de Prevención Integral y el Fomento de la Cultura Preventiv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460000" y="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Eras Bk BT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8748360" y="228600"/>
            <a:ext cx="15228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2637000"/>
            <a:ext cx="7699680" cy="4572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404640"/>
            <a:ext cx="82818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404640"/>
            <a:ext cx="806436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TENDÍAMOS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CAMINAR, TODOS JUNTOS, HACIA LA SEGURIDAD O PREVENCIÓN INTEGRAL/ INTEGRAD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ACTUACION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INTEGRACIÓ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LA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CTIVIDAD PREVENTIV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N EL AYUNT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LANIFICACIÓ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DECUADA DE LA PREVEN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ESTA EN MARCHA DEL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PLAN DE PREVENCIÓN DEL EXCMO. AYUNTAMIEN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INCREMENTO DE  LA INFORMACIÓN, CONSULTA Y PARTICIPACIÓN A LOS TRABAJADOR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CONSTITUCIÓN Y PUESTA EN MARCHA DEL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COMITÉ DE SEGURIDAD Y SALU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ESTA EN MARCHA DE UN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PLAN ESTRATÉGICO DE SALUD LABOR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Suscripción del convenio Plan Objetivo Cero Accide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5965200" y="2841840"/>
            <a:ext cx="602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0000"/>
                </a:solidFill>
                <a:latin typeface="Arial"/>
              </a:rPr>
              <a:t>Las políticas activas del Excmo. Ayuntamiento de Cieza para fomentar la cultura de la  Prevención de Riesgos Laborales en su entorn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6165720"/>
            <a:ext cx="935280" cy="639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403280" y="6165720"/>
            <a:ext cx="727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Ejecución de programas para el Fomento de la Cultura Preventiva en el municipio de Cieza en colaboración con el ISSLRM, SEF y UCOM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8675280" y="260280"/>
            <a:ext cx="15228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6920" y="2637000"/>
            <a:ext cx="7699680" cy="4572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460000" y="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Eras Bk BT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5965200" y="2841840"/>
            <a:ext cx="602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0000"/>
                </a:solidFill>
                <a:latin typeface="Arial"/>
              </a:rPr>
              <a:t>Las políticas activas del Excmo. Ayuntamiento de Cieza para fomentar la cultura de la  Prevención de Riesgos Laborales en su entorn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404640"/>
            <a:ext cx="80643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 LA FINALIDAD DE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POTENCÍAR LA CULTURA PREVENTIVA LABORAL EN EL TERRITORIO DE NUESTRO MUNICIPI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TANTO EN EMPRESAS, TRABAJADORES, AGENTES SOCIALES, CENTROS EDUCATIVOS Y SOCIEDAD EN GENE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RE OTRAS ACTUACIONES, 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CABE DESTACAR LAS CAMPAÑAS DENOMINADAS “CRECE EN SEGURIDAD Y PREVENIX”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QUE SE HAN  LLEVADO A CABO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EN LOS CENTROS EDUCATIVOS DE CIEZA DURANTE LOS AÑOS 2004,2005 Y 2006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 EN LAS QUE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HAN PARTICIPADO CASI EL 90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 LOS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CENTROS EDUCATIVOS Y MÁS DE 1.000 ALUMNOS/A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TANTO DE ENSEÑANZA PRIMARIA COMO  SECUNDAR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380360" y="5157720"/>
            <a:ext cx="792000" cy="6429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508720" y="5157720"/>
            <a:ext cx="137160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79280" y="6165720"/>
            <a:ext cx="935280" cy="639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03280" y="6165720"/>
            <a:ext cx="727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Ejecución de programas para el Fomento de la Cultura Preventiva en el municipio de Cieza en colaboración con el ISSLRM, SEF y UCOM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8675280" y="260280"/>
            <a:ext cx="15228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2637000"/>
            <a:ext cx="7699680" cy="4572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460000" y="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Eras Bk BT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6200000">
            <a:off x="5965200" y="2841840"/>
            <a:ext cx="602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0000"/>
                </a:solidFill>
                <a:latin typeface="Arial"/>
              </a:rPr>
              <a:t>Las políticas activas del Excmo. Ayuntamiento de Cieza para fomentar la cultura de la  Prevención de Riesgos Laborales en su entorn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404640"/>
            <a:ext cx="80643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60280"/>
            <a:ext cx="853272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OR LO QUE RESPECTA AL </a:t>
            </a:r>
            <a:r>
              <a:rPr b="0" lang="es-ES" sz="1600" spc="-1" strike="noStrike">
                <a:solidFill>
                  <a:srgbClr val="0066ff"/>
                </a:solidFill>
                <a:latin typeface="Arial"/>
              </a:rPr>
              <a:t>SERVICIO DE EMPLEO Y FORMACIÓN DE COMUNIDAD AUTÓNOMA DE LA REGIÓN DE MURCI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POR PRIMERA VEZ, EL AYUNTAMIENTO DE CIEZA, SUBVENCIONADO POR ESTE ORGANISMO, VA A PONER EN MARCHA EL PROYECTO DENOMINADO </a:t>
            </a:r>
            <a:r>
              <a:rPr b="0" lang="es-ES" sz="1600" spc="-1" strike="noStrike">
                <a:solidFill>
                  <a:srgbClr val="0066ff"/>
                </a:solidFill>
                <a:latin typeface="Arial"/>
              </a:rPr>
              <a:t>“</a:t>
            </a:r>
            <a:r>
              <a:rPr b="1" lang="es-ES_tradnl" sz="1600" spc="-1" strike="noStrike">
                <a:solidFill>
                  <a:srgbClr val="0066ff"/>
                </a:solidFill>
                <a:latin typeface="Arial"/>
              </a:rPr>
              <a:t>PROMOCIÓN, FOMENTO Y DIFUSIÓN DE LA CULTURA PREVENTIVA EN MATERIA DE PREVENCIÓN DE RIESGOS LABORALES EN EL MUNICIPIO DE CIEZA 2006/2007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E  TIENE EN CUENTA EL ANEXO III, OCUPACIONES PRIORITARIAS PARA LAS TITULACIONES DE GRADO SUPERIOR Y MEDIO; EN CONCRETO, RELACIONES LABORALES </a:t>
            </a:r>
            <a:r>
              <a:rPr b="0" lang="es-ES_tradnl" sz="1600" spc="-1" strike="noStrike">
                <a:solidFill>
                  <a:srgbClr val="0066ff"/>
                </a:solidFill>
                <a:latin typeface="Arial"/>
              </a:rPr>
              <a:t>(GRADUADO SOCIAL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), ATENDIENDO, FUNDAMENTALMENTE, A LA INCIDENCIA DE LA </a:t>
            </a:r>
            <a:r>
              <a:rPr b="0" lang="es-ES_tradnl" sz="1600" spc="-1" strike="noStrike">
                <a:solidFill>
                  <a:srgbClr val="0066ff"/>
                </a:solidFill>
                <a:latin typeface="Arial"/>
              </a:rPr>
              <a:t>ACTIVIDAD DE ÉSTOS EN LA PREVENCIÓN DE RIESGOS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LABORALES COMO </a:t>
            </a:r>
            <a:r>
              <a:rPr b="0" lang="es-ES_tradnl" sz="1600" spc="-1" strike="noStrike">
                <a:solidFill>
                  <a:srgbClr val="0066ff"/>
                </a:solidFill>
                <a:latin typeface="Arial"/>
              </a:rPr>
              <a:t>NUEVO YACIMIENTO DE EMPLEO Y LA POSIBILIDAD DE INSERCIÓN LABORAL DE TÉCNICOS DE PREVENCIÓN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QUE EN LA ACTUALIDAD COBRAN ESPECIAL RELEVANCIA </a:t>
            </a:r>
            <a:r>
              <a:rPr b="0" lang="es-ES_tradnl" sz="1600" spc="-1" strike="noStrike">
                <a:solidFill>
                  <a:srgbClr val="0066ff"/>
                </a:solidFill>
                <a:latin typeface="Arial"/>
              </a:rPr>
              <a:t>TANTO EN ADMINISTRACIONES PÚBLICAS,  EMPRESAS Y SERVICIOS DE PREVEN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Logotipo del SEF"/>
          <p:cNvPicPr/>
          <p:nvPr/>
        </p:nvPicPr>
        <p:blipFill>
          <a:blip r:embed="rId2"/>
          <a:stretch/>
        </p:blipFill>
        <p:spPr>
          <a:xfrm>
            <a:off x="6588000" y="5157720"/>
            <a:ext cx="151452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79280" y="6165720"/>
            <a:ext cx="935280" cy="639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403280" y="6165720"/>
            <a:ext cx="727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Ejecución de programas para el Fomento de la Cultura Preventiva en el municipio de Cieza en colaboración con el ISSLRM, SEF y UCOM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8675280" y="260280"/>
            <a:ext cx="15228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6920" y="2637000"/>
            <a:ext cx="7699680" cy="4572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60000" y="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Eras Bk BT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6200000">
            <a:off x="5965200" y="2841840"/>
            <a:ext cx="602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0000"/>
                </a:solidFill>
                <a:latin typeface="Arial"/>
              </a:rPr>
              <a:t>Las políticas activas del Excmo. Ayuntamiento de Cieza para fomentar la cultura de la  Prevención de Riesgos Laborales en su entorn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404640"/>
            <a:ext cx="80643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60280"/>
            <a:ext cx="853272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Logotipo del SEF"/>
          <p:cNvPicPr/>
          <p:nvPr/>
        </p:nvPicPr>
        <p:blipFill>
          <a:blip r:embed="rId2"/>
          <a:stretch/>
        </p:blipFill>
        <p:spPr>
          <a:xfrm>
            <a:off x="6516720" y="4797360"/>
            <a:ext cx="1514520" cy="733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4000" y="260280"/>
            <a:ext cx="820872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_tradnl" sz="1600" spc="-1" strike="noStrike">
                <a:solidFill>
                  <a:srgbClr val="0066ff"/>
                </a:solidFill>
                <a:latin typeface="Arial"/>
              </a:rPr>
              <a:t>PROYECT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ESTÁ </a:t>
            </a:r>
            <a:r>
              <a:rPr b="0" lang="es-ES_tradnl" sz="1600" spc="-1" strike="noStrike">
                <a:solidFill>
                  <a:srgbClr val="0066ff"/>
                </a:solidFill>
                <a:latin typeface="Arial"/>
              </a:rPr>
              <a:t>ORIENTADO A LA </a:t>
            </a:r>
            <a:r>
              <a:rPr b="1" lang="es-ES_tradnl" sz="1600" spc="-1" strike="noStrike">
                <a:solidFill>
                  <a:srgbClr val="0066ff"/>
                </a:solidFill>
                <a:latin typeface="Arial"/>
              </a:rPr>
              <a:t>PROMOCIÓN, FOMENTO Y DIFUSIÓN DE LA CULTURA PREVENTIVA EN MATERIA DE PREVENCIÓN DE RIESGOS LABORALES EN EL MUNICIPIO DE CIEZA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TENIENDO EN CUENTA LA IMPORTANCIA DE LA PREVENCIÓN DE RIESGOS LABORALES Y QUE LA SINIESTRALIDAD  DISMINUYE LA CAPACIDAD PRODUCTIVA Y COMPETITIVA DE LAS EMPRESAS Y SUS CONSECUENCIAS INCIDEN DIRECTAMENTE EN LOS TRABAJADORES, SUS FAMILIAS Y LA SOCIEDAD EN GENER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NTRE OTRAS ACTIVIDADES Y METODOLOGÍAS </a:t>
            </a:r>
            <a:r>
              <a:rPr b="1" lang="es-ES_tradnl" sz="1600" spc="-1" strike="noStrike">
                <a:solidFill>
                  <a:srgbClr val="0066ff"/>
                </a:solidFill>
                <a:latin typeface="Arial"/>
              </a:rPr>
              <a:t>SE REALIZARÁN CAMPAÑAS DIVULGATIVAS, ANUNCIOS EN PRENSA LOCAL, EDICIÓN DE TRÍPTICOS SENCILLOS Y DE CARTELES RELACIONADOS CON LA PREVENCIÓN DE RIESGOS LABORALES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CONTANDO CON LA COLABORACIÓN, APOYO Y ASESORAMIENTO, EN SU CASO, DE LOS ORGANISMOS PÚBLICOS CON COMPETENCIAS EN MATERIA DE SEGURIDAD Y SALUD LABOR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79280" y="6165720"/>
            <a:ext cx="935280" cy="639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332000" y="6165720"/>
            <a:ext cx="781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elebración del Día Mundial de la Seguridad y Salud de los trabajadores. Otra forma de fomentar, difundir y promover la Cultura Preventiv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8675280" y="260280"/>
            <a:ext cx="15228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2637000"/>
            <a:ext cx="7699680" cy="4572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460000" y="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Eras Bk BT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5965200" y="2841840"/>
            <a:ext cx="602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0000"/>
                </a:solidFill>
                <a:latin typeface="Arial"/>
              </a:rPr>
              <a:t>Las políticas activas del Excmo. Ayuntamiento de Cieza para fomentar la cultura de la  Prevención de Riesgos Laborales en su entorn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404640"/>
            <a:ext cx="80643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60280"/>
            <a:ext cx="853272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260280"/>
            <a:ext cx="820872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333360"/>
            <a:ext cx="792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476280"/>
            <a:ext cx="835344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AYUNTAMIENTO DE CIEZA </a:t>
            </a:r>
            <a:r>
              <a:rPr b="0" lang="es-ES_tradnl" sz="1600" spc="-1" strike="noStrike">
                <a:solidFill>
                  <a:srgbClr val="0066ff"/>
                </a:solidFill>
                <a:latin typeface="Arial"/>
              </a:rPr>
              <a:t>DESDE EL AÑO 2005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, EN EL MES DE ABRIL, VIENE CELEBRANDO EL </a:t>
            </a:r>
            <a:r>
              <a:rPr b="0" lang="es-ES_tradnl" sz="1600" spc="-1" strike="noStrike">
                <a:solidFill>
                  <a:srgbClr val="0066ff"/>
                </a:solidFill>
                <a:latin typeface="Arial"/>
              </a:rPr>
              <a:t>“DÍA MUNDIAL PARA LA SEGURIDAD Y SALUD EN EL TRABAJO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es-ES_tradnl" sz="1600" spc="-1" strike="noStrike">
                <a:solidFill>
                  <a:srgbClr val="990033"/>
                </a:solidFill>
                <a:latin typeface="Arial"/>
              </a:rPr>
              <a:t> CELEBRACIÓN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EN EL MUNICIPIO DE LA JORNADA SOBRE EL </a:t>
            </a:r>
            <a:r>
              <a:rPr b="0" lang="es-ES_tradnl" sz="1600" spc="-1" strike="noStrike">
                <a:solidFill>
                  <a:srgbClr val="990033"/>
                </a:solidFill>
                <a:latin typeface="Arial"/>
              </a:rPr>
              <a:t>DÍA DE LA SEGURIDAD Y SALUD EN EL TRABAJO (28 DE ABRIL),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66ff"/>
                </a:solidFill>
                <a:latin typeface="Arial"/>
              </a:rPr>
              <a:t>SE PLANTEA COMO </a:t>
            </a:r>
            <a:r>
              <a:rPr b="1" lang="es-ES_tradnl" sz="1600" spc="-1" strike="noStrike">
                <a:solidFill>
                  <a:srgbClr val="0066ff"/>
                </a:solidFill>
                <a:latin typeface="Arial"/>
              </a:rPr>
              <a:t>JORNADA DE  SENSIBILIZACIÓN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 LA SOCIEDAD EN GENERAL SOBRE LA IMPORTANCIA DE LA PREVENCIÓN DE RIESGOS LABORALES Y LAS CONSECUENCIAS QUE SE DERIVAN DE LA FALTA DE ÉS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187280" y="5229360"/>
            <a:ext cx="1371600" cy="628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916360" y="5229360"/>
            <a:ext cx="792000" cy="642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067280" y="5373720"/>
            <a:ext cx="1371600" cy="4096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724360" y="5084640"/>
          <a:ext cx="971640" cy="733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24360" y="5084640"/>
                    <a:ext cx="971640" cy="7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6948360" y="5203800"/>
            <a:ext cx="122400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9280" y="6165720"/>
            <a:ext cx="935280" cy="639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332000" y="6165720"/>
            <a:ext cx="781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rimer año de celebración del Día Mundial de la Seguridad y Salud en el trabajo. I JORN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8675280" y="260280"/>
            <a:ext cx="15228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260280"/>
            <a:ext cx="7920000" cy="49078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66ff"/>
                </a:solidFill>
                <a:latin typeface="Arial"/>
              </a:rPr>
              <a:t>28 DE ABRIL DE 2005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DIA DE LA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SEGURIDAD Y SALUD EN EL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66ff"/>
                </a:solidFill>
                <a:latin typeface="Arial"/>
              </a:rPr>
              <a:t>PRIMER AÑO DE CELEBRACIÓN  Y </a:t>
            </a:r>
            <a:r>
              <a:rPr b="1" lang="es-ES_tradnl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66ff"/>
                </a:solidFill>
                <a:latin typeface="Arial"/>
              </a:rPr>
              <a:t>            </a:t>
            </a:r>
            <a:r>
              <a:rPr b="1" lang="es-ES_tradnl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66ff"/>
                </a:solidFill>
                <a:latin typeface="Arial"/>
              </a:rPr>
              <a:t> DIVULGACIÓN POR EL EXCMO. </a:t>
            </a:r>
            <a:r>
              <a:rPr b="1" lang="es-ES_tradnl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66ff"/>
                </a:solidFill>
                <a:latin typeface="Arial"/>
              </a:rPr>
              <a:t>          </a:t>
            </a:r>
            <a:r>
              <a:rPr b="1" lang="es-ES_tradnl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66ff"/>
                </a:solidFill>
                <a:latin typeface="Arial"/>
              </a:rPr>
              <a:t>AYUNTAMIENTO DE CIEZA (MURCI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“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HACIA UNA VERDADERA CULTURA DE LA PREVENCIÓ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OBJE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ensibilizar a los trabajadores del Ayuntamiento y ciudadanos en general de nuestra ciudad sobre  la importancia de la cultura prevencionista en materia de seguridad y salud en el mundo del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trabaj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460000" y="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Eras Bk BT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5965200" y="2841840"/>
            <a:ext cx="602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0000"/>
                </a:solidFill>
                <a:latin typeface="Arial"/>
              </a:rPr>
              <a:t>Las políticas activas del Excmo. Ayuntamiento de Cieza para fomentar la cultura de la  Prevención de Riesgos Laborales en su entorn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404640"/>
            <a:ext cx="80643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60280"/>
            <a:ext cx="853272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260280"/>
            <a:ext cx="820872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260280"/>
            <a:ext cx="835344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826920" y="5300640"/>
            <a:ext cx="1371600" cy="628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348000" y="5373720"/>
            <a:ext cx="792360" cy="642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5148360" y="5445000"/>
            <a:ext cx="1371600" cy="4096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308720" y="5229360"/>
          <a:ext cx="971640" cy="73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08720" y="5229360"/>
                    <a:ext cx="97164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138240" y="0"/>
            <a:ext cx="2711160" cy="3789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510880" y="1772280"/>
            <a:ext cx="287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LEJANDRO MENDOZA PLA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3203640" y="1989000"/>
            <a:ext cx="1325520" cy="18702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716360" y="2348640"/>
            <a:ext cx="3840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a el buen funcionamiento de los sistemas de gestión de la empresa (Calidad, Prevención, Medio Ambiente, etc.) la CULTURA, como colección de costumbres y maneras de hacer resulta vital y la GESTIÓN DEL CAMBIO CULTURAL toma la máxima importancia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9280" y="6165720"/>
            <a:ext cx="935280" cy="6397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332000" y="6165720"/>
            <a:ext cx="781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egundo año de celebración del Día Mundial de la Seguridad y Salud en el trabajo. II JORNADA, 27 de abril de 200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8675280" y="260280"/>
            <a:ext cx="15228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260280"/>
            <a:ext cx="7920000" cy="12830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66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66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460000" y="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Eras Bk BT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6200000">
            <a:off x="5965200" y="2841840"/>
            <a:ext cx="602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0000"/>
                </a:solidFill>
                <a:latin typeface="Arial"/>
              </a:rPr>
              <a:t>Las políticas activas del Excmo. Ayuntamiento de Cieza para fomentar la cultura de la  Prevención de Riesgos Laborales en su entorn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404640"/>
            <a:ext cx="80643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60280"/>
            <a:ext cx="853272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260280"/>
            <a:ext cx="820872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333360"/>
            <a:ext cx="828036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45964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5:50:51Z</dcterms:created>
  <dc:creator>Webmaster</dc:creator>
  <dc:description/>
  <dc:language>en-US</dc:language>
  <cp:lastModifiedBy>.</cp:lastModifiedBy>
  <dcterms:modified xsi:type="dcterms:W3CDTF">2007-03-02T10:30:48Z</dcterms:modified>
  <cp:revision>54</cp:revision>
  <dc:subject/>
  <dc:title>Diapositiva 1</dc:title>
</cp:coreProperties>
</file>