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1319040" cy="857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990720"/>
            <a:ext cx="164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G Recursos Huma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LOGO PREVENCION SMS" descr=""/>
          <p:cNvPicPr/>
          <p:nvPr/>
        </p:nvPicPr>
        <p:blipFill>
          <a:blip r:embed="rId3"/>
          <a:stretch/>
        </p:blipFill>
        <p:spPr>
          <a:xfrm>
            <a:off x="7772400" y="152280"/>
            <a:ext cx="1201680" cy="959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676520" y="990720"/>
            <a:ext cx="58672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42920" y="6583320"/>
            <a:ext cx="71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Plan de Prevención de las Agresiones a los profesionales  de la Sanidad de la Región de Mu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689440" cy="55976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3419640" y="5661000"/>
            <a:ext cx="2245680" cy="944640"/>
            <a:chOff x="3419640" y="5661000"/>
            <a:chExt cx="2245680" cy="944640"/>
          </a:xfrm>
        </p:grpSpPr>
        <p:graphicFrame>
          <p:nvGraphicFramePr>
            <p:cNvPr id="47" name=""/>
            <p:cNvGraphicFramePr/>
            <p:nvPr/>
          </p:nvGraphicFramePr>
          <p:xfrm>
            <a:off x="3419640" y="5661000"/>
            <a:ext cx="466200" cy="944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19640" y="5661000"/>
                      <a:ext cx="466200" cy="94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" name=""/>
            <p:cNvSpPr/>
            <p:nvPr/>
          </p:nvSpPr>
          <p:spPr>
            <a:xfrm>
              <a:off x="3876480" y="5965920"/>
              <a:ext cx="178884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gión de Mur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sejería de San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rocedimiento de Actuación ante comunicación de agr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88720" y="1600200"/>
            <a:ext cx="69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acto telefónico con el agred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16520" y="253692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e preci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13160" y="368928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esoramiento Juríd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7520" y="368928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istencia Psic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05160" y="5273640"/>
            <a:ext cx="266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istencia de letrado en ju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8600" y="4842000"/>
            <a:ext cx="20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t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0" idx="2"/>
            <a:endCxn id="91" idx="0"/>
          </p:cNvCxnSpPr>
          <p:nvPr/>
        </p:nvCxnSpPr>
        <p:spPr>
          <a:xfrm flipH="1">
            <a:off x="4637880" y="2119320"/>
            <a:ext cx="5400" cy="418320"/>
          </a:xfrm>
          <a:prstGeom prst="straightConnector1">
            <a:avLst/>
          </a:prstGeom>
          <a:ln w="28440">
            <a:solidFill>
              <a:srgbClr val="ffcc99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1" idx="2"/>
            <a:endCxn id="93" idx="0"/>
          </p:cNvCxnSpPr>
          <p:nvPr/>
        </p:nvCxnSpPr>
        <p:spPr>
          <a:xfrm rot="5400000">
            <a:off x="2772720" y="1823760"/>
            <a:ext cx="633960" cy="3097800"/>
          </a:xfrm>
          <a:prstGeom prst="bentConnector3">
            <a:avLst>
              <a:gd name="adj1" fmla="val 49829"/>
            </a:avLst>
          </a:prstGeom>
          <a:ln w="28440">
            <a:solidFill>
              <a:srgbClr val="ffcc99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3" idx="2"/>
            <a:endCxn id="95" idx="0"/>
          </p:cNvCxnSpPr>
          <p:nvPr/>
        </p:nvCxnSpPr>
        <p:spPr>
          <a:xfrm>
            <a:off x="1541160" y="4390560"/>
            <a:ext cx="1080" cy="451800"/>
          </a:xfrm>
          <a:prstGeom prst="straightConnector1">
            <a:avLst/>
          </a:prstGeom>
          <a:ln w="28440">
            <a:solidFill>
              <a:srgbClr val="ffcc99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2" idx="0"/>
          </p:cNvCxnSpPr>
          <p:nvPr/>
        </p:nvCxnSpPr>
        <p:spPr>
          <a:xfrm rot="5400000">
            <a:off x="4320720" y="3371760"/>
            <a:ext cx="633960" cy="2160"/>
          </a:xfrm>
          <a:prstGeom prst="bentConnector3">
            <a:avLst>
              <a:gd name="adj1" fmla="val 49829"/>
            </a:avLst>
          </a:prstGeom>
          <a:ln w="28440">
            <a:solidFill>
              <a:srgbClr val="ffcc99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2" idx="2"/>
            <a:endCxn id="94" idx="0"/>
          </p:cNvCxnSpPr>
          <p:nvPr/>
        </p:nvCxnSpPr>
        <p:spPr>
          <a:xfrm>
            <a:off x="4637160" y="4390920"/>
            <a:ext cx="2160" cy="883440"/>
          </a:xfrm>
          <a:prstGeom prst="straightConnector1">
            <a:avLst/>
          </a:prstGeom>
          <a:ln w="28440">
            <a:solidFill>
              <a:srgbClr val="ffcc99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5070600" y="4408560"/>
            <a:ext cx="1366560" cy="720720"/>
          </a:xfrm>
          <a:prstGeom prst="wedgeRectCallout">
            <a:avLst>
              <a:gd name="adj1" fmla="val -65097"/>
              <a:gd name="adj2" fmla="val 43833"/>
            </a:avLst>
          </a:prstGeom>
          <a:solidFill>
            <a:srgbClr val="ffffcc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rvicio Jurídi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036800" y="2276640"/>
            <a:ext cx="1225440" cy="836280"/>
            <a:chOff x="1036800" y="2276640"/>
            <a:chExt cx="1225440" cy="836280"/>
          </a:xfrm>
        </p:grpSpPr>
        <p:sp>
          <p:nvSpPr>
            <p:cNvPr id="103" name=""/>
            <p:cNvSpPr/>
            <p:nvPr/>
          </p:nvSpPr>
          <p:spPr>
            <a:xfrm>
              <a:off x="1036800" y="2320920"/>
              <a:ext cx="1223640" cy="792000"/>
            </a:xfrm>
            <a:prstGeom prst="wedgeRectCallout">
              <a:avLst>
                <a:gd name="adj1" fmla="val 79962"/>
                <a:gd name="adj2" fmla="val -50402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LOGO PREVENCION SMS" descr=""/>
            <p:cNvPicPr/>
            <p:nvPr/>
          </p:nvPicPr>
          <p:blipFill>
            <a:blip r:embed="rId1"/>
            <a:stretch/>
          </p:blipFill>
          <p:spPr>
            <a:xfrm>
              <a:off x="1042920" y="2276640"/>
              <a:ext cx="1219320" cy="83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09480" y="5638680"/>
            <a:ext cx="2089440" cy="720720"/>
          </a:xfrm>
          <a:prstGeom prst="wedgeRectCallout">
            <a:avLst>
              <a:gd name="adj1" fmla="val 6384"/>
              <a:gd name="adj2" fmla="val -106388"/>
            </a:avLst>
          </a:prstGeom>
          <a:solidFill>
            <a:srgbClr val="ffffcc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Mutua o Red de Salud 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49880" y="368928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didas de Act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1" idx="2"/>
            <a:endCxn id="106" idx="0"/>
          </p:cNvCxnSpPr>
          <p:nvPr/>
        </p:nvCxnSpPr>
        <p:spPr>
          <a:xfrm flipH="1" rot="16200000">
            <a:off x="5725080" y="1968120"/>
            <a:ext cx="633960" cy="2809080"/>
          </a:xfrm>
          <a:prstGeom prst="bentConnector3">
            <a:avLst>
              <a:gd name="adj1" fmla="val 49829"/>
            </a:avLst>
          </a:prstGeom>
          <a:ln w="28440">
            <a:solidFill>
              <a:srgbClr val="ffcc99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7315200" y="4800600"/>
            <a:ext cx="1511280" cy="709560"/>
          </a:xfrm>
          <a:prstGeom prst="wedgeRectCallout">
            <a:avLst>
              <a:gd name="adj1" fmla="val -35189"/>
              <a:gd name="adj2" fmla="val -105703"/>
            </a:avLst>
          </a:prstGeom>
          <a:solidFill>
            <a:srgbClr val="ffffcc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erencia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G RRHH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221440" y="2205000"/>
            <a:ext cx="419040" cy="3048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5040" y="5257800"/>
            <a:ext cx="3884760" cy="69840"/>
          </a:xfrm>
          <a:custGeom>
            <a:avLst/>
            <a:gdLst/>
            <a:ahLst/>
            <a:rect l="l" t="t" r="r" b="b"/>
            <a:pathLst>
              <a:path w="3199" h="12">
                <a:moveTo>
                  <a:pt x="0" y="12"/>
                </a:moveTo>
                <a:lnTo>
                  <a:pt x="18" y="0"/>
                </a:lnTo>
                <a:lnTo>
                  <a:pt x="3199" y="0"/>
                </a:lnTo>
                <a:lnTo>
                  <a:pt x="3181" y="12"/>
                </a:lnTo>
                <a:lnTo>
                  <a:pt x="0" y="1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5040" y="1992240"/>
            <a:ext cx="28800" cy="3284640"/>
          </a:xfrm>
          <a:custGeom>
            <a:avLst/>
            <a:gdLst/>
            <a:ahLst/>
            <a:rect l="l" t="t" r="r" b="b"/>
            <a:pathLst>
              <a:path w="18" h="2069">
                <a:moveTo>
                  <a:pt x="0" y="2069"/>
                </a:moveTo>
                <a:lnTo>
                  <a:pt x="0" y="12"/>
                </a:lnTo>
                <a:lnTo>
                  <a:pt x="18" y="0"/>
                </a:lnTo>
                <a:lnTo>
                  <a:pt x="18" y="2057"/>
                </a:lnTo>
                <a:lnTo>
                  <a:pt x="0" y="206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5040" y="1992240"/>
            <a:ext cx="28800" cy="3284640"/>
          </a:xfrm>
          <a:custGeom>
            <a:avLst/>
            <a:gdLst/>
            <a:ahLst/>
            <a:rect l="l" t="t" r="r" b="b"/>
            <a:pathLst>
              <a:path w="18" h="2069">
                <a:moveTo>
                  <a:pt x="0" y="2069"/>
                </a:moveTo>
                <a:lnTo>
                  <a:pt x="0" y="12"/>
                </a:lnTo>
                <a:lnTo>
                  <a:pt x="18" y="0"/>
                </a:lnTo>
                <a:lnTo>
                  <a:pt x="18" y="2057"/>
                </a:lnTo>
                <a:lnTo>
                  <a:pt x="0" y="206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32000" y="2693880"/>
            <a:ext cx="28800" cy="2583000"/>
          </a:xfrm>
          <a:custGeom>
            <a:avLst/>
            <a:gdLst/>
            <a:ahLst/>
            <a:rect l="l" t="t" r="r" b="b"/>
            <a:pathLst>
              <a:path w="18" h="1627">
                <a:moveTo>
                  <a:pt x="0" y="1627"/>
                </a:moveTo>
                <a:lnTo>
                  <a:pt x="0" y="12"/>
                </a:lnTo>
                <a:lnTo>
                  <a:pt x="18" y="0"/>
                </a:lnTo>
                <a:lnTo>
                  <a:pt x="18" y="1615"/>
                </a:lnTo>
                <a:lnTo>
                  <a:pt x="0" y="1627"/>
                </a:lnTo>
                <a:close/>
              </a:path>
            </a:pathLst>
          </a:custGeom>
          <a:solidFill>
            <a:srgbClr val="5e707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5040" y="2712960"/>
            <a:ext cx="426960" cy="256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05040" y="2693880"/>
            <a:ext cx="455760" cy="19080"/>
          </a:xfrm>
          <a:custGeom>
            <a:avLst/>
            <a:gdLst/>
            <a:ahLst/>
            <a:rect l="l" t="t" r="r" b="b"/>
            <a:pathLst>
              <a:path w="287" h="12">
                <a:moveTo>
                  <a:pt x="269" y="12"/>
                </a:moveTo>
                <a:lnTo>
                  <a:pt x="287" y="0"/>
                </a:lnTo>
                <a:lnTo>
                  <a:pt x="18" y="0"/>
                </a:lnTo>
                <a:lnTo>
                  <a:pt x="0" y="12"/>
                </a:lnTo>
                <a:lnTo>
                  <a:pt x="269" y="12"/>
                </a:lnTo>
                <a:close/>
              </a:path>
            </a:pathLst>
          </a:custGeom>
          <a:solidFill>
            <a:srgbClr val="8ca8a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73800" y="227664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87680" y="2333520"/>
            <a:ext cx="28800" cy="2943360"/>
          </a:xfrm>
          <a:custGeom>
            <a:avLst/>
            <a:gdLst/>
            <a:ahLst/>
            <a:rect l="l" t="t" r="r" b="b"/>
            <a:pathLst>
              <a:path w="18" h="1854">
                <a:moveTo>
                  <a:pt x="0" y="1854"/>
                </a:moveTo>
                <a:lnTo>
                  <a:pt x="0" y="12"/>
                </a:lnTo>
                <a:lnTo>
                  <a:pt x="18" y="0"/>
                </a:lnTo>
                <a:lnTo>
                  <a:pt x="18" y="1842"/>
                </a:lnTo>
                <a:lnTo>
                  <a:pt x="0" y="1854"/>
                </a:lnTo>
                <a:close/>
              </a:path>
            </a:pathLst>
          </a:custGeom>
          <a:solidFill>
            <a:srgbClr val="5e707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70440" y="2352600"/>
            <a:ext cx="417240" cy="2924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70440" y="2333520"/>
            <a:ext cx="446040" cy="19080"/>
          </a:xfrm>
          <a:custGeom>
            <a:avLst/>
            <a:gdLst/>
            <a:ahLst/>
            <a:rect l="l" t="t" r="r" b="b"/>
            <a:pathLst>
              <a:path w="281" h="12">
                <a:moveTo>
                  <a:pt x="263" y="12"/>
                </a:moveTo>
                <a:lnTo>
                  <a:pt x="281" y="0"/>
                </a:lnTo>
                <a:lnTo>
                  <a:pt x="18" y="0"/>
                </a:lnTo>
                <a:lnTo>
                  <a:pt x="0" y="12"/>
                </a:lnTo>
                <a:lnTo>
                  <a:pt x="263" y="12"/>
                </a:lnTo>
                <a:close/>
              </a:path>
            </a:pathLst>
          </a:custGeom>
          <a:solidFill>
            <a:srgbClr val="8ca8a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7800" y="198900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53080" y="4754520"/>
            <a:ext cx="28440" cy="522360"/>
          </a:xfrm>
          <a:custGeom>
            <a:avLst/>
            <a:gdLst/>
            <a:ahLst/>
            <a:rect l="l" t="t" r="r" b="b"/>
            <a:pathLst>
              <a:path w="18" h="329">
                <a:moveTo>
                  <a:pt x="0" y="329"/>
                </a:moveTo>
                <a:lnTo>
                  <a:pt x="0" y="12"/>
                </a:lnTo>
                <a:lnTo>
                  <a:pt x="18" y="0"/>
                </a:lnTo>
                <a:lnTo>
                  <a:pt x="18" y="317"/>
                </a:lnTo>
                <a:lnTo>
                  <a:pt x="0" y="329"/>
                </a:lnTo>
                <a:close/>
              </a:path>
            </a:pathLst>
          </a:custGeom>
          <a:solidFill>
            <a:srgbClr val="5e707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21440" y="4773600"/>
            <a:ext cx="4269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26120" y="4754520"/>
            <a:ext cx="455400" cy="19080"/>
          </a:xfrm>
          <a:custGeom>
            <a:avLst/>
            <a:gdLst/>
            <a:ahLst/>
            <a:rect l="l" t="t" r="r" b="b"/>
            <a:pathLst>
              <a:path w="287" h="12">
                <a:moveTo>
                  <a:pt x="269" y="12"/>
                </a:moveTo>
                <a:lnTo>
                  <a:pt x="287" y="0"/>
                </a:lnTo>
                <a:lnTo>
                  <a:pt x="23" y="0"/>
                </a:lnTo>
                <a:lnTo>
                  <a:pt x="0" y="12"/>
                </a:lnTo>
                <a:lnTo>
                  <a:pt x="269" y="12"/>
                </a:lnTo>
                <a:close/>
              </a:path>
            </a:pathLst>
          </a:custGeom>
          <a:solidFill>
            <a:srgbClr val="8ca8a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65800" y="43657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93080" y="184464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5040" y="5276880"/>
            <a:ext cx="180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70440" y="5276880"/>
            <a:ext cx="144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26120" y="5276880"/>
            <a:ext cx="144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89720" y="5276880"/>
            <a:ext cx="144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74160" y="5445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13800" y="5445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66520" y="5445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27640" y="4437000"/>
            <a:ext cx="914400" cy="49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888" y="24902"/>
                </a:moveTo>
                <a:lnTo>
                  <a:pt x="18900" y="24902"/>
                </a:lnTo>
              </a:path>
            </a:pathLst>
          </a:cu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Hasta 28 Febr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228600"/>
            <a:ext cx="5616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EVOLUCION DECLARACION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AGRES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0199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Verdana"/>
                <a:ea typeface="Times New Roman"/>
              </a:rPr>
              <a:t>AGRESIONES DECLARADAS 200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05720" y="1752480"/>
            <a:ext cx="22320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8 muj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2 hom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2025720"/>
            <a:ext cx="2876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1 AGRE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81280" y="2025720"/>
            <a:ext cx="2775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  AGRED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7" idx="3"/>
            <a:endCxn id="138" idx="1"/>
          </p:cNvCxnSpPr>
          <p:nvPr/>
        </p:nvCxnSpPr>
        <p:spPr>
          <a:xfrm>
            <a:off x="3180960" y="2258640"/>
            <a:ext cx="400680" cy="1080"/>
          </a:xfrm>
          <a:prstGeom prst="straightConnector1">
            <a:avLst/>
          </a:prstGeom>
          <a:ln w="25560">
            <a:solidFill>
              <a:srgbClr val="ffcc99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8" idx="3"/>
            <a:endCxn id="136" idx="1"/>
          </p:cNvCxnSpPr>
          <p:nvPr/>
        </p:nvCxnSpPr>
        <p:spPr>
          <a:xfrm>
            <a:off x="6356520" y="2259000"/>
            <a:ext cx="349920" cy="2160"/>
          </a:xfrm>
          <a:prstGeom prst="straightConnector1">
            <a:avLst/>
          </a:prstGeom>
          <a:ln w="25560">
            <a:solidFill>
              <a:srgbClr val="ffcc99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4495680" y="3429000"/>
            <a:ext cx="44960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NUNCIA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ICIOS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NTENCI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 Alejamiento, 3 multa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1 pr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86120" y="3505320"/>
            <a:ext cx="2341080" cy="234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312508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3125089"/>
              </a:path>
            </a:pathLst>
          </a:custGeom>
          <a:solidFill>
            <a:srgbClr val="2f9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85760" y="3505320"/>
            <a:ext cx="2343240" cy="234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40" y="19223"/>
                </a:moveTo>
                <a:arcTo wR="10800" hR="10800" stAng="7725089" swAng="8474911"/>
                <a:lnTo>
                  <a:pt x="10800" y="10800"/>
                </a:lnTo>
                <a:close/>
              </a:path>
              <a:path fill="none" w="21600" h="21600">
                <a:moveTo>
                  <a:pt x="4040" y="19223"/>
                </a:moveTo>
                <a:arcTo wR="10800" hR="10800" stAng="7725089" swAng="8474911"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4343400"/>
            <a:ext cx="253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4343400"/>
            <a:ext cx="253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3840" y="4952880"/>
            <a:ext cx="134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6000" rIns="12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i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80520" y="36576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126000" rIns="126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ten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pecializ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Verdana"/>
                <a:ea typeface="Times New Roman"/>
              </a:rPr>
              <a:t>Formas en que se materializa la agres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" y="1650960"/>
            <a:ext cx="7908840" cy="4116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9600" y="1650960"/>
            <a:ext cx="7908840" cy="4116600"/>
          </a:xfrm>
          <a:prstGeom prst="rect">
            <a:avLst/>
          </a:prstGeom>
          <a:noFill/>
          <a:ln w="79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8200" y="2384280"/>
            <a:ext cx="666720" cy="3383280"/>
          </a:xfrm>
          <a:prstGeom prst="rect">
            <a:avLst/>
          </a:prstGeom>
          <a:solidFill>
            <a:srgbClr val="9999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40040" y="2822400"/>
            <a:ext cx="658800" cy="294516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63960" y="3000240"/>
            <a:ext cx="668160" cy="276732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95800" y="4560840"/>
            <a:ext cx="668160" cy="120672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27640" y="4822920"/>
            <a:ext cx="668520" cy="94464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59480" y="5472000"/>
            <a:ext cx="660600" cy="295560"/>
          </a:xfrm>
          <a:prstGeom prst="rect">
            <a:avLst/>
          </a:prstGeom>
          <a:solidFill>
            <a:srgbClr val="ff808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85200" y="5708520"/>
            <a:ext cx="666720" cy="59040"/>
          </a:xfrm>
          <a:prstGeom prst="rect">
            <a:avLst/>
          </a:prstGeom>
          <a:solidFill>
            <a:srgbClr val="0066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9600" y="5767560"/>
            <a:ext cx="7908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79600" y="576756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711440" y="576756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835360" y="576756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967200" y="576756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100480" y="576756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232680" y="576756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356600" y="576756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8488440" y="576756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90360" y="1981080"/>
            <a:ext cx="339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2200" y="2419200"/>
            <a:ext cx="339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87520" y="2597040"/>
            <a:ext cx="226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1440" y="4157640"/>
            <a:ext cx="226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51200" y="4419720"/>
            <a:ext cx="226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76560" y="5068800"/>
            <a:ext cx="226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40440" y="5305320"/>
            <a:ext cx="11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560" y="5867280"/>
            <a:ext cx="1319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Agre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o amenaza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ver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77920" y="5843520"/>
            <a:ext cx="6289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sul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58720" y="5843520"/>
            <a:ext cx="4932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i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37840" y="5843520"/>
            <a:ext cx="704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Agre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gest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11080" y="5843520"/>
            <a:ext cx="704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Agre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fís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69680" y="5867280"/>
            <a:ext cx="119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Maltra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de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instal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41280" y="5867280"/>
            <a:ext cx="842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Amenaz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on ar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Verdana"/>
                <a:ea typeface="Times New Roman"/>
              </a:rPr>
              <a:t>Datos del Total de Agred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68760" y="2075040"/>
            <a:ext cx="3882600" cy="388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65" y="0"/>
                </a:moveTo>
                <a:arcTo wR="10800" hR="10800" stAng="-5411244" swAng="8584903"/>
                <a:lnTo>
                  <a:pt x="10800" y="10800"/>
                </a:lnTo>
                <a:close/>
              </a:path>
              <a:path fill="none" w="21600" h="21600">
                <a:moveTo>
                  <a:pt x="10765" y="0"/>
                </a:moveTo>
                <a:arcTo wR="10800" hR="10800" stAng="-5411244" swAng="8584903"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68760" y="2075040"/>
            <a:ext cx="3880800" cy="388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316" y="19413"/>
                </a:moveTo>
                <a:arcTo wR="10800" hR="10800" stAng="3173659" swAng="5537173"/>
                <a:lnTo>
                  <a:pt x="10800" y="10800"/>
                </a:lnTo>
                <a:close/>
              </a:path>
              <a:path fill="none" w="21600" h="21600">
                <a:moveTo>
                  <a:pt x="17316" y="19413"/>
                </a:moveTo>
                <a:arcTo wR="10800" hR="10800" stAng="3173659" swAng="5537173"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68760" y="2076120"/>
            <a:ext cx="3882600" cy="388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4" y="16967"/>
                </a:moveTo>
                <a:arcTo wR="10800" hR="10800" stAng="8710832" swAng="2342728"/>
                <a:lnTo>
                  <a:pt x="10800" y="10800"/>
                </a:lnTo>
                <a:close/>
              </a:path>
              <a:path fill="none" w="21600" h="21600">
                <a:moveTo>
                  <a:pt x="1934" y="16967"/>
                </a:moveTo>
                <a:arcTo wR="10800" hR="10800" stAng="8710832" swAng="2342728"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69840" y="2075040"/>
            <a:ext cx="3880800" cy="388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" y="10004"/>
                </a:moveTo>
                <a:arcTo wR="10800" hR="10800" stAng="-10546440" swAng="2515860"/>
                <a:lnTo>
                  <a:pt x="10800" y="10800"/>
                </a:lnTo>
                <a:close/>
              </a:path>
              <a:path fill="none" w="21600" h="21600">
                <a:moveTo>
                  <a:pt x="29" y="10004"/>
                </a:moveTo>
                <a:arcTo wR="10800" hR="10800" stAng="-10546440" swAng="2515860"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69120" y="2076120"/>
            <a:ext cx="3881880" cy="388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319" y="3011"/>
                </a:moveTo>
                <a:arcTo wR="10800" hR="10800" stAng="-8030580" swAng="1671928"/>
                <a:lnTo>
                  <a:pt x="10800" y="10800"/>
                </a:lnTo>
                <a:close/>
              </a:path>
              <a:path fill="none" w="21600" h="21600">
                <a:moveTo>
                  <a:pt x="3319" y="3011"/>
                </a:moveTo>
                <a:arcTo wR="10800" hR="10800" stAng="-8030580" swAng="1671928"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66960" y="2076480"/>
            <a:ext cx="3886560" cy="387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27" y="417"/>
                </a:moveTo>
                <a:arcTo wR="10800" hR="10800" stAng="-6358652" swAng="349396"/>
                <a:lnTo>
                  <a:pt x="10800" y="10800"/>
                </a:lnTo>
                <a:close/>
              </a:path>
              <a:path fill="none" w="21600" h="21600">
                <a:moveTo>
                  <a:pt x="7827" y="417"/>
                </a:moveTo>
                <a:arcTo wR="10800" hR="10800" stAng="-6358652" swAng="349396"/>
              </a:path>
            </a:pathLst>
          </a:custGeom>
          <a:solidFill>
            <a:srgbClr val="ff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64440" y="2076120"/>
            <a:ext cx="3891600" cy="3880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896" y="169"/>
                </a:moveTo>
                <a:arcTo wR="10800" hR="10800" stAng="-6009256" swAng="355488"/>
                <a:lnTo>
                  <a:pt x="10800" y="10800"/>
                </a:lnTo>
                <a:close/>
              </a:path>
              <a:path fill="none" w="21600" h="21600">
                <a:moveTo>
                  <a:pt x="8896" y="169"/>
                </a:moveTo>
                <a:arcTo wR="10800" hR="10800" stAng="-6009256" swAng="355488"/>
              </a:path>
            </a:pathLst>
          </a:cu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72720" y="2075040"/>
            <a:ext cx="3875040" cy="388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03" y="29"/>
                </a:moveTo>
                <a:arcTo wR="10800" hR="10800" stAng="-5653768" swAng="242524"/>
                <a:lnTo>
                  <a:pt x="10800" y="10800"/>
                </a:lnTo>
                <a:close/>
              </a:path>
              <a:path fill="none" w="21600" h="21600">
                <a:moveTo>
                  <a:pt x="10003" y="29"/>
                </a:moveTo>
                <a:arcTo wR="10800" hR="10800" stAng="-5653768" swAng="242524"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14280" y="3351240"/>
            <a:ext cx="1987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7240" y="5027760"/>
            <a:ext cx="1987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51960" y="4265640"/>
            <a:ext cx="1987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51960" y="3351240"/>
            <a:ext cx="1987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85480" y="2665440"/>
            <a:ext cx="1987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42680" y="2513160"/>
            <a:ext cx="997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000" y="2131920"/>
            <a:ext cx="997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7600" y="2208240"/>
            <a:ext cx="997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05720" y="3579840"/>
            <a:ext cx="17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Faculta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19520" y="5713560"/>
            <a:ext cx="17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nferme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44179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Au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nferme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297036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el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205596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Administ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175104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Matr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9880" y="14461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V. Segur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167472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ond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1827360"/>
            <a:ext cx="0" cy="304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3880"/>
            <a:ext cx="7543800" cy="8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sos/Talleres formativos (21 horas de dur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2819520"/>
            <a:ext cx="7848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Reconocimiento, control y gestión eficaz de las emociones/sentimientos generadas en las situaciones conflictivas.(Autocontrol emoc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Revisión y/o adquisición de conocimientos y actitudes sobre habilidades sociales y comunicativas para afrontar situaciones de estrés en la relación sanit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80880"/>
            <a:ext cx="58672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Verdana"/>
                <a:ea typeface="Times New Roman"/>
              </a:rPr>
              <a:t>Plan de 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24000" y="1557360"/>
            <a:ext cx="30286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ÍNDICE TE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228600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A IRA y HOST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8130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ACCIONES EMOCIONALES [+ ó -] EN EL PERSONAL DE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3645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TILOS DE COMUNICACIÓN Y COMPORTAMIENTO EN LAS SITUACIONES ESTRES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4476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ITUACIONES EN LAS QUE APLICAR LAS HABILIDADES SOCI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5310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A DESTREZA DE LA CONTENCIÓN EMOCIONAL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304920"/>
            <a:ext cx="5867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Verdana"/>
                <a:ea typeface="Times New Roman"/>
              </a:rPr>
              <a:t>Plan de 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500"/>
                            </p:stCondLst>
                            <p:childTnLst>
                              <p:par>
                                <p:cTn id="5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4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00"/>
                            </p:stCondLst>
                            <p:childTnLst>
                              <p:par>
                                <p:cTn id="5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600200" y="228600"/>
            <a:ext cx="5867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Verdana"/>
                <a:ea typeface="Times New Roman"/>
              </a:rPr>
              <a:t>Comisión de Segu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00000" y="2492280"/>
            <a:ext cx="7632720" cy="2013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eguimiento y evaluación de la puesta en marcha y desarrollo del Plan de Agresiones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2057400"/>
            <a:ext cx="121428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27280" y="4869000"/>
            <a:ext cx="554184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ituida el 8 de Febrero de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619280" y="115920"/>
            <a:ext cx="5867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Verdana"/>
                <a:ea typeface="Times New Roman"/>
              </a:rPr>
              <a:t>Algunas medidas de actuación adoptadas ante agre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26920" y="1700280"/>
            <a:ext cx="7632720" cy="4314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8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Reubicación del agred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8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Cambio de médico o Centro de Salud del agres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8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Contratación o aumento del nº de Vigilantes de Segur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8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Instalación de Sistemas de restriccion y control de acceso en Hospit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8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Instalación de dispositivos de alar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095640"/>
          </a:xfrm>
          <a:prstGeom prst="rect">
            <a:avLst/>
          </a:prstGeom>
          <a:solidFill>
            <a:srgbClr val="800000"/>
          </a:solidFill>
          <a:ln w="25560">
            <a:solidFill>
              <a:srgbClr val="800000"/>
            </a:solidFill>
            <a:miter/>
          </a:ln>
        </p:spPr>
        <p:txBody>
          <a:bodyPr lIns="198000" rIns="198000" tIns="262800" bIns="262800" anchor="t">
            <a:norm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quellos incidentes en los que la persona es objeto de malos tratos, amenazas o ataques en circunstancias relacionadas con su trabajo, incluyendo el trayecto entre el domicilio y el trabajo, con la implicación de que se amenace explícita o implícitamente su seguridad, bienestar o salud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380880"/>
            <a:ext cx="482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  <a:ea typeface="Times New Roman"/>
              </a:rPr>
              <a:t>Violencia en el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50920" y="4149720"/>
            <a:ext cx="54738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632448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Verdana"/>
                <a:ea typeface="Times New Roman"/>
              </a:rPr>
              <a:t>Organización</a:t>
            </a:r>
            <a:br>
              <a:rPr sz="2800"/>
            </a:br>
            <a:r>
              <a:rPr b="0" lang="en-US" sz="2800" spc="-1" strike="noStrike">
                <a:solidFill>
                  <a:srgbClr val="990033"/>
                </a:solidFill>
                <a:latin typeface="Verdana"/>
                <a:ea typeface="Times New Roman"/>
              </a:rPr>
              <a:t>Mundial de la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2349360"/>
            <a:ext cx="4610160" cy="237672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198000" tIns="262800" bIns="262800" anchor="ctr">
            <a:normAutofit fontScale="84000"/>
          </a:bodyPr>
          <a:p>
            <a:pPr marL="288000" indent="-2880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i un 25% de todos los incidentes de violencia en el trabajo se producen en el sector sa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940360" y="2205000"/>
            <a:ext cx="2592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5616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  <a:ea typeface="Times New Roman"/>
              </a:rPr>
              <a:t>PLAN DE PRE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1531800"/>
            <a:ext cx="4062600" cy="1320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198000" tIns="10800" bIns="46800" anchor="t">
            <a:no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ejería de Sa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2997360"/>
            <a:ext cx="4043520" cy="13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198000" tIns="10800" bIns="46800" anchor="t">
            <a:no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rencia del Servicio Murciano de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80000" y="3429000"/>
            <a:ext cx="3335400" cy="525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198000" tIns="10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upo de expe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/>
          <p:nvPr/>
        </p:nvCxnSpPr>
        <p:spPr>
          <a:xfrm flipH="1" rot="16200000">
            <a:off x="587160" y="3092040"/>
            <a:ext cx="897840" cy="418320"/>
          </a:xfrm>
          <a:prstGeom prst="bentConnector2">
            <a:avLst/>
          </a:prstGeom>
          <a:ln w="28440">
            <a:solidFill>
              <a:srgbClr val="ffcc99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9" idx="2"/>
          </p:cNvCxnSpPr>
          <p:nvPr/>
        </p:nvCxnSpPr>
        <p:spPr>
          <a:xfrm flipH="1">
            <a:off x="6104880" y="3967200"/>
            <a:ext cx="1143720" cy="684720"/>
          </a:xfrm>
          <a:prstGeom prst="straightConnector1">
            <a:avLst/>
          </a:prstGeom>
          <a:ln w="28440">
            <a:solidFill>
              <a:srgbClr val="ffcc99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8" idx="3"/>
            <a:endCxn id="59" idx="1"/>
          </p:cNvCxnSpPr>
          <p:nvPr/>
        </p:nvCxnSpPr>
        <p:spPr>
          <a:xfrm>
            <a:off x="5243400" y="3662280"/>
            <a:ext cx="324720" cy="30600"/>
          </a:xfrm>
          <a:prstGeom prst="straightConnector1">
            <a:avLst/>
          </a:prstGeom>
          <a:ln w="28440">
            <a:solidFill>
              <a:srgbClr val="ffcc99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2050920" y="4724280"/>
            <a:ext cx="6437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de Prevención de las Agresiones a los profesionales de la Sanidad de la Región de Mur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9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5616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Verdana"/>
                <a:ea typeface="Times New Roman"/>
              </a:rPr>
              <a:t>PLAN DE PRE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36000" cy="468000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198000" rIns="198000" tIns="46800" bIns="46800" anchor="ctr">
            <a:norm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7 de Junio de 2005: Aprobado en el Comité de  Seguridad y Salud del S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1 de Julio de 2005: Aprobado en el Consejo de Administración del S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8 de Julio de 2005: Presentación por la Consejera de Sanidad a los medios de comunic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4 de Octubre de 2005: Puesta en marcha del Plan en Atención Primaria y Urgen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2 de Diciembre de 2005: Puesta en marcha del Plan en Atención Especializ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392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990033"/>
                </a:solidFill>
                <a:latin typeface="Verdana"/>
                <a:ea typeface="Times New Roman"/>
              </a:rPr>
              <a:t>OBJETIVO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991280" cy="4176720"/>
          </a:xfrm>
          <a:prstGeom prst="rect">
            <a:avLst/>
          </a:prstGeom>
          <a:solidFill>
            <a:srgbClr val="800000"/>
          </a:solidFill>
          <a:ln w="25560">
            <a:solidFill>
              <a:srgbClr val="800000"/>
            </a:solidFill>
            <a:miter/>
          </a:ln>
        </p:spPr>
        <p:txBody>
          <a:bodyPr lIns="126000" rIns="126000" tIns="0" bIns="0" anchor="ctr">
            <a:noAutofit/>
          </a:bodyPr>
          <a:p>
            <a:pPr marL="270000" indent="-270000">
              <a:spcBef>
                <a:spcPts val="41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sminuir las posibilidades de conflicto entre los usuarios y el sistema sanita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41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ransmitir recomendaciones de actuación en caso de incide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41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nerar seguridad y confianza en el personal del sistema sanitario con apoyo administrativo y jurídic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2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Verdana"/>
                <a:ea typeface="Times New Roman"/>
              </a:rPr>
              <a:t>CONTEN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2920" y="2421000"/>
            <a:ext cx="412524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6000" rIns="126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DIDA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CION DE AGRE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680" y="4627440"/>
            <a:ext cx="44254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6000" rIns="126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DIMIENTO DE ACTU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 AGRE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720" y="2421000"/>
            <a:ext cx="316728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0" rIns="126000" tIns="72000" bIns="720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revención de confli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egu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1773360"/>
            <a:ext cx="2808360" cy="914400"/>
          </a:xfrm>
          <a:prstGeom prst="bracketPair">
            <a:avLst>
              <a:gd name="adj" fmla="val 17129"/>
            </a:avLst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0" rIns="126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joras organizativas y asisten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3"/>
            <a:endCxn id="71" idx="1"/>
          </p:cNvCxnSpPr>
          <p:nvPr/>
        </p:nvCxnSpPr>
        <p:spPr>
          <a:xfrm>
            <a:off x="4446360" y="2985840"/>
            <a:ext cx="618120" cy="118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4932360" y="4581360"/>
            <a:ext cx="4032360" cy="122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0" rIns="126000" tIns="72000" bIns="720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istema de notificación y regi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Apoyo al agre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Adopción de med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70" idx="3"/>
            <a:endCxn id="74" idx="1"/>
          </p:cNvCxnSpPr>
          <p:nvPr/>
        </p:nvCxnSpPr>
        <p:spPr>
          <a:xfrm>
            <a:off x="4597200" y="5192280"/>
            <a:ext cx="322920" cy="10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076720" y="3213000"/>
            <a:ext cx="1295640" cy="1366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28800" y="0"/>
            <a:ext cx="55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Verdana"/>
                <a:ea typeface="Times New Roman"/>
              </a:rPr>
              <a:t>Sistema de regis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5013360"/>
            <a:ext cx="2533680" cy="1006560"/>
          </a:xfrm>
          <a:prstGeom prst="wedgeRectCallout">
            <a:avLst>
              <a:gd name="adj1" fmla="val -20175"/>
              <a:gd name="adj2" fmla="val -128074"/>
            </a:avLst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 través de la intranet del Servicio Murciano de Sal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alquier trabajador puede registr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9360" y="1557360"/>
            <a:ext cx="2980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ctivo (s) de la Ger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io de Preven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ctor General de RRH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io Jurí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4952880"/>
            <a:ext cx="2679840" cy="762120"/>
          </a:xfrm>
          <a:prstGeom prst="wedgeRectCallout">
            <a:avLst>
              <a:gd name="adj1" fmla="val -26305"/>
              <a:gd name="adj2" fmla="val -143125"/>
            </a:avLst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 realiza el Coordina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l Centro de Salud o Directivo del Hospi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3429000"/>
            <a:ext cx="1658880" cy="70956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854" y="0"/>
                </a:lnTo>
                <a:lnTo>
                  <a:pt x="21600" y="10800"/>
                </a:lnTo>
                <a:lnTo>
                  <a:pt x="158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3429000"/>
            <a:ext cx="1805040" cy="770040"/>
          </a:xfrm>
          <a:custGeom>
            <a:avLst/>
            <a:gdLst>
              <a:gd name="textAreaLeft" fmla="*/ 0 w 1805040"/>
              <a:gd name="textAreaRight" fmla="*/ 1805400 w 1805040"/>
              <a:gd name="textAreaTop" fmla="*/ 0 h 770040"/>
              <a:gd name="textAreaBottom" fmla="*/ 770400 h 77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i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43640" y="3431880"/>
            <a:ext cx="2471760" cy="825840"/>
          </a:xfrm>
          <a:custGeom>
            <a:avLst/>
            <a:gdLst>
              <a:gd name="textAreaLeft" fmla="*/ 0 w 2471760"/>
              <a:gd name="textAreaRight" fmla="*/ 2472120 w 2471760"/>
              <a:gd name="textAreaTop" fmla="*/ 0 h 825840"/>
              <a:gd name="textAreaBottom" fmla="*/ 826200 h 82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01" y="0"/>
                </a:lnTo>
                <a:lnTo>
                  <a:pt x="21600" y="10800"/>
                </a:lnTo>
                <a:lnTo>
                  <a:pt x="1820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ci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908000" y="3141720"/>
            <a:ext cx="1295640" cy="1366920"/>
          </a:xfrm>
          <a:prstGeom prst="rect">
            <a:avLst/>
          </a:prstGeom>
          <a:ln w="0">
            <a:noFill/>
          </a:ln>
        </p:spPr>
      </p:pic>
      <p:cxnSp>
        <p:nvCxnSpPr>
          <p:cNvPr id="85" name=""/>
          <p:cNvCxnSpPr>
            <a:stCxn id="84" idx="0"/>
            <a:endCxn id="79" idx="1"/>
          </p:cNvCxnSpPr>
          <p:nvPr/>
        </p:nvCxnSpPr>
        <p:spPr>
          <a:xfrm flipH="1" flipV="1" rot="5400000">
            <a:off x="2373840" y="2273400"/>
            <a:ext cx="1050120" cy="686520"/>
          </a:xfrm>
          <a:prstGeom prst="bentConnector2">
            <a:avLst/>
          </a:prstGeom>
          <a:ln w="28440">
            <a:solidFill>
              <a:srgbClr val="ffcc99"/>
            </a:solidFill>
            <a:miter/>
            <a:tailEnd len="med" type="triangle" w="med"/>
          </a:ln>
        </p:spPr>
      </p:cxnSp>
      <p:sp>
        <p:nvSpPr>
          <p:cNvPr id="86" name="computr3"/>
          <p:cNvSpPr/>
          <p:nvPr/>
        </p:nvSpPr>
        <p:spPr>
          <a:xfrm>
            <a:off x="179280" y="2060640"/>
            <a:ext cx="1440000" cy="1192320"/>
          </a:xfrm>
          <a:prstGeom prst="pie">
            <a:avLst/>
          </a:prstGeom>
          <a:solidFill>
            <a:srgbClr val="6666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076720" y="328464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3T09:20:28Z</dcterms:created>
  <dc:creator>mrh64w</dc:creator>
  <dc:description/>
  <dc:language>en-US</dc:language>
  <cp:lastModifiedBy>.</cp:lastModifiedBy>
  <dcterms:modified xsi:type="dcterms:W3CDTF">2007-03-02T10:56:11Z</dcterms:modified>
  <cp:revision>139</cp:revision>
  <dc:subject/>
  <dc:title>Diapositiva 1</dc:title>
</cp:coreProperties>
</file>