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261-5B50-4009-A938-08C431E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59C-CA9A-46EE-A69B-047AE15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762-66F0-4A91-A92A-B112A765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AEC-A21C-493F-97E1-0B2FAEA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0E8-2210-42CC-87C3-82BCF8F1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7385-A8DF-4534-B139-034D9B7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D98C-EDF4-42C8-AF36-65EC159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64B-E366-4A74-A7A3-E229A9AD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9BCD-15A0-4261-BF9F-FF4CE26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07D9-40B9-4A35-A00C-8E4806A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C41-6434-4E46-9E4E-9E491E0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0C7-636B-4549-8DF8-9ADC037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847-CDA3-4CAF-B788-A6AB1F3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FF3D-268C-4832-8BD0-7395D3A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1077-126C-4F69-933C-F02C480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F172-8A43-4BD4-A898-439B7DB2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EB6-9B7B-4772-B253-3965ABE7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83F-FC19-485B-9E52-AA6327A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20D-A699-4A10-9DD5-3A2FF2A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8B8-8BF2-4C5E-B300-D80A8BF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E80-2CCA-432D-9926-88C2165D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554-D090-46C5-BBEB-85134BB2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47D-B978-4941-84AA-67CC7FE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63C-72A5-4A4E-A7CC-838D581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EC9-6177-4229-996F-1F08E0DF5CD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D65D-8748-4823-A764-5E7D26868F13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Garamond"/>
              </a:rPr>
              <a:t>ESTRATEGIA</a:t>
            </a:r>
            <a:br>
              <a:rPr sz="4400"/>
            </a:br>
            <a:r>
              <a:rPr b="0" lang="es-ES" sz="4400" spc="-1" strike="noStrike">
                <a:solidFill>
                  <a:srgbClr val="420000"/>
                </a:solidFill>
                <a:latin typeface="Garamond"/>
              </a:rPr>
              <a:t>ESPAÑOL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007-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424640" y="1127160"/>
            <a:ext cx="1174680" cy="641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ill Sans"/>
              </a:rPr>
              <a:t>SECRETARÍA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Gill Sans"/>
              </a:rPr>
              <a:t>DE EMP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" descr="logoMtassolo"/>
          <p:cNvPicPr/>
          <p:nvPr/>
        </p:nvPicPr>
        <p:blipFill>
          <a:blip r:embed="rId1"/>
          <a:stretch/>
        </p:blipFill>
        <p:spPr>
          <a:xfrm>
            <a:off x="684360" y="1125360"/>
            <a:ext cx="2303280" cy="80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logoINSHTsolo"/>
          <p:cNvPicPr/>
          <p:nvPr/>
        </p:nvPicPr>
        <p:blipFill>
          <a:blip r:embed="rId2"/>
          <a:stretch/>
        </p:blipFill>
        <p:spPr>
          <a:xfrm>
            <a:off x="7424640" y="1820880"/>
            <a:ext cx="1179720" cy="423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659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rzo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1CF-81B0-448D-914D-F5A41139B9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20000"/>
                </a:solidFill>
                <a:latin typeface="Garamond"/>
              </a:rPr>
              <a:t>ESTRATEGIA COMUNITARIA  DE SEGURIDAD Y SALUD EN EL TRABAJO 2007-2012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3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arantizar la implementación de la legislación de la UE en los Estados miem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poyar a las PYMES para el cumplimiento de la legislación en vig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daptar el marco legislativo a los cambios en el mundo del trabajo y la simplificación poniendo especial atención en las PY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omentar el desarrollo y la implementación de las estrategias na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avorecer los cambios de comportamiento tanto en trabajadores como empres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laborar métodos para la identificación y evaluación de nuevos riesgos poten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ejorar la evaluación de los progresos re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mover la seguridad y salud en el trabajo a nivel inter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B14-9874-4AA2-BF1E-2BD61D0AD7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3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jorar de forma contínua y progresiva los niveles de seguridad y salud en 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, por otro, consecuencia de lo anterior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ducir de manera constante y significativa la siniestralidad labor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acercarnos con ello a los valores medios de la Unión Europe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OBJETIVO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0 Esquina doblada"/>
          <p:cNvSpPr/>
          <p:nvPr/>
        </p:nvSpPr>
        <p:spPr>
          <a:xfrm>
            <a:off x="5857920" y="5000760"/>
            <a:ext cx="2643120" cy="1500120"/>
          </a:xfrm>
          <a:prstGeom prst="foldedCorner">
            <a:avLst>
              <a:gd name="adj" fmla="val 16666"/>
            </a:avLst>
          </a:prstGeom>
          <a:solidFill>
            <a:srgbClr val="cccc00"/>
          </a:solidFill>
          <a:ln w="0">
            <a:noFill/>
          </a:ln>
          <a:effectLst>
            <a:outerShdw dist="507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DUCCION DE UN 25%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ASA DE INCIDENCIA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CSST 2007-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mph" presetID="18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6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ADC-81D8-4683-9A93-4580B62F05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2928600"/>
            <a:ext cx="3924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3071520"/>
            <a:ext cx="404352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xigencia de política comunitar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iculación de la Estrategia comunitaria de seguridad y salud en el trabajo 2007-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xigencia de política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xige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11280" y="1773360"/>
            <a:ext cx="8064360" cy="119124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0000"/>
                </a:solidFill>
                <a:latin typeface="Verdana"/>
              </a:rPr>
              <a:t>La Estrategia española de Seguridad y Salud en el Trabajo se configura así como el instrumento del  Estado para establecer el marco general de las políticas de prevención de riesgos laborales a                                       corto y, sobre todo, medio y largo pla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 flipV="1" rot="8100000">
            <a:off x="810000" y="4384800"/>
            <a:ext cx="34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¿Por qué una estrateg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9 Rectángulo"/>
          <p:cNvSpPr/>
          <p:nvPr/>
        </p:nvSpPr>
        <p:spPr>
          <a:xfrm>
            <a:off x="4500720" y="3143160"/>
            <a:ext cx="71280" cy="321480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38243" dir="5626691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4CFF-AD36-4B36-BCEC-F94548A858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8092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0 AÑOS DE VIGENCIA  MARCO LEGAL DE LA P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EXIGENCIA DE POLÍTICA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95280" y="3435480"/>
            <a:ext cx="8569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VALUACIÓN DE LA EFICACIA DEL  SISTEMA DE LA PRL  EN 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730760"/>
            <a:ext cx="856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DENTIFICACIÓN DE LAS DISFUNCIONES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620720" y="6099120"/>
            <a:ext cx="1513080" cy="49860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291280" y="6099120"/>
            <a:ext cx="2809800" cy="49860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LITICAS PUB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4068720" y="3068640"/>
            <a:ext cx="1008000" cy="41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4068720" y="4292640"/>
            <a:ext cx="1008000" cy="41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17 Conector angular"/>
          <p:cNvCxnSpPr>
            <a:stCxn id="124" idx="0"/>
            <a:endCxn id="125" idx="0"/>
          </p:cNvCxnSpPr>
          <p:nvPr/>
        </p:nvCxnSpPr>
        <p:spPr>
          <a:xfrm flipH="1" flipV="1" rot="5400000">
            <a:off x="4535280" y="3938760"/>
            <a:ext cx="3960" cy="4320360"/>
          </a:xfrm>
          <a:prstGeom prst="bentConnector3">
            <a:avLst>
              <a:gd name="adj1" fmla="val 23980000"/>
            </a:avLst>
          </a:prstGeom>
          <a:ln w="57240">
            <a:solidFill>
              <a:srgbClr val="cccc00"/>
            </a:solidFill>
            <a:miter/>
            <a:headEnd len="med" type="arrow" w="med"/>
            <a:tailEnd len="med" type="arrow" w="med"/>
          </a:ln>
        </p:spPr>
      </p:cxn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28880" y="2356920"/>
            <a:ext cx="67579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2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éficit en la integración de la prevención en el diseño, organización y funcionamiento de la empre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87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alta de recursos preventivos en el centr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87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ormalismo de la prev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876"/>
              </a:spcBef>
              <a:buClr>
                <a:srgbClr val="9999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2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éficit en la calidad de la actividad preventiva en la empre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87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Heterogeneidad de las entidades con competencia en materia de P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87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2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esigual desarrollo y aplicación del principio de participación de los trabajadores en la política preventiva de la empre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157-7B46-45C8-A8F6-EDA8CD06BA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8"/>
          <p:cNvSpPr/>
          <p:nvPr/>
        </p:nvSpPr>
        <p:spPr>
          <a:xfrm rot="16200000">
            <a:off x="-1011960" y="4180680"/>
            <a:ext cx="4176720" cy="3682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CION DE LA PREVEN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EXIGENCIA DE POLÍTICA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 flipH="1" rot="16200000">
            <a:off x="-310680" y="3990240"/>
            <a:ext cx="1728720" cy="459720"/>
          </a:xfrm>
          <a:prstGeom prst="rect">
            <a:avLst/>
          </a:prstGeom>
          <a:solidFill>
            <a:srgbClr val="8a8a5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6"/>
          <p:cNvSpPr/>
          <p:nvPr/>
        </p:nvSpPr>
        <p:spPr>
          <a:xfrm rot="16200000">
            <a:off x="1030680" y="2529720"/>
            <a:ext cx="105876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 rot="16200000">
            <a:off x="731160" y="5697720"/>
            <a:ext cx="163512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 rot="16200000">
            <a:off x="697320" y="3984120"/>
            <a:ext cx="170640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1EA-B987-42F5-9AE8-AF8BD7D223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2598480"/>
            <a:ext cx="692316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rencias en el sistema de información esta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ficiencias en los recursos y en la coordinación de los estudios e investigación en la materi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ficiencias en el sistema de control del cumplimiento y en la eficiencia de las políticas preventivas públ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suficiencia y descoordinación de políticas de ámbito estatal o suprautonómic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suficiencia e inadecuación la estructura y medios de las dos Instituciones del Estado en la materia: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INSHT e IT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persión e ineficiencia del cuadro de responsabilidades por incumpl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EXIGENCIA DE POLÍTICA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 flipH="1" rot="16200000">
            <a:off x="-1280160" y="4127760"/>
            <a:ext cx="3571920" cy="459720"/>
          </a:xfrm>
          <a:prstGeom prst="rect">
            <a:avLst/>
          </a:prstGeom>
          <a:solidFill>
            <a:srgbClr val="8a8a5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OLITICAS PU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 rot="16200000">
            <a:off x="677880" y="2601360"/>
            <a:ext cx="105912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 rot="16200000">
            <a:off x="378720" y="5770800"/>
            <a:ext cx="163512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 rot="16200000">
            <a:off x="344880" y="4055400"/>
            <a:ext cx="1706760" cy="307080"/>
          </a:xfrm>
          <a:prstGeom prst="rect">
            <a:avLst/>
          </a:prstGeom>
          <a:solidFill>
            <a:srgbClr val="e2e2a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00080" y="2286000"/>
            <a:ext cx="76867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GRAR UN MEJOR Y MÁS EFICAZ CUMPLIMIENTO DE LA NORMATIVA, CON ESPECIAL ATENCIÓN A LAS PEQUEÑAS Y MEDIAN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JORAR LA EFICACIA Y LA CALIDAD DEL SISTEMA DE PREVENCIÓN, PONIENDO UN ESPECIAL ÉNFASIS EN LAS ENTIDADES ESPECIALIZADAS EN PREVENCIÓN (SERVICIOS DE PREVENCIÓN, AUDITORAS Y ENTIDADES FORMATIV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ORTALECER EL PAPEL DE LOS INTERLOCUTORES SOCIALES Y LA IMPLICACIÓN DE LOS EMPRESARIOS Y DE LOS TRABAJADORES EN LA MEJORA DE LA SEGURIDAD Y SALUD EN 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ED34-8CD1-442F-BB7F-14346E7CCD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 flipH="1" rot="16200000">
            <a:off x="-598320" y="3617280"/>
            <a:ext cx="2306880" cy="45972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6800" y="2428560"/>
            <a:ext cx="7829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SARROLLAR Y CONSOLIDAR LA CULTURA DE LA PREVENCIÓN EN LA SOCIEDAD ESPAÑO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ERFECCIONAR LOS SISTEMAS DE INFORMACIÓN E INVESTIGACIÓN EN MATERIA DE SEGURIDAD Y SALUD EN EL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OTENCIAR LA FORMACIÓN EN MATERIA DE PREVENCIÓN DE RIESG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orzar las INSTITUCIONES DEDICADAS A LA PREVENCIÓN DE RIESGOS LAB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ejorar la COORDINACION INSTITUCIONAL EN MATERIA DE PREVENCION DE RIESGOS LAB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187-B7A7-4CB5-B939-EF4E576F60D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20000"/>
                </a:solidFill>
                <a:latin typeface="Garamond"/>
              </a:rPr>
              <a:t>ESTRATEGIA ESPAÑOLA DE SEGURIDAD Y SALUD EN 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11280" y="1773360"/>
            <a:ext cx="8064360" cy="36828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00"/>
                </a:solidFill>
                <a:latin typeface="Verdan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 flipH="1" rot="16200000">
            <a:off x="-1351440" y="4100760"/>
            <a:ext cx="3813120" cy="459720"/>
          </a:xfrm>
          <a:prstGeom prst="rect">
            <a:avLst/>
          </a:prstGeom>
          <a:solidFill>
            <a:srgbClr val="99996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OLITICAS PU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55:08Z</dcterms:created>
  <dc:creator>Ana Poyato</dc:creator>
  <dc:description/>
  <dc:language>en-US</dc:language>
  <cp:lastModifiedBy>lkkjsddglkdfkj</cp:lastModifiedBy>
  <dcterms:modified xsi:type="dcterms:W3CDTF">2007-02-27T21:22:35Z</dcterms:modified>
  <cp:revision>40</cp:revision>
  <dc:subject/>
  <dc:title>2007-2012</dc:title>
</cp:coreProperties>
</file>